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16.wmf" ContentType="image/x-wmf"/>
  <Override PartName="/ppt/media/image8.png" ContentType="image/png"/>
  <Override PartName="/ppt/media/image15.wmf" ContentType="image/x-wmf"/>
  <Override PartName="/ppt/media/image14.jpeg" ContentType="image/jpeg"/>
  <Override PartName="/ppt/media/image33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35.jpeg" ContentType="image/jpeg"/>
  <Override PartName="/ppt/media/image10.png" ContentType="image/png"/>
  <Override PartName="/ppt/media/image28.wmf" ContentType="image/x-wmf"/>
  <Override PartName="/ppt/media/image31.wmf" ContentType="image/x-wmf"/>
  <Override PartName="/ppt/media/image36.png" ContentType="image/png"/>
  <Override PartName="/ppt/media/image6.png" ContentType="image/png"/>
  <Override PartName="/ppt/media/image11.wmf" ContentType="image/x-wmf"/>
  <Override PartName="/ppt/media/image5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CB2-4346-4D66-93C0-4F4080F8E5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次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563-B077-4CD9-993D-F3752FAD95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［進め方］にしたがって、やり方をクラスに説明したら、クリックして［進め方］の表示を消す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れ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とれ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して「日曜日ですから、仕事は休みです。」という文が成立して１点になる例を示す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文字が出て、もう一度クリックすると文字が消える。④この項目はここで終わり。会話に戻るときは、上から２段目の数字キーボード「４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②この項目はここで終わり。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「と」か「や」を使って絵を説明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6DBA-E11E-45A1-A98C-CB700B71D0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②この課はここで終わり。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を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、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会話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3F0F-4C9E-4220-B792-D4B643E566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の練習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会話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5A43-7660-4C14-9F31-16FB245575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、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はその項目を学習するスライド番号を表してい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を上から２段目の数字キーボードで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、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E11-DE6E-4A51-86FD-71C9DF166D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、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はその項目を学習するスライド番号を表してい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を上から２段目の数字キーボードで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、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0E12-8C4E-447A-9326-819E3E5FCB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１回クリックすると１）の答えが出てくるので、まず１）の答えを学習者に言わせてからクリックして答えを出し、確認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おなじように２）、３）、４）とする。③この項目はここで終わり。会話に戻るときは、上から２段目の数字キーボード「４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「から」を使って、右の文と左の文が合うようにつな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D536-7D18-4809-B3BE-9BBB5D617D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0D3-8FB1-4656-A00B-753149AF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E35-0CA1-4FDD-B68C-9281E0BF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1DB-4E2D-488F-8AE5-40ADE7B1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4BA-9884-451F-9C46-49149B04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FC77-DAEF-4D01-9204-726CFF01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75A2-F291-4D30-9680-60C9D7F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C143-8F4E-457B-866F-3BDE632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7D10-234A-4821-AEF3-46F66ED8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08D2-F97D-4095-96BB-487D0E7A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158E-6DE1-4DA5-BC09-83889A17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2F57-ED42-4D07-93A0-06E22A67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0BB-9F6F-4C2F-8FC6-A61FA50C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7427-C163-48DE-AFED-67973FA9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89BD-345D-409E-8806-ECDD936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AB71-44F7-44B8-8F4B-06C8FEF3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AEE8-714B-4389-8E56-D33BB9FE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7205-A4F3-4AE4-B7E2-451F978E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4253-AA6E-4445-8356-315B3742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986D-55B0-435B-B07D-E0C82F97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61E3E-EA51-4819-A554-F880D91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1ADC-3F5D-4621-8539-62CB38A5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5DBD-DA96-45A1-8DD8-8BC030D8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8E6-784C-4F1B-8A23-569643CA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4692-397F-4B35-BDF1-860C9FCC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BA41-1E4E-469D-B7D3-BAAB8D5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F5CF-B264-4579-A9D4-C7CB2BE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B4B5-BF7A-40E5-8F4E-C335C16A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76CB-7213-4101-84F5-037DB54B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B1CB-DEDF-45C9-AC5D-0FC2B338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654CD-D931-48B3-9BDD-9F126A4A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DE3-2690-4FBE-9BEE-C324B98C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E58-446E-4F2E-974E-9A5425E0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B34-9CCF-4A6D-9B8E-902F5227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4D9-80B3-4736-9237-0B69460C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64C-0ED5-4AFD-AA17-DB6CAEF8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F65-D449-4AB9-A5BE-9D0F6750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AB28-2235-4FA5-8BDA-442E7A903E7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768A-09D8-417B-B598-53FAE8FCE4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動作設定ボタン : 戻る/前へ 6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動作設定ボタン : 進む/次へ 7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D3E-76D5-44F3-9A01-9A35D824F23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331-25FF-4C80-A162-74E4094B18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動作設定ボタン : 進む/次へ 4">
            <a:hlinkClick r:id="" action="ppaction://hlinkshowjump?jump=nextslide"/>
          </p:cNvPr>
          <p:cNvSpPr/>
          <p:nvPr/>
        </p:nvSpPr>
        <p:spPr>
          <a:xfrm>
            <a:off x="8748720" y="648000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  <a:path fill="darken" w="21600" h="21631">
                <a:moveTo>
                  <a:pt x="3794" y="3809"/>
                </a:moveTo>
                <a:lnTo>
                  <a:pt x="17806" y="10815"/>
                </a:lnTo>
                <a:lnTo>
                  <a:pt x="3794" y="17822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動作設定ボタン : 戻る/前へ 5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E6A-1260-46B8-91A4-680B6E2E727F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164D-EE7D-46D0-96C5-5CB4A0BFCE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対角する 2 つの角を切り取った四角形 5"/>
          <p:cNvSpPr/>
          <p:nvPr/>
        </p:nvSpPr>
        <p:spPr>
          <a:xfrm>
            <a:off x="900000" y="3071880"/>
            <a:ext cx="7704360" cy="1077840"/>
          </a:xfrm>
          <a:custGeom>
            <a:avLst/>
            <a:gdLst>
              <a:gd name="textAreaLeft" fmla="*/ 89640 w 7704360"/>
              <a:gd name="textAreaRight" fmla="*/ 7614720 w 7704360"/>
              <a:gd name="textAreaTop" fmla="*/ 89640 h 1077840"/>
              <a:gd name="textAreaBottom" fmla="*/ 988200 h 1077840"/>
            </a:gdLst>
            <a:ahLst/>
            <a:rect l="textAreaLeft" t="textAreaTop" r="textAreaRight" b="textAreaBottom"/>
            <a:pathLst>
              <a:path w="7704137" h="1077912">
                <a:moveTo>
                  <a:pt x="0" y="0"/>
                </a:moveTo>
                <a:lnTo>
                  <a:pt x="7524481" y="0"/>
                </a:lnTo>
                <a:lnTo>
                  <a:pt x="7704137" y="179656"/>
                </a:lnTo>
                <a:lnTo>
                  <a:pt x="7704137" y="1077912"/>
                </a:lnTo>
                <a:lnTo>
                  <a:pt x="7704137" y="1077912"/>
                </a:lnTo>
                <a:lnTo>
                  <a:pt x="179656" y="1077912"/>
                </a:lnTo>
                <a:lnTo>
                  <a:pt x="0" y="898256"/>
                </a:lnTo>
                <a:lnTo>
                  <a:pt x="0" y="0"/>
                </a:lnTo>
                <a:close/>
              </a:path>
            </a:pathLst>
          </a:custGeom>
          <a:solidFill>
            <a:srgbClr val="c6ffa7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正方形/長方形 7" descr=""/>
          <p:cNvPicPr/>
          <p:nvPr/>
        </p:nvPicPr>
        <p:blipFill>
          <a:blip r:embed="rId1"/>
          <a:stretch/>
        </p:blipFill>
        <p:spPr>
          <a:xfrm>
            <a:off x="2798640" y="3133800"/>
            <a:ext cx="3144960" cy="920520"/>
          </a:xfrm>
          <a:prstGeom prst="rect">
            <a:avLst/>
          </a:prstGeom>
          <a:ln w="0">
            <a:noFill/>
          </a:ln>
        </p:spPr>
      </p:pic>
      <p:sp>
        <p:nvSpPr>
          <p:cNvPr id="136" name="角丸四角形 17"/>
          <p:cNvSpPr/>
          <p:nvPr/>
        </p:nvSpPr>
        <p:spPr>
          <a:xfrm>
            <a:off x="1643040" y="571680"/>
            <a:ext cx="5786640" cy="20001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16"/>
          <p:cNvSpPr/>
          <p:nvPr/>
        </p:nvSpPr>
        <p:spPr>
          <a:xfrm>
            <a:off x="3241440" y="549360"/>
            <a:ext cx="23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くらしのにほん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とよな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Ⅳ</a:t>
            </a: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．居住Ａ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B72-5C18-4D10-A24D-C6097DE9DB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図 2" descr="C:\Users\PC-USER\AppData\Local\Microsoft\Windows\Temporary Internet Files\Content.IE5\ETR0HJI9\MC900197721[1].wmf"/>
          <p:cNvPicPr/>
          <p:nvPr/>
        </p:nvPicPr>
        <p:blipFill>
          <a:blip r:embed="rId2"/>
          <a:stretch/>
        </p:blipFill>
        <p:spPr>
          <a:xfrm>
            <a:off x="3708360" y="4437000"/>
            <a:ext cx="1800360" cy="1673280"/>
          </a:xfrm>
          <a:prstGeom prst="rect">
            <a:avLst/>
          </a:prstGeom>
          <a:ln w="0">
            <a:noFill/>
          </a:ln>
        </p:spPr>
      </p:pic>
      <p:pic>
        <p:nvPicPr>
          <p:cNvPr id="140" name="図 4" descr="C:\Documents and Settings\ｐｃ\Local Settings\Temporary Internet Files\Content.IE5\9FK9U5AX\MC900153550[1].wmf"/>
          <p:cNvPicPr/>
          <p:nvPr/>
        </p:nvPicPr>
        <p:blipFill>
          <a:blip r:embed="rId3"/>
          <a:stretch/>
        </p:blipFill>
        <p:spPr>
          <a:xfrm>
            <a:off x="1763640" y="4581360"/>
            <a:ext cx="1152720" cy="1517760"/>
          </a:xfrm>
          <a:prstGeom prst="rect">
            <a:avLst/>
          </a:prstGeom>
          <a:ln w="0">
            <a:noFill/>
          </a:ln>
        </p:spPr>
      </p:pic>
      <p:pic>
        <p:nvPicPr>
          <p:cNvPr id="141" name="図 5" descr="C:\Documents and Settings\ｐｃ\Local Settings\Temporary Internet Files\Content.IE5\9FK9U5AX\MC900299751[1].wmf"/>
          <p:cNvPicPr/>
          <p:nvPr/>
        </p:nvPicPr>
        <p:blipFill>
          <a:blip r:embed="rId4"/>
          <a:stretch/>
        </p:blipFill>
        <p:spPr>
          <a:xfrm>
            <a:off x="6156360" y="4724280"/>
            <a:ext cx="1511280" cy="12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B9A4-2241-4540-BF64-365F785A47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角丸四角形 2"/>
          <p:cNvSpPr/>
          <p:nvPr/>
        </p:nvSpPr>
        <p:spPr>
          <a:xfrm>
            <a:off x="2556000" y="2781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じかん　　　　　　</a:t>
            </a:r>
            <a:r>
              <a:rPr b="1" lang="ja-JP" sz="900" spc="-1" strike="noStrike">
                <a:solidFill>
                  <a:srgbClr val="ffffff"/>
                </a:solidFill>
                <a:latin typeface="Calibri"/>
              </a:rPr>
              <a:t>み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時間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り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角丸四角形 3"/>
          <p:cNvSpPr/>
          <p:nvPr/>
        </p:nvSpPr>
        <p:spPr>
          <a:xfrm>
            <a:off x="539640" y="2781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うた　　　　　じょうず　　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歌が上手じゃない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角丸四角形 4"/>
          <p:cNvSpPr/>
          <p:nvPr/>
        </p:nvSpPr>
        <p:spPr>
          <a:xfrm>
            <a:off x="539640" y="1557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やくそく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約束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テキスト ボックス 5"/>
          <p:cNvSpPr/>
          <p:nvPr/>
        </p:nvSpPr>
        <p:spPr>
          <a:xfrm>
            <a:off x="509760" y="438120"/>
            <a:ext cx="192852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ゲーム「神経衰弱」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線コネクタ 6"/>
          <p:cNvSpPr/>
          <p:nvPr/>
        </p:nvSpPr>
        <p:spPr>
          <a:xfrm flipH="1">
            <a:off x="4579920" y="4511520"/>
            <a:ext cx="1440" cy="2286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テキスト ボックス 7"/>
          <p:cNvSpPr/>
          <p:nvPr/>
        </p:nvSpPr>
        <p:spPr>
          <a:xfrm>
            <a:off x="2438280" y="438120"/>
            <a:ext cx="66438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〔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進め方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〕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①チーム別または個人別で得点を競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　　　　　　②左の番号と右の番号を１つずつ選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　　　　　　③左の文を「～と」に変えて右の文とつないで正しい文になったら得点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　　　         ④正しい文にならなかったら戻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角丸四角形 8"/>
          <p:cNvSpPr/>
          <p:nvPr/>
        </p:nvSpPr>
        <p:spPr>
          <a:xfrm>
            <a:off x="539640" y="1557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角丸四角形 9"/>
          <p:cNvSpPr/>
          <p:nvPr/>
        </p:nvSpPr>
        <p:spPr>
          <a:xfrm>
            <a:off x="539640" y="1557360"/>
            <a:ext cx="1643040" cy="858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角丸四角形 10"/>
          <p:cNvSpPr/>
          <p:nvPr/>
        </p:nvSpPr>
        <p:spPr>
          <a:xfrm>
            <a:off x="539640" y="2781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角丸四角形 11"/>
          <p:cNvSpPr/>
          <p:nvPr/>
        </p:nvSpPr>
        <p:spPr>
          <a:xfrm>
            <a:off x="539640" y="2781360"/>
            <a:ext cx="164304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角丸四角形 12"/>
          <p:cNvSpPr/>
          <p:nvPr/>
        </p:nvSpPr>
        <p:spPr>
          <a:xfrm>
            <a:off x="2556000" y="2781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角丸四角形 13"/>
          <p:cNvSpPr/>
          <p:nvPr/>
        </p:nvSpPr>
        <p:spPr>
          <a:xfrm>
            <a:off x="2556000" y="2781360"/>
            <a:ext cx="165564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角丸四角形 14"/>
          <p:cNvSpPr/>
          <p:nvPr/>
        </p:nvSpPr>
        <p:spPr>
          <a:xfrm>
            <a:off x="539640" y="4005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２時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角丸四角形 15"/>
          <p:cNvSpPr/>
          <p:nvPr/>
        </p:nvSpPr>
        <p:spPr>
          <a:xfrm>
            <a:off x="539640" y="4005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角丸四角形 16"/>
          <p:cNvSpPr/>
          <p:nvPr/>
        </p:nvSpPr>
        <p:spPr>
          <a:xfrm>
            <a:off x="539640" y="4005360"/>
            <a:ext cx="165600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角丸四角形 23"/>
          <p:cNvSpPr/>
          <p:nvPr/>
        </p:nvSpPr>
        <p:spPr>
          <a:xfrm>
            <a:off x="2556000" y="1557360"/>
            <a:ext cx="16192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にちようび　　　　　　</a:t>
            </a:r>
            <a:r>
              <a:rPr b="1" lang="ja-JP" sz="900" spc="-1" strike="noStrike">
                <a:solidFill>
                  <a:srgbClr val="eaeaea"/>
                </a:solidFill>
                <a:latin typeface="Calibri"/>
              </a:rPr>
              <a:t>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日曜日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角丸四角形 24"/>
          <p:cNvSpPr/>
          <p:nvPr/>
        </p:nvSpPr>
        <p:spPr>
          <a:xfrm>
            <a:off x="2556000" y="1557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い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角丸四角形 25"/>
          <p:cNvSpPr/>
          <p:nvPr/>
        </p:nvSpPr>
        <p:spPr>
          <a:xfrm>
            <a:off x="2556000" y="1557360"/>
            <a:ext cx="1571400" cy="93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角丸四角形 26"/>
          <p:cNvSpPr/>
          <p:nvPr/>
        </p:nvSpPr>
        <p:spPr>
          <a:xfrm>
            <a:off x="2556000" y="4005360"/>
            <a:ext cx="16192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み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道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かり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角丸四角形 27"/>
          <p:cNvSpPr/>
          <p:nvPr/>
        </p:nvSpPr>
        <p:spPr>
          <a:xfrm>
            <a:off x="2556000" y="4005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角丸四角形 28"/>
          <p:cNvSpPr/>
          <p:nvPr/>
        </p:nvSpPr>
        <p:spPr>
          <a:xfrm>
            <a:off x="2556000" y="4005360"/>
            <a:ext cx="164304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角丸四角形 29"/>
          <p:cNvSpPr/>
          <p:nvPr/>
        </p:nvSpPr>
        <p:spPr>
          <a:xfrm>
            <a:off x="539640" y="5229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か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金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り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角丸四角形 30"/>
          <p:cNvSpPr/>
          <p:nvPr/>
        </p:nvSpPr>
        <p:spPr>
          <a:xfrm>
            <a:off x="539640" y="5229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角丸四角形 31"/>
          <p:cNvSpPr/>
          <p:nvPr/>
        </p:nvSpPr>
        <p:spPr>
          <a:xfrm>
            <a:off x="539640" y="5229360"/>
            <a:ext cx="164304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角丸四角形 38"/>
          <p:cNvSpPr/>
          <p:nvPr/>
        </p:nvSpPr>
        <p:spPr>
          <a:xfrm>
            <a:off x="7164360" y="4005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しごと　　　　　　やす</a:t>
            </a:r>
            <a:r>
              <a:rPr b="1" lang="en-US" sz="9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仕事は休み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角丸四角形 39"/>
          <p:cNvSpPr/>
          <p:nvPr/>
        </p:nvSpPr>
        <p:spPr>
          <a:xfrm>
            <a:off x="7164360" y="4005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い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角丸四角形 40"/>
          <p:cNvSpPr/>
          <p:nvPr/>
        </p:nvSpPr>
        <p:spPr>
          <a:xfrm>
            <a:off x="7164360" y="4005360"/>
            <a:ext cx="1655640" cy="930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角丸四角形 41"/>
          <p:cNvSpPr/>
          <p:nvPr/>
        </p:nvSpPr>
        <p:spPr>
          <a:xfrm>
            <a:off x="5003640" y="1557360"/>
            <a:ext cx="16210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ぎんこう　　　　　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銀行へ行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角丸四角形 42"/>
          <p:cNvSpPr/>
          <p:nvPr/>
        </p:nvSpPr>
        <p:spPr>
          <a:xfrm>
            <a:off x="5003640" y="1557360"/>
            <a:ext cx="16210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角丸四角形 43"/>
          <p:cNvSpPr/>
          <p:nvPr/>
        </p:nvSpPr>
        <p:spPr>
          <a:xfrm>
            <a:off x="4932360" y="1557360"/>
            <a:ext cx="1643040" cy="93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角丸四角形 44"/>
          <p:cNvSpPr/>
          <p:nvPr/>
        </p:nvSpPr>
        <p:spPr>
          <a:xfrm>
            <a:off x="5003640" y="2781360"/>
            <a:ext cx="16210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ひる　　　　　　　　　　　　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昼ごはんを食べ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角丸四角形 45"/>
          <p:cNvSpPr/>
          <p:nvPr/>
        </p:nvSpPr>
        <p:spPr>
          <a:xfrm>
            <a:off x="5003640" y="2781360"/>
            <a:ext cx="16210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角丸四角形 46"/>
          <p:cNvSpPr/>
          <p:nvPr/>
        </p:nvSpPr>
        <p:spPr>
          <a:xfrm>
            <a:off x="4932360" y="2781360"/>
            <a:ext cx="172728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角丸四角形 47"/>
          <p:cNvSpPr/>
          <p:nvPr/>
        </p:nvSpPr>
        <p:spPr>
          <a:xfrm>
            <a:off x="5003640" y="5229360"/>
            <a:ext cx="16210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か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帰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角丸四角形 48"/>
          <p:cNvSpPr/>
          <p:nvPr/>
        </p:nvSpPr>
        <p:spPr>
          <a:xfrm>
            <a:off x="5003640" y="5229360"/>
            <a:ext cx="16210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角丸四角形 49"/>
          <p:cNvSpPr/>
          <p:nvPr/>
        </p:nvSpPr>
        <p:spPr>
          <a:xfrm>
            <a:off x="5003640" y="5229360"/>
            <a:ext cx="1644840" cy="85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角丸四角形 59"/>
          <p:cNvSpPr/>
          <p:nvPr/>
        </p:nvSpPr>
        <p:spPr>
          <a:xfrm>
            <a:off x="7164360" y="1557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あさ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朝ごはん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た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食べ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角丸四角形 60"/>
          <p:cNvSpPr/>
          <p:nvPr/>
        </p:nvSpPr>
        <p:spPr>
          <a:xfrm>
            <a:off x="7164360" y="1557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角丸四角形 61"/>
          <p:cNvSpPr/>
          <p:nvPr/>
        </p:nvSpPr>
        <p:spPr>
          <a:xfrm>
            <a:off x="7093080" y="1557360"/>
            <a:ext cx="1655640" cy="858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角丸四角形 62"/>
          <p:cNvSpPr/>
          <p:nvPr/>
        </p:nvSpPr>
        <p:spPr>
          <a:xfrm>
            <a:off x="5003640" y="4005360"/>
            <a:ext cx="16210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お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教え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角丸四角形 63"/>
          <p:cNvSpPr/>
          <p:nvPr/>
        </p:nvSpPr>
        <p:spPr>
          <a:xfrm>
            <a:off x="5003640" y="4005360"/>
            <a:ext cx="16210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角丸四角形 64"/>
          <p:cNvSpPr/>
          <p:nvPr/>
        </p:nvSpPr>
        <p:spPr>
          <a:xfrm>
            <a:off x="4932360" y="4005360"/>
            <a:ext cx="165564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線コネクタ 71"/>
          <p:cNvSpPr/>
          <p:nvPr/>
        </p:nvSpPr>
        <p:spPr>
          <a:xfrm flipH="1">
            <a:off x="4578480" y="1652760"/>
            <a:ext cx="1440" cy="2215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テキスト ボックス 80"/>
          <p:cNvSpPr/>
          <p:nvPr/>
        </p:nvSpPr>
        <p:spPr>
          <a:xfrm>
            <a:off x="4140360" y="378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Calibri"/>
              </a:rPr>
              <a:t>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角丸四角形 74"/>
          <p:cNvSpPr/>
          <p:nvPr/>
        </p:nvSpPr>
        <p:spPr>
          <a:xfrm>
            <a:off x="7164360" y="5229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カラオケ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行き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角丸四角形 75"/>
          <p:cNvSpPr/>
          <p:nvPr/>
        </p:nvSpPr>
        <p:spPr>
          <a:xfrm>
            <a:off x="7164360" y="5229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角丸四角形 76"/>
          <p:cNvSpPr/>
          <p:nvPr/>
        </p:nvSpPr>
        <p:spPr>
          <a:xfrm>
            <a:off x="7164360" y="5229360"/>
            <a:ext cx="158436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角丸四角形 77"/>
          <p:cNvSpPr/>
          <p:nvPr/>
        </p:nvSpPr>
        <p:spPr>
          <a:xfrm>
            <a:off x="2556000" y="5229360"/>
            <a:ext cx="16192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</a:t>
            </a:r>
            <a:r>
              <a:rPr b="1" lang="ja-JP" sz="900" spc="-1" strike="noStrike">
                <a:solidFill>
                  <a:srgbClr val="eaeaea"/>
                </a:solidFill>
                <a:latin typeface="Calibri"/>
              </a:rPr>
              <a:t>　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パンがあり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角丸四角形 78"/>
          <p:cNvSpPr/>
          <p:nvPr/>
        </p:nvSpPr>
        <p:spPr>
          <a:xfrm>
            <a:off x="2556000" y="5229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角丸四角形 79"/>
          <p:cNvSpPr/>
          <p:nvPr/>
        </p:nvSpPr>
        <p:spPr>
          <a:xfrm>
            <a:off x="2556000" y="5229360"/>
            <a:ext cx="1655640" cy="9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角丸四角形 80"/>
          <p:cNvSpPr/>
          <p:nvPr/>
        </p:nvSpPr>
        <p:spPr>
          <a:xfrm>
            <a:off x="7164360" y="2781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ーパー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行きます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角丸四角形 81"/>
          <p:cNvSpPr/>
          <p:nvPr/>
        </p:nvSpPr>
        <p:spPr>
          <a:xfrm>
            <a:off x="7164360" y="278136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角丸四角形 82"/>
          <p:cNvSpPr/>
          <p:nvPr/>
        </p:nvSpPr>
        <p:spPr>
          <a:xfrm>
            <a:off x="7164360" y="2781360"/>
            <a:ext cx="1584360" cy="863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テキスト ボックス 55"/>
          <p:cNvSpPr/>
          <p:nvPr/>
        </p:nvSpPr>
        <p:spPr>
          <a:xfrm>
            <a:off x="6311880" y="647208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テキスト ボックス 56"/>
          <p:cNvSpPr/>
          <p:nvPr/>
        </p:nvSpPr>
        <p:spPr>
          <a:xfrm>
            <a:off x="7143480" y="6472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右矢印 57"/>
          <p:cNvSpPr/>
          <p:nvPr/>
        </p:nvSpPr>
        <p:spPr>
          <a:xfrm>
            <a:off x="6948360" y="652464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B4C-8A0E-4045-9688-51D27AE3E2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2"/>
          <p:cNvSpPr/>
          <p:nvPr/>
        </p:nvSpPr>
        <p:spPr>
          <a:xfrm>
            <a:off x="250920" y="260280"/>
            <a:ext cx="201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きかん　　　　　　　　　　　か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＜期間＞に～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68360" y="981000"/>
          <a:ext cx="8280360" cy="3760920"/>
        </p:xfrm>
        <a:graphic>
          <a:graphicData uri="http://schemas.openxmlformats.org/drawingml/2006/table">
            <a:tbl>
              <a:tblPr/>
              <a:tblGrid>
                <a:gridCol w="1182600"/>
                <a:gridCol w="1182600"/>
                <a:gridCol w="1184400"/>
                <a:gridCol w="1182600"/>
                <a:gridCol w="1182600"/>
                <a:gridCol w="1182960"/>
                <a:gridCol w="1182600"/>
              </a:tblGrid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にちよう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げつよう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かよう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すいよう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もくよう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きんよう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どよう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53" name="円/楕円 4"/>
          <p:cNvSpPr/>
          <p:nvPr/>
        </p:nvSpPr>
        <p:spPr>
          <a:xfrm>
            <a:off x="1979640" y="1700280"/>
            <a:ext cx="504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円/楕円 5"/>
          <p:cNvSpPr/>
          <p:nvPr/>
        </p:nvSpPr>
        <p:spPr>
          <a:xfrm>
            <a:off x="3132000" y="1700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円/楕円 6"/>
          <p:cNvSpPr/>
          <p:nvPr/>
        </p:nvSpPr>
        <p:spPr>
          <a:xfrm>
            <a:off x="1979640" y="2349360"/>
            <a:ext cx="5047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円/楕円 7"/>
          <p:cNvSpPr/>
          <p:nvPr/>
        </p:nvSpPr>
        <p:spPr>
          <a:xfrm>
            <a:off x="1979640" y="2924280"/>
            <a:ext cx="504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円/楕円 8"/>
          <p:cNvSpPr/>
          <p:nvPr/>
        </p:nvSpPr>
        <p:spPr>
          <a:xfrm>
            <a:off x="1979640" y="3573360"/>
            <a:ext cx="5047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円/楕円 9"/>
          <p:cNvSpPr/>
          <p:nvPr/>
        </p:nvSpPr>
        <p:spPr>
          <a:xfrm>
            <a:off x="1979640" y="4149720"/>
            <a:ext cx="5047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テキスト ボックス 10"/>
          <p:cNvSpPr/>
          <p:nvPr/>
        </p:nvSpPr>
        <p:spPr>
          <a:xfrm>
            <a:off x="900000" y="5084640"/>
            <a:ext cx="215928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っしゅうかん　　　　　　　い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一週間　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に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１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円/楕円 11"/>
          <p:cNvSpPr/>
          <p:nvPr/>
        </p:nvSpPr>
        <p:spPr>
          <a:xfrm>
            <a:off x="3132000" y="422100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円/楕円 12"/>
          <p:cNvSpPr/>
          <p:nvPr/>
        </p:nvSpPr>
        <p:spPr>
          <a:xfrm>
            <a:off x="3132000" y="357336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円/楕円 13"/>
          <p:cNvSpPr/>
          <p:nvPr/>
        </p:nvSpPr>
        <p:spPr>
          <a:xfrm>
            <a:off x="3132000" y="2924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円/楕円 14"/>
          <p:cNvSpPr/>
          <p:nvPr/>
        </p:nvSpPr>
        <p:spPr>
          <a:xfrm>
            <a:off x="3132000" y="227664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円/楕円 15"/>
          <p:cNvSpPr/>
          <p:nvPr/>
        </p:nvSpPr>
        <p:spPr>
          <a:xfrm>
            <a:off x="6732720" y="3500280"/>
            <a:ext cx="50328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円/楕円 16"/>
          <p:cNvSpPr/>
          <p:nvPr/>
        </p:nvSpPr>
        <p:spPr>
          <a:xfrm>
            <a:off x="6732720" y="2924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円/楕円 17"/>
          <p:cNvSpPr/>
          <p:nvPr/>
        </p:nvSpPr>
        <p:spPr>
          <a:xfrm>
            <a:off x="6732720" y="234936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円/楕円 18"/>
          <p:cNvSpPr/>
          <p:nvPr/>
        </p:nvSpPr>
        <p:spPr>
          <a:xfrm>
            <a:off x="6732720" y="1700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テキスト ボックス 19"/>
          <p:cNvSpPr/>
          <p:nvPr/>
        </p:nvSpPr>
        <p:spPr>
          <a:xfrm>
            <a:off x="900000" y="5877000"/>
            <a:ext cx="215928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っしゅうかん　　　　　　　　　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一週間　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に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２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円/楕円 21"/>
          <p:cNvSpPr/>
          <p:nvPr/>
        </p:nvSpPr>
        <p:spPr>
          <a:xfrm>
            <a:off x="4356000" y="234936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テキスト ボックス 22"/>
          <p:cNvSpPr/>
          <p:nvPr/>
        </p:nvSpPr>
        <p:spPr>
          <a:xfrm>
            <a:off x="3708360" y="5084640"/>
            <a:ext cx="215892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っ　　　　げつ　　　　　　い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一か月　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に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１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円/楕円 23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24"/>
          <p:cNvSpPr/>
          <p:nvPr/>
        </p:nvSpPr>
        <p:spPr>
          <a:xfrm>
            <a:off x="3708360" y="5877000"/>
            <a:ext cx="215892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っ　　　　げつ　　　　　　い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一か月　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に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２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円/楕円 25"/>
          <p:cNvSpPr/>
          <p:nvPr/>
        </p:nvSpPr>
        <p:spPr>
          <a:xfrm>
            <a:off x="4356000" y="1700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円/楕円 26"/>
          <p:cNvSpPr/>
          <p:nvPr/>
        </p:nvSpPr>
        <p:spPr>
          <a:xfrm>
            <a:off x="4356000" y="2924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円/楕円 27"/>
          <p:cNvSpPr/>
          <p:nvPr/>
        </p:nvSpPr>
        <p:spPr>
          <a:xfrm>
            <a:off x="4356000" y="422100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テキスト ボックス 28"/>
          <p:cNvSpPr/>
          <p:nvPr/>
        </p:nvSpPr>
        <p:spPr>
          <a:xfrm>
            <a:off x="6084720" y="5084640"/>
            <a:ext cx="215928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に　　しゅうかん　　　　　　い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二週間　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に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１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円/楕円 31"/>
          <p:cNvSpPr/>
          <p:nvPr/>
        </p:nvSpPr>
        <p:spPr>
          <a:xfrm>
            <a:off x="826920" y="4149720"/>
            <a:ext cx="5050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円/楕円 32"/>
          <p:cNvSpPr/>
          <p:nvPr/>
        </p:nvSpPr>
        <p:spPr>
          <a:xfrm>
            <a:off x="5508720" y="3500280"/>
            <a:ext cx="50328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円/楕円 33"/>
          <p:cNvSpPr/>
          <p:nvPr/>
        </p:nvSpPr>
        <p:spPr>
          <a:xfrm>
            <a:off x="1979640" y="3573360"/>
            <a:ext cx="50472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円/楕円 34"/>
          <p:cNvSpPr/>
          <p:nvPr/>
        </p:nvSpPr>
        <p:spPr>
          <a:xfrm>
            <a:off x="6732720" y="2924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円/楕円 35"/>
          <p:cNvSpPr/>
          <p:nvPr/>
        </p:nvSpPr>
        <p:spPr>
          <a:xfrm>
            <a:off x="3132000" y="2924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円/楕円 36"/>
          <p:cNvSpPr/>
          <p:nvPr/>
        </p:nvSpPr>
        <p:spPr>
          <a:xfrm>
            <a:off x="7885080" y="234936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円/楕円 37"/>
          <p:cNvSpPr/>
          <p:nvPr/>
        </p:nvSpPr>
        <p:spPr>
          <a:xfrm>
            <a:off x="4356000" y="234936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円/楕円 38"/>
          <p:cNvSpPr/>
          <p:nvPr/>
        </p:nvSpPr>
        <p:spPr>
          <a:xfrm>
            <a:off x="755640" y="227664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円/楕円 39"/>
          <p:cNvSpPr/>
          <p:nvPr/>
        </p:nvSpPr>
        <p:spPr>
          <a:xfrm>
            <a:off x="5508720" y="1700280"/>
            <a:ext cx="50328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円/楕円 40"/>
          <p:cNvSpPr/>
          <p:nvPr/>
        </p:nvSpPr>
        <p:spPr>
          <a:xfrm>
            <a:off x="1979640" y="1700280"/>
            <a:ext cx="50472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円/楕円 41"/>
          <p:cNvSpPr/>
          <p:nvPr/>
        </p:nvSpPr>
        <p:spPr>
          <a:xfrm>
            <a:off x="4356000" y="4221000"/>
            <a:ext cx="5032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テキスト ボックス 42"/>
          <p:cNvSpPr/>
          <p:nvPr/>
        </p:nvSpPr>
        <p:spPr>
          <a:xfrm>
            <a:off x="6156360" y="5877000"/>
            <a:ext cx="216072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みっか　　　　　　　　い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三日　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に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１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592E-2572-4573-9F7E-8BB545B025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C:\Users\PC-USER\AppData\Local\Microsoft\Windows\Temporary Internet Files\Content.IE5\U6DD7G6K\MC900190029[1].wmf"/>
          <p:cNvPicPr/>
          <p:nvPr/>
        </p:nvPicPr>
        <p:blipFill>
          <a:blip r:embed="rId1"/>
          <a:stretch/>
        </p:blipFill>
        <p:spPr>
          <a:xfrm>
            <a:off x="1835280" y="620640"/>
            <a:ext cx="1512720" cy="13194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Users\PC-USER\AppData\Local\Microsoft\Windows\Temporary Internet Files\Content.IE5\721B2DN5\MC900395598[1].wmf"/>
          <p:cNvPicPr/>
          <p:nvPr/>
        </p:nvPicPr>
        <p:blipFill>
          <a:blip r:embed="rId2"/>
          <a:stretch/>
        </p:blipFill>
        <p:spPr>
          <a:xfrm>
            <a:off x="5724360" y="836640"/>
            <a:ext cx="151164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C:\Users\PC-USER\AppData\Local\Microsoft\Windows\Temporary Internet Files\Content.IE5\ACGZRYRC\MC900440405[1].png"/>
          <p:cNvPicPr/>
          <p:nvPr/>
        </p:nvPicPr>
        <p:blipFill>
          <a:blip r:embed="rId3"/>
          <a:stretch/>
        </p:blipFill>
        <p:spPr>
          <a:xfrm>
            <a:off x="3995640" y="692280"/>
            <a:ext cx="115272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1547640" y="549360"/>
          <a:ext cx="6096240" cy="4356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4" name="Picture 9" descr="C:\Users\PC-USER\AppData\Local\Microsoft\Windows\Temporary Internet Files\Content.IE5\U6DD7G6K\MC900413344[1].wmf"/>
          <p:cNvPicPr/>
          <p:nvPr/>
        </p:nvPicPr>
        <p:blipFill>
          <a:blip r:embed="rId4"/>
          <a:stretch/>
        </p:blipFill>
        <p:spPr>
          <a:xfrm>
            <a:off x="1979640" y="2060640"/>
            <a:ext cx="1401840" cy="836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C:\Users\PC-USER\AppData\Local\Microsoft\Windows\Temporary Internet Files\Content.IE5\ETR0HJI9\MC900079156[1].wmf"/>
          <p:cNvPicPr/>
          <p:nvPr/>
        </p:nvPicPr>
        <p:blipFill>
          <a:blip r:embed="rId5"/>
          <a:stretch/>
        </p:blipFill>
        <p:spPr>
          <a:xfrm>
            <a:off x="3995640" y="1989000"/>
            <a:ext cx="1224000" cy="932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4" descr="C:\Users\PC-USER\AppData\Local\Microsoft\Windows\Temporary Internet Files\Content.IE5\H9ISISB9\MC900395504[1].wmf"/>
          <p:cNvPicPr/>
          <p:nvPr/>
        </p:nvPicPr>
        <p:blipFill>
          <a:blip r:embed="rId6"/>
          <a:stretch/>
        </p:blipFill>
        <p:spPr>
          <a:xfrm>
            <a:off x="6012000" y="2060640"/>
            <a:ext cx="1152360" cy="907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6" descr="C:\Users\PC-USER\AppData\Local\Microsoft\Windows\Temporary Internet Files\Content.IE5\DINCCNGG\MC900281055[1].wmf"/>
          <p:cNvPicPr/>
          <p:nvPr/>
        </p:nvPicPr>
        <p:blipFill>
          <a:blip r:embed="rId7"/>
          <a:stretch/>
        </p:blipFill>
        <p:spPr>
          <a:xfrm rot="20651400">
            <a:off x="2214720" y="2922480"/>
            <a:ext cx="900000" cy="10130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0" descr="C:\Users\PC-USER\AppData\Local\Microsoft\Windows\Temporary Internet Files\Content.IE5\721B2DN5\MC900250733[1].wmf"/>
          <p:cNvPicPr/>
          <p:nvPr/>
        </p:nvPicPr>
        <p:blipFill>
          <a:blip r:embed="rId8"/>
          <a:stretch/>
        </p:blipFill>
        <p:spPr>
          <a:xfrm>
            <a:off x="2268360" y="3933720"/>
            <a:ext cx="825840" cy="935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0" descr="C:\Users\PC-USER\AppData\Local\Microsoft\Windows\Temporary Internet Files\Content.IE5\721B2DN5\MC900250733[1].wmf"/>
          <p:cNvPicPr/>
          <p:nvPr/>
        </p:nvPicPr>
        <p:blipFill>
          <a:blip r:embed="rId9"/>
          <a:stretch/>
        </p:blipFill>
        <p:spPr>
          <a:xfrm>
            <a:off x="6156360" y="3933720"/>
            <a:ext cx="826920" cy="935280"/>
          </a:xfrm>
          <a:prstGeom prst="rect">
            <a:avLst/>
          </a:prstGeom>
          <a:ln w="0">
            <a:noFill/>
          </a:ln>
        </p:spPr>
      </p:pic>
      <p:sp>
        <p:nvSpPr>
          <p:cNvPr id="400" name="テキスト ボックス 30"/>
          <p:cNvSpPr/>
          <p:nvPr/>
        </p:nvSpPr>
        <p:spPr>
          <a:xfrm>
            <a:off x="539640" y="5157720"/>
            <a:ext cx="414036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ちにち　　　　　　　　　かい　　　　　　　　　　　　　　　　　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一日　に　３回　ごはんを　食べ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テキスト ボックス 31"/>
          <p:cNvSpPr/>
          <p:nvPr/>
        </p:nvSpPr>
        <p:spPr>
          <a:xfrm>
            <a:off x="539640" y="5950080"/>
            <a:ext cx="453708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ちにち　　　　　　　　いっかい　　　　　　　　　　　　　　　　　　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一日　に　１回　このくすりを　飲み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テキスト ボックス 32"/>
          <p:cNvSpPr/>
          <p:nvPr/>
        </p:nvSpPr>
        <p:spPr>
          <a:xfrm>
            <a:off x="5076720" y="5157720"/>
            <a:ext cx="3816360" cy="551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ちにち　　　　　　　　　かい　　　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一日　に　２回　歯を　みがき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テキスト ボックス 15"/>
          <p:cNvSpPr/>
          <p:nvPr/>
        </p:nvSpPr>
        <p:spPr>
          <a:xfrm>
            <a:off x="6638760" y="6381720"/>
            <a:ext cx="540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テキスト ボックス 16"/>
          <p:cNvSpPr/>
          <p:nvPr/>
        </p:nvSpPr>
        <p:spPr>
          <a:xfrm>
            <a:off x="7470360" y="6381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右矢印 17"/>
          <p:cNvSpPr/>
          <p:nvPr/>
        </p:nvSpPr>
        <p:spPr>
          <a:xfrm>
            <a:off x="7275600" y="643428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1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653B-9E26-4B97-B993-657918597E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テキスト ボックス 2"/>
          <p:cNvSpPr/>
          <p:nvPr/>
        </p:nvSpPr>
        <p:spPr>
          <a:xfrm>
            <a:off x="539640" y="333360"/>
            <a:ext cx="1871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と～、　～や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0"/>
          <p:cNvGrpSpPr/>
          <p:nvPr/>
        </p:nvGrpSpPr>
        <p:grpSpPr>
          <a:xfrm>
            <a:off x="395280" y="1197000"/>
            <a:ext cx="4401720" cy="3095280"/>
            <a:chOff x="395280" y="1197000"/>
            <a:chExt cx="4401720" cy="3095280"/>
          </a:xfrm>
        </p:grpSpPr>
        <p:sp>
          <p:nvSpPr>
            <p:cNvPr id="409" name="AutoShape 9"/>
            <p:cNvSpPr/>
            <p:nvPr/>
          </p:nvSpPr>
          <p:spPr>
            <a:xfrm>
              <a:off x="395280" y="1197000"/>
              <a:ext cx="4401720" cy="30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455400" y="1254240"/>
              <a:ext cx="4244760" cy="2904480"/>
            </a:xfrm>
            <a:custGeom>
              <a:avLst/>
              <a:gdLst>
                <a:gd name="textAreaLeft" fmla="*/ 0 w 4244760"/>
                <a:gd name="textAreaRight" fmla="*/ 4245120 w 4244760"/>
                <a:gd name="textAreaTop" fmla="*/ 0 h 2904480"/>
                <a:gd name="textAreaBottom" fmla="*/ 2904480 h 2904480"/>
              </a:gdLst>
              <a:ahLst/>
              <a:rect l="textAreaLeft" t="textAreaTop" r="textAreaRight" b="textAreaBottom"/>
              <a:pathLst>
                <a:path w="2668" h="1826">
                  <a:moveTo>
                    <a:pt x="0" y="724"/>
                  </a:moveTo>
                  <a:lnTo>
                    <a:pt x="141" y="675"/>
                  </a:lnTo>
                  <a:lnTo>
                    <a:pt x="687" y="517"/>
                  </a:lnTo>
                  <a:lnTo>
                    <a:pt x="684" y="514"/>
                  </a:lnTo>
                  <a:lnTo>
                    <a:pt x="684" y="509"/>
                  </a:lnTo>
                  <a:lnTo>
                    <a:pt x="682" y="502"/>
                  </a:lnTo>
                  <a:lnTo>
                    <a:pt x="681" y="494"/>
                  </a:lnTo>
                  <a:lnTo>
                    <a:pt x="681" y="488"/>
                  </a:lnTo>
                  <a:lnTo>
                    <a:pt x="681" y="482"/>
                  </a:lnTo>
                  <a:lnTo>
                    <a:pt x="682" y="477"/>
                  </a:lnTo>
                  <a:lnTo>
                    <a:pt x="684" y="473"/>
                  </a:lnTo>
                  <a:lnTo>
                    <a:pt x="687" y="467"/>
                  </a:lnTo>
                  <a:lnTo>
                    <a:pt x="690" y="462"/>
                  </a:lnTo>
                  <a:lnTo>
                    <a:pt x="694" y="458"/>
                  </a:lnTo>
                  <a:lnTo>
                    <a:pt x="700" y="453"/>
                  </a:lnTo>
                  <a:lnTo>
                    <a:pt x="936" y="474"/>
                  </a:lnTo>
                  <a:lnTo>
                    <a:pt x="1029" y="508"/>
                  </a:lnTo>
                  <a:lnTo>
                    <a:pt x="1109" y="512"/>
                  </a:lnTo>
                  <a:lnTo>
                    <a:pt x="1316" y="515"/>
                  </a:lnTo>
                  <a:lnTo>
                    <a:pt x="1401" y="485"/>
                  </a:lnTo>
                  <a:lnTo>
                    <a:pt x="1143" y="439"/>
                  </a:lnTo>
                  <a:lnTo>
                    <a:pt x="1152" y="385"/>
                  </a:lnTo>
                  <a:lnTo>
                    <a:pt x="1643" y="449"/>
                  </a:lnTo>
                  <a:lnTo>
                    <a:pt x="1729" y="0"/>
                  </a:lnTo>
                  <a:lnTo>
                    <a:pt x="1799" y="3"/>
                  </a:lnTo>
                  <a:lnTo>
                    <a:pt x="1795" y="34"/>
                  </a:lnTo>
                  <a:lnTo>
                    <a:pt x="1957" y="277"/>
                  </a:lnTo>
                  <a:lnTo>
                    <a:pt x="1831" y="544"/>
                  </a:lnTo>
                  <a:lnTo>
                    <a:pt x="2668" y="591"/>
                  </a:lnTo>
                  <a:lnTo>
                    <a:pt x="2668" y="593"/>
                  </a:lnTo>
                  <a:lnTo>
                    <a:pt x="2668" y="597"/>
                  </a:lnTo>
                  <a:lnTo>
                    <a:pt x="2667" y="605"/>
                  </a:lnTo>
                  <a:lnTo>
                    <a:pt x="2667" y="613"/>
                  </a:lnTo>
                  <a:lnTo>
                    <a:pt x="2665" y="620"/>
                  </a:lnTo>
                  <a:lnTo>
                    <a:pt x="2665" y="626"/>
                  </a:lnTo>
                  <a:lnTo>
                    <a:pt x="2665" y="631"/>
                  </a:lnTo>
                  <a:lnTo>
                    <a:pt x="2664" y="631"/>
                  </a:lnTo>
                  <a:lnTo>
                    <a:pt x="2658" y="632"/>
                  </a:lnTo>
                  <a:lnTo>
                    <a:pt x="2653" y="634"/>
                  </a:lnTo>
                  <a:lnTo>
                    <a:pt x="2648" y="635"/>
                  </a:lnTo>
                  <a:lnTo>
                    <a:pt x="2642" y="638"/>
                  </a:lnTo>
                  <a:lnTo>
                    <a:pt x="2636" y="642"/>
                  </a:lnTo>
                  <a:lnTo>
                    <a:pt x="2629" y="645"/>
                  </a:lnTo>
                  <a:lnTo>
                    <a:pt x="2621" y="648"/>
                  </a:lnTo>
                  <a:lnTo>
                    <a:pt x="2612" y="652"/>
                  </a:lnTo>
                  <a:lnTo>
                    <a:pt x="2604" y="657"/>
                  </a:lnTo>
                  <a:lnTo>
                    <a:pt x="2594" y="661"/>
                  </a:lnTo>
                  <a:lnTo>
                    <a:pt x="2583" y="666"/>
                  </a:lnTo>
                  <a:lnTo>
                    <a:pt x="2572" y="672"/>
                  </a:lnTo>
                  <a:lnTo>
                    <a:pt x="2562" y="678"/>
                  </a:lnTo>
                  <a:lnTo>
                    <a:pt x="2550" y="683"/>
                  </a:lnTo>
                  <a:lnTo>
                    <a:pt x="2536" y="689"/>
                  </a:lnTo>
                  <a:lnTo>
                    <a:pt x="2524" y="693"/>
                  </a:lnTo>
                  <a:lnTo>
                    <a:pt x="2512" y="701"/>
                  </a:lnTo>
                  <a:lnTo>
                    <a:pt x="2497" y="705"/>
                  </a:lnTo>
                  <a:lnTo>
                    <a:pt x="2483" y="713"/>
                  </a:lnTo>
                  <a:lnTo>
                    <a:pt x="2468" y="719"/>
                  </a:lnTo>
                  <a:lnTo>
                    <a:pt x="2455" y="727"/>
                  </a:lnTo>
                  <a:lnTo>
                    <a:pt x="2439" y="733"/>
                  </a:lnTo>
                  <a:lnTo>
                    <a:pt x="2425" y="740"/>
                  </a:lnTo>
                  <a:lnTo>
                    <a:pt x="2410" y="748"/>
                  </a:lnTo>
                  <a:lnTo>
                    <a:pt x="2395" y="754"/>
                  </a:lnTo>
                  <a:lnTo>
                    <a:pt x="2380" y="762"/>
                  </a:lnTo>
                  <a:lnTo>
                    <a:pt x="2364" y="769"/>
                  </a:lnTo>
                  <a:lnTo>
                    <a:pt x="2349" y="777"/>
                  </a:lnTo>
                  <a:lnTo>
                    <a:pt x="2334" y="784"/>
                  </a:lnTo>
                  <a:lnTo>
                    <a:pt x="2317" y="790"/>
                  </a:lnTo>
                  <a:lnTo>
                    <a:pt x="2302" y="798"/>
                  </a:lnTo>
                  <a:lnTo>
                    <a:pt x="2287" y="806"/>
                  </a:lnTo>
                  <a:lnTo>
                    <a:pt x="2272" y="813"/>
                  </a:lnTo>
                  <a:lnTo>
                    <a:pt x="2255" y="821"/>
                  </a:lnTo>
                  <a:lnTo>
                    <a:pt x="2240" y="827"/>
                  </a:lnTo>
                  <a:lnTo>
                    <a:pt x="2225" y="834"/>
                  </a:lnTo>
                  <a:lnTo>
                    <a:pt x="2211" y="842"/>
                  </a:lnTo>
                  <a:lnTo>
                    <a:pt x="2196" y="848"/>
                  </a:lnTo>
                  <a:lnTo>
                    <a:pt x="2182" y="854"/>
                  </a:lnTo>
                  <a:lnTo>
                    <a:pt x="2168" y="862"/>
                  </a:lnTo>
                  <a:lnTo>
                    <a:pt x="2155" y="868"/>
                  </a:lnTo>
                  <a:lnTo>
                    <a:pt x="2141" y="875"/>
                  </a:lnTo>
                  <a:lnTo>
                    <a:pt x="2129" y="882"/>
                  </a:lnTo>
                  <a:lnTo>
                    <a:pt x="2115" y="886"/>
                  </a:lnTo>
                  <a:lnTo>
                    <a:pt x="2104" y="894"/>
                  </a:lnTo>
                  <a:lnTo>
                    <a:pt x="2094" y="898"/>
                  </a:lnTo>
                  <a:lnTo>
                    <a:pt x="2082" y="903"/>
                  </a:lnTo>
                  <a:lnTo>
                    <a:pt x="2071" y="907"/>
                  </a:lnTo>
                  <a:lnTo>
                    <a:pt x="2062" y="913"/>
                  </a:lnTo>
                  <a:lnTo>
                    <a:pt x="2053" y="916"/>
                  </a:lnTo>
                  <a:lnTo>
                    <a:pt x="2044" y="920"/>
                  </a:lnTo>
                  <a:lnTo>
                    <a:pt x="2036" y="924"/>
                  </a:lnTo>
                  <a:lnTo>
                    <a:pt x="2030" y="929"/>
                  </a:lnTo>
                  <a:lnTo>
                    <a:pt x="2024" y="932"/>
                  </a:lnTo>
                  <a:lnTo>
                    <a:pt x="2018" y="933"/>
                  </a:lnTo>
                  <a:lnTo>
                    <a:pt x="2012" y="936"/>
                  </a:lnTo>
                  <a:lnTo>
                    <a:pt x="2010" y="938"/>
                  </a:lnTo>
                  <a:lnTo>
                    <a:pt x="2003" y="941"/>
                  </a:lnTo>
                  <a:lnTo>
                    <a:pt x="2003" y="942"/>
                  </a:lnTo>
                  <a:lnTo>
                    <a:pt x="1901" y="1805"/>
                  </a:lnTo>
                  <a:lnTo>
                    <a:pt x="1820" y="1826"/>
                  </a:lnTo>
                  <a:lnTo>
                    <a:pt x="1782" y="958"/>
                  </a:lnTo>
                  <a:lnTo>
                    <a:pt x="1267" y="877"/>
                  </a:lnTo>
                  <a:lnTo>
                    <a:pt x="1067" y="856"/>
                  </a:lnTo>
                  <a:lnTo>
                    <a:pt x="1067" y="898"/>
                  </a:lnTo>
                  <a:lnTo>
                    <a:pt x="587" y="898"/>
                  </a:lnTo>
                  <a:lnTo>
                    <a:pt x="608" y="1612"/>
                  </a:lnTo>
                  <a:lnTo>
                    <a:pt x="503" y="1662"/>
                  </a:lnTo>
                  <a:lnTo>
                    <a:pt x="422" y="1608"/>
                  </a:lnTo>
                  <a:lnTo>
                    <a:pt x="155" y="1439"/>
                  </a:lnTo>
                  <a:lnTo>
                    <a:pt x="79" y="800"/>
                  </a:lnTo>
                  <a:lnTo>
                    <a:pt x="39" y="751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2"/>
            <p:cNvSpPr/>
            <p:nvPr/>
          </p:nvSpPr>
          <p:spPr>
            <a:xfrm>
              <a:off x="2885040" y="2509200"/>
              <a:ext cx="475200" cy="147600"/>
            </a:xfrm>
            <a:custGeom>
              <a:avLst/>
              <a:gdLst>
                <a:gd name="textAreaLeft" fmla="*/ 0 w 475200"/>
                <a:gd name="textAreaRight" fmla="*/ 475560 w 47520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299" h="93">
                  <a:moveTo>
                    <a:pt x="0" y="71"/>
                  </a:moveTo>
                  <a:lnTo>
                    <a:pt x="137" y="0"/>
                  </a:lnTo>
                  <a:lnTo>
                    <a:pt x="299" y="23"/>
                  </a:lnTo>
                  <a:lnTo>
                    <a:pt x="201" y="93"/>
                  </a:lnTo>
                  <a:lnTo>
                    <a:pt x="24" y="6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3"/>
            <p:cNvSpPr/>
            <p:nvPr/>
          </p:nvSpPr>
          <p:spPr>
            <a:xfrm>
              <a:off x="428400" y="2054160"/>
              <a:ext cx="4276800" cy="637560"/>
            </a:xfrm>
            <a:custGeom>
              <a:avLst/>
              <a:gdLst>
                <a:gd name="textAreaLeft" fmla="*/ 0 w 4276800"/>
                <a:gd name="textAreaRight" fmla="*/ 4277160 w 4276800"/>
                <a:gd name="textAreaTop" fmla="*/ 0 h 637560"/>
                <a:gd name="textAreaBottom" fmla="*/ 637560 h 637560"/>
              </a:gdLst>
              <a:ahLst/>
              <a:rect l="textAreaLeft" t="textAreaTop" r="textAreaRight" b="textAreaBottom"/>
              <a:pathLst>
                <a:path w="2688" h="401">
                  <a:moveTo>
                    <a:pt x="35" y="177"/>
                  </a:moveTo>
                  <a:lnTo>
                    <a:pt x="35" y="177"/>
                  </a:lnTo>
                  <a:lnTo>
                    <a:pt x="41" y="175"/>
                  </a:lnTo>
                  <a:lnTo>
                    <a:pt x="43" y="172"/>
                  </a:lnTo>
                  <a:lnTo>
                    <a:pt x="49" y="172"/>
                  </a:lnTo>
                  <a:lnTo>
                    <a:pt x="53" y="170"/>
                  </a:lnTo>
                  <a:lnTo>
                    <a:pt x="60" y="169"/>
                  </a:lnTo>
                  <a:lnTo>
                    <a:pt x="66" y="166"/>
                  </a:lnTo>
                  <a:lnTo>
                    <a:pt x="73" y="164"/>
                  </a:lnTo>
                  <a:lnTo>
                    <a:pt x="81" y="163"/>
                  </a:lnTo>
                  <a:lnTo>
                    <a:pt x="88" y="161"/>
                  </a:lnTo>
                  <a:lnTo>
                    <a:pt x="98" y="158"/>
                  </a:lnTo>
                  <a:lnTo>
                    <a:pt x="107" y="155"/>
                  </a:lnTo>
                  <a:lnTo>
                    <a:pt x="117" y="152"/>
                  </a:lnTo>
                  <a:lnTo>
                    <a:pt x="128" y="151"/>
                  </a:lnTo>
                  <a:lnTo>
                    <a:pt x="139" y="148"/>
                  </a:lnTo>
                  <a:lnTo>
                    <a:pt x="149" y="143"/>
                  </a:lnTo>
                  <a:lnTo>
                    <a:pt x="161" y="140"/>
                  </a:lnTo>
                  <a:lnTo>
                    <a:pt x="173" y="137"/>
                  </a:lnTo>
                  <a:lnTo>
                    <a:pt x="186" y="132"/>
                  </a:lnTo>
                  <a:lnTo>
                    <a:pt x="199" y="129"/>
                  </a:lnTo>
                  <a:lnTo>
                    <a:pt x="213" y="125"/>
                  </a:lnTo>
                  <a:lnTo>
                    <a:pt x="227" y="122"/>
                  </a:lnTo>
                  <a:lnTo>
                    <a:pt x="239" y="117"/>
                  </a:lnTo>
                  <a:lnTo>
                    <a:pt x="253" y="114"/>
                  </a:lnTo>
                  <a:lnTo>
                    <a:pt x="268" y="111"/>
                  </a:lnTo>
                  <a:lnTo>
                    <a:pt x="281" y="107"/>
                  </a:lnTo>
                  <a:lnTo>
                    <a:pt x="295" y="102"/>
                  </a:lnTo>
                  <a:lnTo>
                    <a:pt x="310" y="99"/>
                  </a:lnTo>
                  <a:lnTo>
                    <a:pt x="325" y="96"/>
                  </a:lnTo>
                  <a:lnTo>
                    <a:pt x="341" y="91"/>
                  </a:lnTo>
                  <a:lnTo>
                    <a:pt x="354" y="87"/>
                  </a:lnTo>
                  <a:lnTo>
                    <a:pt x="370" y="84"/>
                  </a:lnTo>
                  <a:lnTo>
                    <a:pt x="383" y="79"/>
                  </a:lnTo>
                  <a:lnTo>
                    <a:pt x="398" y="75"/>
                  </a:lnTo>
                  <a:lnTo>
                    <a:pt x="412" y="70"/>
                  </a:lnTo>
                  <a:lnTo>
                    <a:pt x="429" y="67"/>
                  </a:lnTo>
                  <a:lnTo>
                    <a:pt x="442" y="63"/>
                  </a:lnTo>
                  <a:lnTo>
                    <a:pt x="458" y="60"/>
                  </a:lnTo>
                  <a:lnTo>
                    <a:pt x="471" y="55"/>
                  </a:lnTo>
                  <a:lnTo>
                    <a:pt x="485" y="50"/>
                  </a:lnTo>
                  <a:lnTo>
                    <a:pt x="499" y="47"/>
                  </a:lnTo>
                  <a:lnTo>
                    <a:pt x="512" y="43"/>
                  </a:lnTo>
                  <a:lnTo>
                    <a:pt x="526" y="40"/>
                  </a:lnTo>
                  <a:lnTo>
                    <a:pt x="538" y="37"/>
                  </a:lnTo>
                  <a:lnTo>
                    <a:pt x="552" y="34"/>
                  </a:lnTo>
                  <a:lnTo>
                    <a:pt x="564" y="31"/>
                  </a:lnTo>
                  <a:lnTo>
                    <a:pt x="575" y="28"/>
                  </a:lnTo>
                  <a:lnTo>
                    <a:pt x="587" y="25"/>
                  </a:lnTo>
                  <a:lnTo>
                    <a:pt x="597" y="22"/>
                  </a:lnTo>
                  <a:lnTo>
                    <a:pt x="610" y="19"/>
                  </a:lnTo>
                  <a:lnTo>
                    <a:pt x="619" y="15"/>
                  </a:lnTo>
                  <a:lnTo>
                    <a:pt x="629" y="14"/>
                  </a:lnTo>
                  <a:lnTo>
                    <a:pt x="638" y="11"/>
                  </a:lnTo>
                  <a:lnTo>
                    <a:pt x="648" y="9"/>
                  </a:lnTo>
                  <a:lnTo>
                    <a:pt x="655" y="6"/>
                  </a:lnTo>
                  <a:lnTo>
                    <a:pt x="663" y="5"/>
                  </a:lnTo>
                  <a:lnTo>
                    <a:pt x="670" y="3"/>
                  </a:lnTo>
                  <a:lnTo>
                    <a:pt x="676" y="2"/>
                  </a:lnTo>
                  <a:lnTo>
                    <a:pt x="683" y="0"/>
                  </a:lnTo>
                  <a:lnTo>
                    <a:pt x="689" y="0"/>
                  </a:lnTo>
                  <a:lnTo>
                    <a:pt x="692" y="0"/>
                  </a:lnTo>
                  <a:lnTo>
                    <a:pt x="696" y="0"/>
                  </a:lnTo>
                  <a:lnTo>
                    <a:pt x="745" y="40"/>
                  </a:lnTo>
                  <a:lnTo>
                    <a:pt x="604" y="81"/>
                  </a:lnTo>
                  <a:lnTo>
                    <a:pt x="891" y="196"/>
                  </a:lnTo>
                  <a:lnTo>
                    <a:pt x="1024" y="128"/>
                  </a:lnTo>
                  <a:lnTo>
                    <a:pt x="1135" y="122"/>
                  </a:lnTo>
                  <a:lnTo>
                    <a:pt x="1134" y="120"/>
                  </a:lnTo>
                  <a:lnTo>
                    <a:pt x="1131" y="116"/>
                  </a:lnTo>
                  <a:lnTo>
                    <a:pt x="1128" y="107"/>
                  </a:lnTo>
                  <a:lnTo>
                    <a:pt x="1126" y="99"/>
                  </a:lnTo>
                  <a:lnTo>
                    <a:pt x="1125" y="93"/>
                  </a:lnTo>
                  <a:lnTo>
                    <a:pt x="1123" y="88"/>
                  </a:lnTo>
                  <a:lnTo>
                    <a:pt x="1123" y="84"/>
                  </a:lnTo>
                  <a:lnTo>
                    <a:pt x="1125" y="79"/>
                  </a:lnTo>
                  <a:lnTo>
                    <a:pt x="1125" y="73"/>
                  </a:lnTo>
                  <a:lnTo>
                    <a:pt x="1126" y="69"/>
                  </a:lnTo>
                  <a:lnTo>
                    <a:pt x="1129" y="64"/>
                  </a:lnTo>
                  <a:lnTo>
                    <a:pt x="1135" y="61"/>
                  </a:lnTo>
                  <a:lnTo>
                    <a:pt x="1075" y="5"/>
                  </a:lnTo>
                  <a:lnTo>
                    <a:pt x="1298" y="12"/>
                  </a:lnTo>
                  <a:lnTo>
                    <a:pt x="1274" y="56"/>
                  </a:lnTo>
                  <a:lnTo>
                    <a:pt x="1275" y="56"/>
                  </a:lnTo>
                  <a:lnTo>
                    <a:pt x="1283" y="58"/>
                  </a:lnTo>
                  <a:lnTo>
                    <a:pt x="1289" y="60"/>
                  </a:lnTo>
                  <a:lnTo>
                    <a:pt x="1296" y="61"/>
                  </a:lnTo>
                  <a:lnTo>
                    <a:pt x="1302" y="64"/>
                  </a:lnTo>
                  <a:lnTo>
                    <a:pt x="1313" y="66"/>
                  </a:lnTo>
                  <a:lnTo>
                    <a:pt x="1318" y="66"/>
                  </a:lnTo>
                  <a:lnTo>
                    <a:pt x="1322" y="69"/>
                  </a:lnTo>
                  <a:lnTo>
                    <a:pt x="1328" y="69"/>
                  </a:lnTo>
                  <a:lnTo>
                    <a:pt x="1333" y="70"/>
                  </a:lnTo>
                  <a:lnTo>
                    <a:pt x="1339" y="70"/>
                  </a:lnTo>
                  <a:lnTo>
                    <a:pt x="1344" y="73"/>
                  </a:lnTo>
                  <a:lnTo>
                    <a:pt x="1351" y="73"/>
                  </a:lnTo>
                  <a:lnTo>
                    <a:pt x="1357" y="75"/>
                  </a:lnTo>
                  <a:lnTo>
                    <a:pt x="1363" y="75"/>
                  </a:lnTo>
                  <a:lnTo>
                    <a:pt x="1371" y="78"/>
                  </a:lnTo>
                  <a:lnTo>
                    <a:pt x="1377" y="78"/>
                  </a:lnTo>
                  <a:lnTo>
                    <a:pt x="1385" y="79"/>
                  </a:lnTo>
                  <a:lnTo>
                    <a:pt x="1391" y="81"/>
                  </a:lnTo>
                  <a:lnTo>
                    <a:pt x="1398" y="82"/>
                  </a:lnTo>
                  <a:lnTo>
                    <a:pt x="1407" y="84"/>
                  </a:lnTo>
                  <a:lnTo>
                    <a:pt x="1415" y="85"/>
                  </a:lnTo>
                  <a:lnTo>
                    <a:pt x="1423" y="85"/>
                  </a:lnTo>
                  <a:lnTo>
                    <a:pt x="1430" y="87"/>
                  </a:lnTo>
                  <a:lnTo>
                    <a:pt x="1436" y="87"/>
                  </a:lnTo>
                  <a:lnTo>
                    <a:pt x="1445" y="88"/>
                  </a:lnTo>
                  <a:lnTo>
                    <a:pt x="1453" y="88"/>
                  </a:lnTo>
                  <a:lnTo>
                    <a:pt x="1461" y="90"/>
                  </a:lnTo>
                  <a:lnTo>
                    <a:pt x="1470" y="90"/>
                  </a:lnTo>
                  <a:lnTo>
                    <a:pt x="1477" y="93"/>
                  </a:lnTo>
                  <a:lnTo>
                    <a:pt x="1486" y="93"/>
                  </a:lnTo>
                  <a:lnTo>
                    <a:pt x="1494" y="93"/>
                  </a:lnTo>
                  <a:lnTo>
                    <a:pt x="1502" y="94"/>
                  </a:lnTo>
                  <a:lnTo>
                    <a:pt x="1511" y="96"/>
                  </a:lnTo>
                  <a:lnTo>
                    <a:pt x="1520" y="96"/>
                  </a:lnTo>
                  <a:lnTo>
                    <a:pt x="1529" y="96"/>
                  </a:lnTo>
                  <a:lnTo>
                    <a:pt x="1536" y="98"/>
                  </a:lnTo>
                  <a:lnTo>
                    <a:pt x="1546" y="98"/>
                  </a:lnTo>
                  <a:lnTo>
                    <a:pt x="1555" y="98"/>
                  </a:lnTo>
                  <a:lnTo>
                    <a:pt x="1562" y="98"/>
                  </a:lnTo>
                  <a:lnTo>
                    <a:pt x="1570" y="98"/>
                  </a:lnTo>
                  <a:lnTo>
                    <a:pt x="1579" y="98"/>
                  </a:lnTo>
                  <a:lnTo>
                    <a:pt x="1588" y="96"/>
                  </a:lnTo>
                  <a:lnTo>
                    <a:pt x="1596" y="96"/>
                  </a:lnTo>
                  <a:lnTo>
                    <a:pt x="1603" y="96"/>
                  </a:lnTo>
                  <a:lnTo>
                    <a:pt x="1612" y="96"/>
                  </a:lnTo>
                  <a:lnTo>
                    <a:pt x="1620" y="94"/>
                  </a:lnTo>
                  <a:lnTo>
                    <a:pt x="1629" y="94"/>
                  </a:lnTo>
                  <a:lnTo>
                    <a:pt x="1637" y="93"/>
                  </a:lnTo>
                  <a:lnTo>
                    <a:pt x="1644" y="93"/>
                  </a:lnTo>
                  <a:lnTo>
                    <a:pt x="1652" y="90"/>
                  </a:lnTo>
                  <a:lnTo>
                    <a:pt x="1660" y="90"/>
                  </a:lnTo>
                  <a:lnTo>
                    <a:pt x="1669" y="88"/>
                  </a:lnTo>
                  <a:lnTo>
                    <a:pt x="1676" y="87"/>
                  </a:lnTo>
                  <a:lnTo>
                    <a:pt x="1635" y="0"/>
                  </a:lnTo>
                  <a:lnTo>
                    <a:pt x="1637" y="0"/>
                  </a:lnTo>
                  <a:lnTo>
                    <a:pt x="1644" y="0"/>
                  </a:lnTo>
                  <a:lnTo>
                    <a:pt x="1650" y="0"/>
                  </a:lnTo>
                  <a:lnTo>
                    <a:pt x="1658" y="0"/>
                  </a:lnTo>
                  <a:lnTo>
                    <a:pt x="1666" y="0"/>
                  </a:lnTo>
                  <a:lnTo>
                    <a:pt x="1676" y="2"/>
                  </a:lnTo>
                  <a:lnTo>
                    <a:pt x="1687" y="2"/>
                  </a:lnTo>
                  <a:lnTo>
                    <a:pt x="1698" y="2"/>
                  </a:lnTo>
                  <a:lnTo>
                    <a:pt x="1710" y="2"/>
                  </a:lnTo>
                  <a:lnTo>
                    <a:pt x="1725" y="3"/>
                  </a:lnTo>
                  <a:lnTo>
                    <a:pt x="1739" y="3"/>
                  </a:lnTo>
                  <a:lnTo>
                    <a:pt x="1755" y="5"/>
                  </a:lnTo>
                  <a:lnTo>
                    <a:pt x="1770" y="5"/>
                  </a:lnTo>
                  <a:lnTo>
                    <a:pt x="1789" y="6"/>
                  </a:lnTo>
                  <a:lnTo>
                    <a:pt x="1805" y="6"/>
                  </a:lnTo>
                  <a:lnTo>
                    <a:pt x="1824" y="6"/>
                  </a:lnTo>
                  <a:lnTo>
                    <a:pt x="1843" y="8"/>
                  </a:lnTo>
                  <a:lnTo>
                    <a:pt x="1863" y="9"/>
                  </a:lnTo>
                  <a:lnTo>
                    <a:pt x="1883" y="9"/>
                  </a:lnTo>
                  <a:lnTo>
                    <a:pt x="1904" y="9"/>
                  </a:lnTo>
                  <a:lnTo>
                    <a:pt x="1925" y="11"/>
                  </a:lnTo>
                  <a:lnTo>
                    <a:pt x="1947" y="12"/>
                  </a:lnTo>
                  <a:lnTo>
                    <a:pt x="1970" y="12"/>
                  </a:lnTo>
                  <a:lnTo>
                    <a:pt x="1992" y="14"/>
                  </a:lnTo>
                  <a:lnTo>
                    <a:pt x="2015" y="14"/>
                  </a:lnTo>
                  <a:lnTo>
                    <a:pt x="2038" y="15"/>
                  </a:lnTo>
                  <a:lnTo>
                    <a:pt x="2062" y="17"/>
                  </a:lnTo>
                  <a:lnTo>
                    <a:pt x="2085" y="19"/>
                  </a:lnTo>
                  <a:lnTo>
                    <a:pt x="2109" y="20"/>
                  </a:lnTo>
                  <a:lnTo>
                    <a:pt x="2134" y="22"/>
                  </a:lnTo>
                  <a:lnTo>
                    <a:pt x="2156" y="22"/>
                  </a:lnTo>
                  <a:lnTo>
                    <a:pt x="2181" y="23"/>
                  </a:lnTo>
                  <a:lnTo>
                    <a:pt x="2204" y="23"/>
                  </a:lnTo>
                  <a:lnTo>
                    <a:pt x="2228" y="25"/>
                  </a:lnTo>
                  <a:lnTo>
                    <a:pt x="2251" y="26"/>
                  </a:lnTo>
                  <a:lnTo>
                    <a:pt x="2273" y="28"/>
                  </a:lnTo>
                  <a:lnTo>
                    <a:pt x="2298" y="28"/>
                  </a:lnTo>
                  <a:lnTo>
                    <a:pt x="2321" y="29"/>
                  </a:lnTo>
                  <a:lnTo>
                    <a:pt x="2343" y="29"/>
                  </a:lnTo>
                  <a:lnTo>
                    <a:pt x="2366" y="32"/>
                  </a:lnTo>
                  <a:lnTo>
                    <a:pt x="2387" y="32"/>
                  </a:lnTo>
                  <a:lnTo>
                    <a:pt x="2409" y="34"/>
                  </a:lnTo>
                  <a:lnTo>
                    <a:pt x="2430" y="34"/>
                  </a:lnTo>
                  <a:lnTo>
                    <a:pt x="2451" y="37"/>
                  </a:lnTo>
                  <a:lnTo>
                    <a:pt x="2471" y="37"/>
                  </a:lnTo>
                  <a:lnTo>
                    <a:pt x="2492" y="38"/>
                  </a:lnTo>
                  <a:lnTo>
                    <a:pt x="2510" y="38"/>
                  </a:lnTo>
                  <a:lnTo>
                    <a:pt x="2529" y="41"/>
                  </a:lnTo>
                  <a:lnTo>
                    <a:pt x="2544" y="41"/>
                  </a:lnTo>
                  <a:lnTo>
                    <a:pt x="2562" y="43"/>
                  </a:lnTo>
                  <a:lnTo>
                    <a:pt x="2577" y="43"/>
                  </a:lnTo>
                  <a:lnTo>
                    <a:pt x="2593" y="44"/>
                  </a:lnTo>
                  <a:lnTo>
                    <a:pt x="2606" y="46"/>
                  </a:lnTo>
                  <a:lnTo>
                    <a:pt x="2621" y="47"/>
                  </a:lnTo>
                  <a:lnTo>
                    <a:pt x="2632" y="47"/>
                  </a:lnTo>
                  <a:lnTo>
                    <a:pt x="2644" y="49"/>
                  </a:lnTo>
                  <a:lnTo>
                    <a:pt x="2653" y="49"/>
                  </a:lnTo>
                  <a:lnTo>
                    <a:pt x="2662" y="50"/>
                  </a:lnTo>
                  <a:lnTo>
                    <a:pt x="2670" y="50"/>
                  </a:lnTo>
                  <a:lnTo>
                    <a:pt x="2678" y="52"/>
                  </a:lnTo>
                  <a:lnTo>
                    <a:pt x="2682" y="52"/>
                  </a:lnTo>
                  <a:lnTo>
                    <a:pt x="2688" y="55"/>
                  </a:lnTo>
                  <a:lnTo>
                    <a:pt x="1895" y="401"/>
                  </a:lnTo>
                  <a:lnTo>
                    <a:pt x="1658" y="369"/>
                  </a:lnTo>
                  <a:lnTo>
                    <a:pt x="1986" y="202"/>
                  </a:lnTo>
                  <a:lnTo>
                    <a:pt x="1953" y="170"/>
                  </a:lnTo>
                  <a:lnTo>
                    <a:pt x="1378" y="107"/>
                  </a:lnTo>
                  <a:lnTo>
                    <a:pt x="1230" y="177"/>
                  </a:lnTo>
                  <a:lnTo>
                    <a:pt x="1227" y="177"/>
                  </a:lnTo>
                  <a:lnTo>
                    <a:pt x="1222" y="177"/>
                  </a:lnTo>
                  <a:lnTo>
                    <a:pt x="1217" y="177"/>
                  </a:lnTo>
                  <a:lnTo>
                    <a:pt x="1213" y="177"/>
                  </a:lnTo>
                  <a:lnTo>
                    <a:pt x="1208" y="177"/>
                  </a:lnTo>
                  <a:lnTo>
                    <a:pt x="1202" y="177"/>
                  </a:lnTo>
                  <a:lnTo>
                    <a:pt x="1195" y="177"/>
                  </a:lnTo>
                  <a:lnTo>
                    <a:pt x="1189" y="177"/>
                  </a:lnTo>
                  <a:lnTo>
                    <a:pt x="1181" y="177"/>
                  </a:lnTo>
                  <a:lnTo>
                    <a:pt x="1175" y="177"/>
                  </a:lnTo>
                  <a:lnTo>
                    <a:pt x="1167" y="177"/>
                  </a:lnTo>
                  <a:lnTo>
                    <a:pt x="1161" y="178"/>
                  </a:lnTo>
                  <a:lnTo>
                    <a:pt x="1154" y="180"/>
                  </a:lnTo>
                  <a:lnTo>
                    <a:pt x="1146" y="181"/>
                  </a:lnTo>
                  <a:lnTo>
                    <a:pt x="1138" y="181"/>
                  </a:lnTo>
                  <a:lnTo>
                    <a:pt x="1129" y="181"/>
                  </a:lnTo>
                  <a:lnTo>
                    <a:pt x="1122" y="183"/>
                  </a:lnTo>
                  <a:lnTo>
                    <a:pt x="1116" y="186"/>
                  </a:lnTo>
                  <a:lnTo>
                    <a:pt x="1108" y="186"/>
                  </a:lnTo>
                  <a:lnTo>
                    <a:pt x="1102" y="189"/>
                  </a:lnTo>
                  <a:lnTo>
                    <a:pt x="1097" y="192"/>
                  </a:lnTo>
                  <a:lnTo>
                    <a:pt x="1093" y="195"/>
                  </a:lnTo>
                  <a:lnTo>
                    <a:pt x="1087" y="198"/>
                  </a:lnTo>
                  <a:lnTo>
                    <a:pt x="1082" y="199"/>
                  </a:lnTo>
                  <a:lnTo>
                    <a:pt x="1079" y="202"/>
                  </a:lnTo>
                  <a:lnTo>
                    <a:pt x="1078" y="207"/>
                  </a:lnTo>
                  <a:lnTo>
                    <a:pt x="1075" y="211"/>
                  </a:lnTo>
                  <a:lnTo>
                    <a:pt x="1075" y="216"/>
                  </a:lnTo>
                  <a:lnTo>
                    <a:pt x="1075" y="221"/>
                  </a:lnTo>
                  <a:lnTo>
                    <a:pt x="1078" y="225"/>
                  </a:lnTo>
                  <a:lnTo>
                    <a:pt x="1081" y="234"/>
                  </a:lnTo>
                  <a:lnTo>
                    <a:pt x="1087" y="243"/>
                  </a:lnTo>
                  <a:lnTo>
                    <a:pt x="1094" y="249"/>
                  </a:lnTo>
                  <a:lnTo>
                    <a:pt x="1103" y="256"/>
                  </a:lnTo>
                  <a:lnTo>
                    <a:pt x="1108" y="257"/>
                  </a:lnTo>
                  <a:lnTo>
                    <a:pt x="1113" y="260"/>
                  </a:lnTo>
                  <a:lnTo>
                    <a:pt x="1119" y="262"/>
                  </a:lnTo>
                  <a:lnTo>
                    <a:pt x="1125" y="263"/>
                  </a:lnTo>
                  <a:lnTo>
                    <a:pt x="1129" y="265"/>
                  </a:lnTo>
                  <a:lnTo>
                    <a:pt x="1135" y="266"/>
                  </a:lnTo>
                  <a:lnTo>
                    <a:pt x="1140" y="268"/>
                  </a:lnTo>
                  <a:lnTo>
                    <a:pt x="1146" y="269"/>
                  </a:lnTo>
                  <a:lnTo>
                    <a:pt x="1151" y="269"/>
                  </a:lnTo>
                  <a:lnTo>
                    <a:pt x="1157" y="269"/>
                  </a:lnTo>
                  <a:lnTo>
                    <a:pt x="1161" y="271"/>
                  </a:lnTo>
                  <a:lnTo>
                    <a:pt x="1167" y="272"/>
                  </a:lnTo>
                  <a:lnTo>
                    <a:pt x="1176" y="272"/>
                  </a:lnTo>
                  <a:lnTo>
                    <a:pt x="1185" y="272"/>
                  </a:lnTo>
                  <a:lnTo>
                    <a:pt x="1192" y="272"/>
                  </a:lnTo>
                  <a:lnTo>
                    <a:pt x="1196" y="272"/>
                  </a:lnTo>
                  <a:lnTo>
                    <a:pt x="1201" y="272"/>
                  </a:lnTo>
                  <a:lnTo>
                    <a:pt x="1202" y="272"/>
                  </a:lnTo>
                  <a:lnTo>
                    <a:pt x="1205" y="271"/>
                  </a:lnTo>
                  <a:lnTo>
                    <a:pt x="1208" y="269"/>
                  </a:lnTo>
                  <a:lnTo>
                    <a:pt x="1214" y="268"/>
                  </a:lnTo>
                  <a:lnTo>
                    <a:pt x="1220" y="265"/>
                  </a:lnTo>
                  <a:lnTo>
                    <a:pt x="1228" y="263"/>
                  </a:lnTo>
                  <a:lnTo>
                    <a:pt x="1237" y="260"/>
                  </a:lnTo>
                  <a:lnTo>
                    <a:pt x="1246" y="257"/>
                  </a:lnTo>
                  <a:lnTo>
                    <a:pt x="1254" y="252"/>
                  </a:lnTo>
                  <a:lnTo>
                    <a:pt x="1263" y="249"/>
                  </a:lnTo>
                  <a:lnTo>
                    <a:pt x="1272" y="245"/>
                  </a:lnTo>
                  <a:lnTo>
                    <a:pt x="1280" y="242"/>
                  </a:lnTo>
                  <a:lnTo>
                    <a:pt x="1287" y="237"/>
                  </a:lnTo>
                  <a:lnTo>
                    <a:pt x="1293" y="234"/>
                  </a:lnTo>
                  <a:lnTo>
                    <a:pt x="1298" y="230"/>
                  </a:lnTo>
                  <a:lnTo>
                    <a:pt x="1304" y="225"/>
                  </a:lnTo>
                  <a:lnTo>
                    <a:pt x="1722" y="295"/>
                  </a:lnTo>
                  <a:lnTo>
                    <a:pt x="1597" y="360"/>
                  </a:lnTo>
                  <a:lnTo>
                    <a:pt x="1594" y="359"/>
                  </a:lnTo>
                  <a:lnTo>
                    <a:pt x="1593" y="359"/>
                  </a:lnTo>
                  <a:lnTo>
                    <a:pt x="1587" y="359"/>
                  </a:lnTo>
                  <a:lnTo>
                    <a:pt x="1581" y="357"/>
                  </a:lnTo>
                  <a:lnTo>
                    <a:pt x="1571" y="356"/>
                  </a:lnTo>
                  <a:lnTo>
                    <a:pt x="1561" y="354"/>
                  </a:lnTo>
                  <a:lnTo>
                    <a:pt x="1549" y="354"/>
                  </a:lnTo>
                  <a:lnTo>
                    <a:pt x="1536" y="353"/>
                  </a:lnTo>
                  <a:lnTo>
                    <a:pt x="1520" y="351"/>
                  </a:lnTo>
                  <a:lnTo>
                    <a:pt x="1503" y="350"/>
                  </a:lnTo>
                  <a:lnTo>
                    <a:pt x="1483" y="347"/>
                  </a:lnTo>
                  <a:lnTo>
                    <a:pt x="1465" y="345"/>
                  </a:lnTo>
                  <a:lnTo>
                    <a:pt x="1444" y="342"/>
                  </a:lnTo>
                  <a:lnTo>
                    <a:pt x="1421" y="341"/>
                  </a:lnTo>
                  <a:lnTo>
                    <a:pt x="1398" y="338"/>
                  </a:lnTo>
                  <a:lnTo>
                    <a:pt x="1374" y="336"/>
                  </a:lnTo>
                  <a:lnTo>
                    <a:pt x="1347" y="333"/>
                  </a:lnTo>
                  <a:lnTo>
                    <a:pt x="1321" y="330"/>
                  </a:lnTo>
                  <a:lnTo>
                    <a:pt x="1292" y="327"/>
                  </a:lnTo>
                  <a:lnTo>
                    <a:pt x="1264" y="324"/>
                  </a:lnTo>
                  <a:lnTo>
                    <a:pt x="1234" y="319"/>
                  </a:lnTo>
                  <a:lnTo>
                    <a:pt x="1204" y="318"/>
                  </a:lnTo>
                  <a:lnTo>
                    <a:pt x="1172" y="313"/>
                  </a:lnTo>
                  <a:lnTo>
                    <a:pt x="1141" y="310"/>
                  </a:lnTo>
                  <a:lnTo>
                    <a:pt x="1108" y="307"/>
                  </a:lnTo>
                  <a:lnTo>
                    <a:pt x="1076" y="304"/>
                  </a:lnTo>
                  <a:lnTo>
                    <a:pt x="1043" y="300"/>
                  </a:lnTo>
                  <a:lnTo>
                    <a:pt x="1009" y="297"/>
                  </a:lnTo>
                  <a:lnTo>
                    <a:pt x="974" y="292"/>
                  </a:lnTo>
                  <a:lnTo>
                    <a:pt x="939" y="289"/>
                  </a:lnTo>
                  <a:lnTo>
                    <a:pt x="906" y="286"/>
                  </a:lnTo>
                  <a:lnTo>
                    <a:pt x="871" y="283"/>
                  </a:lnTo>
                  <a:lnTo>
                    <a:pt x="834" y="278"/>
                  </a:lnTo>
                  <a:lnTo>
                    <a:pt x="798" y="275"/>
                  </a:lnTo>
                  <a:lnTo>
                    <a:pt x="763" y="269"/>
                  </a:lnTo>
                  <a:lnTo>
                    <a:pt x="728" y="268"/>
                  </a:lnTo>
                  <a:lnTo>
                    <a:pt x="693" y="263"/>
                  </a:lnTo>
                  <a:lnTo>
                    <a:pt x="658" y="259"/>
                  </a:lnTo>
                  <a:lnTo>
                    <a:pt x="623" y="254"/>
                  </a:lnTo>
                  <a:lnTo>
                    <a:pt x="588" y="251"/>
                  </a:lnTo>
                  <a:lnTo>
                    <a:pt x="553" y="248"/>
                  </a:lnTo>
                  <a:lnTo>
                    <a:pt x="520" y="245"/>
                  </a:lnTo>
                  <a:lnTo>
                    <a:pt x="487" y="240"/>
                  </a:lnTo>
                  <a:lnTo>
                    <a:pt x="455" y="237"/>
                  </a:lnTo>
                  <a:lnTo>
                    <a:pt x="421" y="234"/>
                  </a:lnTo>
                  <a:lnTo>
                    <a:pt x="391" y="230"/>
                  </a:lnTo>
                  <a:lnTo>
                    <a:pt x="360" y="227"/>
                  </a:lnTo>
                  <a:lnTo>
                    <a:pt x="332" y="225"/>
                  </a:lnTo>
                  <a:lnTo>
                    <a:pt x="301" y="221"/>
                  </a:lnTo>
                  <a:lnTo>
                    <a:pt x="272" y="218"/>
                  </a:lnTo>
                  <a:lnTo>
                    <a:pt x="245" y="214"/>
                  </a:lnTo>
                  <a:lnTo>
                    <a:pt x="218" y="211"/>
                  </a:lnTo>
                  <a:lnTo>
                    <a:pt x="192" y="208"/>
                  </a:lnTo>
                  <a:lnTo>
                    <a:pt x="167" y="207"/>
                  </a:lnTo>
                  <a:lnTo>
                    <a:pt x="145" y="204"/>
                  </a:lnTo>
                  <a:lnTo>
                    <a:pt x="123" y="202"/>
                  </a:lnTo>
                  <a:lnTo>
                    <a:pt x="102" y="199"/>
                  </a:lnTo>
                  <a:lnTo>
                    <a:pt x="84" y="196"/>
                  </a:lnTo>
                  <a:lnTo>
                    <a:pt x="66" y="195"/>
                  </a:lnTo>
                  <a:lnTo>
                    <a:pt x="50" y="193"/>
                  </a:lnTo>
                  <a:lnTo>
                    <a:pt x="35" y="190"/>
                  </a:lnTo>
                  <a:lnTo>
                    <a:pt x="22" y="189"/>
                  </a:lnTo>
                  <a:lnTo>
                    <a:pt x="9" y="187"/>
                  </a:lnTo>
                  <a:lnTo>
                    <a:pt x="0" y="187"/>
                  </a:lnTo>
                  <a:lnTo>
                    <a:pt x="35" y="177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4"/>
            <p:cNvSpPr/>
            <p:nvPr/>
          </p:nvSpPr>
          <p:spPr>
            <a:xfrm>
              <a:off x="520560" y="2426760"/>
              <a:ext cx="671400" cy="139500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1395000"/>
                <a:gd name="textAreaBottom" fmla="*/ 1395360 h 1395000"/>
              </a:gdLst>
              <a:ahLst/>
              <a:rect l="textAreaLeft" t="textAreaTop" r="textAreaRight" b="textAreaBottom"/>
              <a:pathLst>
                <a:path w="422" h="877">
                  <a:moveTo>
                    <a:pt x="0" y="0"/>
                  </a:moveTo>
                  <a:lnTo>
                    <a:pt x="387" y="34"/>
                  </a:lnTo>
                  <a:lnTo>
                    <a:pt x="422" y="877"/>
                  </a:lnTo>
                  <a:lnTo>
                    <a:pt x="29" y="795"/>
                  </a:lnTo>
                  <a:lnTo>
                    <a:pt x="12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"/>
            <p:cNvSpPr/>
            <p:nvPr/>
          </p:nvSpPr>
          <p:spPr>
            <a:xfrm>
              <a:off x="2178360" y="2086200"/>
              <a:ext cx="342000" cy="57240"/>
            </a:xfrm>
            <a:custGeom>
              <a:avLst/>
              <a:gdLst>
                <a:gd name="textAreaLeft" fmla="*/ 0 w 342000"/>
                <a:gd name="textAreaRight" fmla="*/ 342360 w 3420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5" h="36">
                  <a:moveTo>
                    <a:pt x="0" y="0"/>
                  </a:moveTo>
                  <a:lnTo>
                    <a:pt x="215" y="15"/>
                  </a:lnTo>
                  <a:lnTo>
                    <a:pt x="192" y="36"/>
                  </a:lnTo>
                  <a:lnTo>
                    <a:pt x="29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6"/>
            <p:cNvSpPr/>
            <p:nvPr/>
          </p:nvSpPr>
          <p:spPr>
            <a:xfrm>
              <a:off x="668520" y="3460680"/>
              <a:ext cx="574200" cy="14760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61" h="93">
                  <a:moveTo>
                    <a:pt x="15" y="0"/>
                  </a:moveTo>
                  <a:lnTo>
                    <a:pt x="352" y="63"/>
                  </a:lnTo>
                  <a:lnTo>
                    <a:pt x="361" y="93"/>
                  </a:lnTo>
                  <a:lnTo>
                    <a:pt x="0" y="28"/>
                  </a:lnTo>
                  <a:lnTo>
                    <a:pt x="9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"/>
            <p:cNvSpPr/>
            <p:nvPr/>
          </p:nvSpPr>
          <p:spPr>
            <a:xfrm>
              <a:off x="655920" y="2723760"/>
              <a:ext cx="575640" cy="14760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62" h="93">
                  <a:moveTo>
                    <a:pt x="14" y="0"/>
                  </a:moveTo>
                  <a:lnTo>
                    <a:pt x="351" y="64"/>
                  </a:lnTo>
                  <a:lnTo>
                    <a:pt x="362" y="93"/>
                  </a:lnTo>
                  <a:lnTo>
                    <a:pt x="0" y="27"/>
                  </a:lnTo>
                  <a:lnTo>
                    <a:pt x="8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8"/>
            <p:cNvSpPr/>
            <p:nvPr/>
          </p:nvSpPr>
          <p:spPr>
            <a:xfrm>
              <a:off x="660600" y="2968920"/>
              <a:ext cx="572760" cy="14616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60" h="92">
                  <a:moveTo>
                    <a:pt x="14" y="0"/>
                  </a:moveTo>
                  <a:lnTo>
                    <a:pt x="351" y="62"/>
                  </a:lnTo>
                  <a:lnTo>
                    <a:pt x="360" y="92"/>
                  </a:lnTo>
                  <a:lnTo>
                    <a:pt x="0" y="25"/>
                  </a:lnTo>
                  <a:lnTo>
                    <a:pt x="8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9"/>
            <p:cNvSpPr/>
            <p:nvPr/>
          </p:nvSpPr>
          <p:spPr>
            <a:xfrm>
              <a:off x="670320" y="3207600"/>
              <a:ext cx="572400" cy="1490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60" h="94">
                  <a:moveTo>
                    <a:pt x="14" y="0"/>
                  </a:moveTo>
                  <a:lnTo>
                    <a:pt x="351" y="64"/>
                  </a:lnTo>
                  <a:lnTo>
                    <a:pt x="360" y="94"/>
                  </a:lnTo>
                  <a:lnTo>
                    <a:pt x="0" y="27"/>
                  </a:lnTo>
                  <a:lnTo>
                    <a:pt x="8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>
              <a:off x="3429000" y="1648440"/>
              <a:ext cx="214560" cy="413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135" h="260">
                  <a:moveTo>
                    <a:pt x="71" y="0"/>
                  </a:moveTo>
                  <a:lnTo>
                    <a:pt x="108" y="33"/>
                  </a:lnTo>
                  <a:lnTo>
                    <a:pt x="108" y="65"/>
                  </a:lnTo>
                  <a:lnTo>
                    <a:pt x="135" y="99"/>
                  </a:lnTo>
                  <a:lnTo>
                    <a:pt x="134" y="99"/>
                  </a:lnTo>
                  <a:lnTo>
                    <a:pt x="134" y="103"/>
                  </a:lnTo>
                  <a:lnTo>
                    <a:pt x="134" y="106"/>
                  </a:lnTo>
                  <a:lnTo>
                    <a:pt x="132" y="112"/>
                  </a:lnTo>
                  <a:lnTo>
                    <a:pt x="131" y="120"/>
                  </a:lnTo>
                  <a:lnTo>
                    <a:pt x="129" y="128"/>
                  </a:lnTo>
                  <a:lnTo>
                    <a:pt x="128" y="132"/>
                  </a:lnTo>
                  <a:lnTo>
                    <a:pt x="128" y="138"/>
                  </a:lnTo>
                  <a:lnTo>
                    <a:pt x="126" y="144"/>
                  </a:lnTo>
                  <a:lnTo>
                    <a:pt x="125" y="149"/>
                  </a:lnTo>
                  <a:lnTo>
                    <a:pt x="123" y="155"/>
                  </a:lnTo>
                  <a:lnTo>
                    <a:pt x="122" y="160"/>
                  </a:lnTo>
                  <a:lnTo>
                    <a:pt x="120" y="166"/>
                  </a:lnTo>
                  <a:lnTo>
                    <a:pt x="118" y="172"/>
                  </a:lnTo>
                  <a:lnTo>
                    <a:pt x="115" y="178"/>
                  </a:lnTo>
                  <a:lnTo>
                    <a:pt x="114" y="184"/>
                  </a:lnTo>
                  <a:lnTo>
                    <a:pt x="112" y="190"/>
                  </a:lnTo>
                  <a:lnTo>
                    <a:pt x="111" y="196"/>
                  </a:lnTo>
                  <a:lnTo>
                    <a:pt x="108" y="202"/>
                  </a:lnTo>
                  <a:lnTo>
                    <a:pt x="105" y="208"/>
                  </a:lnTo>
                  <a:lnTo>
                    <a:pt x="102" y="214"/>
                  </a:lnTo>
                  <a:lnTo>
                    <a:pt x="100" y="220"/>
                  </a:lnTo>
                  <a:lnTo>
                    <a:pt x="97" y="225"/>
                  </a:lnTo>
                  <a:lnTo>
                    <a:pt x="94" y="233"/>
                  </a:lnTo>
                  <a:lnTo>
                    <a:pt x="91" y="237"/>
                  </a:lnTo>
                  <a:lnTo>
                    <a:pt x="88" y="243"/>
                  </a:lnTo>
                  <a:lnTo>
                    <a:pt x="64" y="242"/>
                  </a:lnTo>
                  <a:lnTo>
                    <a:pt x="44" y="260"/>
                  </a:lnTo>
                  <a:lnTo>
                    <a:pt x="0" y="255"/>
                  </a:lnTo>
                  <a:lnTo>
                    <a:pt x="0" y="252"/>
                  </a:lnTo>
                  <a:lnTo>
                    <a:pt x="3" y="249"/>
                  </a:lnTo>
                  <a:lnTo>
                    <a:pt x="5" y="243"/>
                  </a:lnTo>
                  <a:lnTo>
                    <a:pt x="8" y="234"/>
                  </a:lnTo>
                  <a:lnTo>
                    <a:pt x="9" y="229"/>
                  </a:lnTo>
                  <a:lnTo>
                    <a:pt x="11" y="223"/>
                  </a:lnTo>
                  <a:lnTo>
                    <a:pt x="14" y="219"/>
                  </a:lnTo>
                  <a:lnTo>
                    <a:pt x="17" y="213"/>
                  </a:lnTo>
                  <a:lnTo>
                    <a:pt x="18" y="205"/>
                  </a:lnTo>
                  <a:lnTo>
                    <a:pt x="21" y="199"/>
                  </a:lnTo>
                  <a:lnTo>
                    <a:pt x="24" y="191"/>
                  </a:lnTo>
                  <a:lnTo>
                    <a:pt x="27" y="185"/>
                  </a:lnTo>
                  <a:lnTo>
                    <a:pt x="29" y="178"/>
                  </a:lnTo>
                  <a:lnTo>
                    <a:pt x="32" y="169"/>
                  </a:lnTo>
                  <a:lnTo>
                    <a:pt x="35" y="161"/>
                  </a:lnTo>
                  <a:lnTo>
                    <a:pt x="36" y="154"/>
                  </a:lnTo>
                  <a:lnTo>
                    <a:pt x="39" y="144"/>
                  </a:lnTo>
                  <a:lnTo>
                    <a:pt x="43" y="135"/>
                  </a:lnTo>
                  <a:lnTo>
                    <a:pt x="46" y="126"/>
                  </a:lnTo>
                  <a:lnTo>
                    <a:pt x="49" y="119"/>
                  </a:lnTo>
                  <a:lnTo>
                    <a:pt x="50" y="108"/>
                  </a:lnTo>
                  <a:lnTo>
                    <a:pt x="52" y="100"/>
                  </a:lnTo>
                  <a:lnTo>
                    <a:pt x="55" y="90"/>
                  </a:lnTo>
                  <a:lnTo>
                    <a:pt x="58" y="82"/>
                  </a:lnTo>
                  <a:lnTo>
                    <a:pt x="59" y="73"/>
                  </a:lnTo>
                  <a:lnTo>
                    <a:pt x="61" y="64"/>
                  </a:lnTo>
                  <a:lnTo>
                    <a:pt x="62" y="55"/>
                  </a:lnTo>
                  <a:lnTo>
                    <a:pt x="64" y="4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3121920" y="1295280"/>
              <a:ext cx="410400" cy="81288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258" h="511">
                  <a:moveTo>
                    <a:pt x="119" y="0"/>
                  </a:moveTo>
                  <a:lnTo>
                    <a:pt x="251" y="123"/>
                  </a:lnTo>
                  <a:lnTo>
                    <a:pt x="251" y="125"/>
                  </a:lnTo>
                  <a:lnTo>
                    <a:pt x="252" y="129"/>
                  </a:lnTo>
                  <a:lnTo>
                    <a:pt x="252" y="134"/>
                  </a:lnTo>
                  <a:lnTo>
                    <a:pt x="254" y="139"/>
                  </a:lnTo>
                  <a:lnTo>
                    <a:pt x="254" y="145"/>
                  </a:lnTo>
                  <a:lnTo>
                    <a:pt x="255" y="152"/>
                  </a:lnTo>
                  <a:lnTo>
                    <a:pt x="255" y="160"/>
                  </a:lnTo>
                  <a:lnTo>
                    <a:pt x="257" y="169"/>
                  </a:lnTo>
                  <a:lnTo>
                    <a:pt x="257" y="173"/>
                  </a:lnTo>
                  <a:lnTo>
                    <a:pt x="257" y="178"/>
                  </a:lnTo>
                  <a:lnTo>
                    <a:pt x="257" y="184"/>
                  </a:lnTo>
                  <a:lnTo>
                    <a:pt x="258" y="189"/>
                  </a:lnTo>
                  <a:lnTo>
                    <a:pt x="258" y="193"/>
                  </a:lnTo>
                  <a:lnTo>
                    <a:pt x="258" y="199"/>
                  </a:lnTo>
                  <a:lnTo>
                    <a:pt x="258" y="205"/>
                  </a:lnTo>
                  <a:lnTo>
                    <a:pt x="258" y="211"/>
                  </a:lnTo>
                  <a:lnTo>
                    <a:pt x="258" y="216"/>
                  </a:lnTo>
                  <a:lnTo>
                    <a:pt x="258" y="224"/>
                  </a:lnTo>
                  <a:lnTo>
                    <a:pt x="258" y="230"/>
                  </a:lnTo>
                  <a:lnTo>
                    <a:pt x="258" y="237"/>
                  </a:lnTo>
                  <a:lnTo>
                    <a:pt x="258" y="243"/>
                  </a:lnTo>
                  <a:lnTo>
                    <a:pt x="257" y="251"/>
                  </a:lnTo>
                  <a:lnTo>
                    <a:pt x="257" y="257"/>
                  </a:lnTo>
                  <a:lnTo>
                    <a:pt x="257" y="265"/>
                  </a:lnTo>
                  <a:lnTo>
                    <a:pt x="255" y="271"/>
                  </a:lnTo>
                  <a:lnTo>
                    <a:pt x="254" y="278"/>
                  </a:lnTo>
                  <a:lnTo>
                    <a:pt x="254" y="286"/>
                  </a:lnTo>
                  <a:lnTo>
                    <a:pt x="252" y="293"/>
                  </a:lnTo>
                  <a:lnTo>
                    <a:pt x="251" y="301"/>
                  </a:lnTo>
                  <a:lnTo>
                    <a:pt x="251" y="309"/>
                  </a:lnTo>
                  <a:lnTo>
                    <a:pt x="248" y="318"/>
                  </a:lnTo>
                  <a:lnTo>
                    <a:pt x="248" y="325"/>
                  </a:lnTo>
                  <a:lnTo>
                    <a:pt x="245" y="334"/>
                  </a:lnTo>
                  <a:lnTo>
                    <a:pt x="243" y="342"/>
                  </a:lnTo>
                  <a:lnTo>
                    <a:pt x="242" y="351"/>
                  </a:lnTo>
                  <a:lnTo>
                    <a:pt x="240" y="360"/>
                  </a:lnTo>
                  <a:lnTo>
                    <a:pt x="237" y="368"/>
                  </a:lnTo>
                  <a:lnTo>
                    <a:pt x="234" y="377"/>
                  </a:lnTo>
                  <a:lnTo>
                    <a:pt x="231" y="386"/>
                  </a:lnTo>
                  <a:lnTo>
                    <a:pt x="229" y="395"/>
                  </a:lnTo>
                  <a:lnTo>
                    <a:pt x="226" y="404"/>
                  </a:lnTo>
                  <a:lnTo>
                    <a:pt x="223" y="413"/>
                  </a:lnTo>
                  <a:lnTo>
                    <a:pt x="220" y="423"/>
                  </a:lnTo>
                  <a:lnTo>
                    <a:pt x="217" y="432"/>
                  </a:lnTo>
                  <a:lnTo>
                    <a:pt x="213" y="441"/>
                  </a:lnTo>
                  <a:lnTo>
                    <a:pt x="210" y="451"/>
                  </a:lnTo>
                  <a:lnTo>
                    <a:pt x="205" y="461"/>
                  </a:lnTo>
                  <a:lnTo>
                    <a:pt x="201" y="470"/>
                  </a:lnTo>
                  <a:lnTo>
                    <a:pt x="196" y="479"/>
                  </a:lnTo>
                  <a:lnTo>
                    <a:pt x="191" y="491"/>
                  </a:lnTo>
                  <a:lnTo>
                    <a:pt x="187" y="500"/>
                  </a:lnTo>
                  <a:lnTo>
                    <a:pt x="182" y="511"/>
                  </a:lnTo>
                  <a:lnTo>
                    <a:pt x="0" y="465"/>
                  </a:lnTo>
                  <a:lnTo>
                    <a:pt x="100" y="66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2264400" y="1230480"/>
              <a:ext cx="986400" cy="798120"/>
            </a:xfrm>
            <a:custGeom>
              <a:avLst/>
              <a:gdLst>
                <a:gd name="textAreaLeft" fmla="*/ 0 w 986400"/>
                <a:gd name="textAreaRight" fmla="*/ 986760 w 98640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620" h="502">
                  <a:moveTo>
                    <a:pt x="0" y="421"/>
                  </a:moveTo>
                  <a:lnTo>
                    <a:pt x="83" y="0"/>
                  </a:lnTo>
                  <a:lnTo>
                    <a:pt x="620" y="17"/>
                  </a:lnTo>
                  <a:lnTo>
                    <a:pt x="501" y="502"/>
                  </a:lnTo>
                  <a:lnTo>
                    <a:pt x="41" y="433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2455200" y="1448280"/>
              <a:ext cx="605880" cy="437040"/>
            </a:xfrm>
            <a:custGeom>
              <a:avLst/>
              <a:gdLst>
                <a:gd name="textAreaLeft" fmla="*/ 0 w 605880"/>
                <a:gd name="textAreaRight" fmla="*/ 606240 w 60588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381" h="275">
                  <a:moveTo>
                    <a:pt x="0" y="245"/>
                  </a:moveTo>
                  <a:lnTo>
                    <a:pt x="44" y="0"/>
                  </a:lnTo>
                  <a:lnTo>
                    <a:pt x="381" y="24"/>
                  </a:lnTo>
                  <a:lnTo>
                    <a:pt x="314" y="275"/>
                  </a:lnTo>
                  <a:lnTo>
                    <a:pt x="74" y="255"/>
                  </a:lnTo>
                  <a:lnTo>
                    <a:pt x="24" y="249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d4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4"/>
            <p:cNvSpPr/>
            <p:nvPr/>
          </p:nvSpPr>
          <p:spPr>
            <a:xfrm>
              <a:off x="2520720" y="1996920"/>
              <a:ext cx="569520" cy="22428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358" h="141">
                  <a:moveTo>
                    <a:pt x="1" y="106"/>
                  </a:moveTo>
                  <a:lnTo>
                    <a:pt x="1" y="105"/>
                  </a:lnTo>
                  <a:lnTo>
                    <a:pt x="3" y="102"/>
                  </a:lnTo>
                  <a:lnTo>
                    <a:pt x="6" y="97"/>
                  </a:lnTo>
                  <a:lnTo>
                    <a:pt x="10" y="92"/>
                  </a:lnTo>
                  <a:lnTo>
                    <a:pt x="15" y="85"/>
                  </a:lnTo>
                  <a:lnTo>
                    <a:pt x="21" y="77"/>
                  </a:lnTo>
                  <a:lnTo>
                    <a:pt x="27" y="68"/>
                  </a:lnTo>
                  <a:lnTo>
                    <a:pt x="35" y="61"/>
                  </a:lnTo>
                  <a:lnTo>
                    <a:pt x="41" y="50"/>
                  </a:lnTo>
                  <a:lnTo>
                    <a:pt x="48" y="41"/>
                  </a:lnTo>
                  <a:lnTo>
                    <a:pt x="56" y="32"/>
                  </a:lnTo>
                  <a:lnTo>
                    <a:pt x="65" y="24"/>
                  </a:lnTo>
                  <a:lnTo>
                    <a:pt x="71" y="15"/>
                  </a:lnTo>
                  <a:lnTo>
                    <a:pt x="80" y="9"/>
                  </a:lnTo>
                  <a:lnTo>
                    <a:pt x="88" y="4"/>
                  </a:lnTo>
                  <a:lnTo>
                    <a:pt x="94" y="0"/>
                  </a:lnTo>
                  <a:lnTo>
                    <a:pt x="305" y="23"/>
                  </a:lnTo>
                  <a:lnTo>
                    <a:pt x="307" y="24"/>
                  </a:lnTo>
                  <a:lnTo>
                    <a:pt x="311" y="30"/>
                  </a:lnTo>
                  <a:lnTo>
                    <a:pt x="314" y="35"/>
                  </a:lnTo>
                  <a:lnTo>
                    <a:pt x="319" y="41"/>
                  </a:lnTo>
                  <a:lnTo>
                    <a:pt x="323" y="47"/>
                  </a:lnTo>
                  <a:lnTo>
                    <a:pt x="329" y="55"/>
                  </a:lnTo>
                  <a:lnTo>
                    <a:pt x="334" y="61"/>
                  </a:lnTo>
                  <a:lnTo>
                    <a:pt x="338" y="70"/>
                  </a:lnTo>
                  <a:lnTo>
                    <a:pt x="343" y="77"/>
                  </a:lnTo>
                  <a:lnTo>
                    <a:pt x="348" y="86"/>
                  </a:lnTo>
                  <a:lnTo>
                    <a:pt x="351" y="96"/>
                  </a:lnTo>
                  <a:lnTo>
                    <a:pt x="354" y="105"/>
                  </a:lnTo>
                  <a:lnTo>
                    <a:pt x="357" y="114"/>
                  </a:lnTo>
                  <a:lnTo>
                    <a:pt x="358" y="123"/>
                  </a:lnTo>
                  <a:lnTo>
                    <a:pt x="357" y="123"/>
                  </a:lnTo>
                  <a:lnTo>
                    <a:pt x="352" y="124"/>
                  </a:lnTo>
                  <a:lnTo>
                    <a:pt x="348" y="124"/>
                  </a:lnTo>
                  <a:lnTo>
                    <a:pt x="343" y="124"/>
                  </a:lnTo>
                  <a:lnTo>
                    <a:pt x="338" y="126"/>
                  </a:lnTo>
                  <a:lnTo>
                    <a:pt x="334" y="127"/>
                  </a:lnTo>
                  <a:lnTo>
                    <a:pt x="326" y="129"/>
                  </a:lnTo>
                  <a:lnTo>
                    <a:pt x="320" y="129"/>
                  </a:lnTo>
                  <a:lnTo>
                    <a:pt x="311" y="130"/>
                  </a:lnTo>
                  <a:lnTo>
                    <a:pt x="305" y="132"/>
                  </a:lnTo>
                  <a:lnTo>
                    <a:pt x="296" y="134"/>
                  </a:lnTo>
                  <a:lnTo>
                    <a:pt x="287" y="135"/>
                  </a:lnTo>
                  <a:lnTo>
                    <a:pt x="278" y="137"/>
                  </a:lnTo>
                  <a:lnTo>
                    <a:pt x="269" y="138"/>
                  </a:lnTo>
                  <a:lnTo>
                    <a:pt x="264" y="138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7" y="138"/>
                  </a:lnTo>
                  <a:lnTo>
                    <a:pt x="241" y="138"/>
                  </a:lnTo>
                  <a:lnTo>
                    <a:pt x="237" y="140"/>
                  </a:lnTo>
                  <a:lnTo>
                    <a:pt x="231" y="140"/>
                  </a:lnTo>
                  <a:lnTo>
                    <a:pt x="226" y="140"/>
                  </a:lnTo>
                  <a:lnTo>
                    <a:pt x="220" y="140"/>
                  </a:lnTo>
                  <a:lnTo>
                    <a:pt x="214" y="140"/>
                  </a:lnTo>
                  <a:lnTo>
                    <a:pt x="209" y="140"/>
                  </a:lnTo>
                  <a:lnTo>
                    <a:pt x="203" y="140"/>
                  </a:lnTo>
                  <a:lnTo>
                    <a:pt x="197" y="140"/>
                  </a:lnTo>
                  <a:lnTo>
                    <a:pt x="191" y="140"/>
                  </a:lnTo>
                  <a:lnTo>
                    <a:pt x="187" y="140"/>
                  </a:lnTo>
                  <a:lnTo>
                    <a:pt x="180" y="141"/>
                  </a:lnTo>
                  <a:lnTo>
                    <a:pt x="174" y="140"/>
                  </a:lnTo>
                  <a:lnTo>
                    <a:pt x="168" y="140"/>
                  </a:lnTo>
                  <a:lnTo>
                    <a:pt x="162" y="140"/>
                  </a:lnTo>
                  <a:lnTo>
                    <a:pt x="156" y="140"/>
                  </a:lnTo>
                  <a:lnTo>
                    <a:pt x="150" y="138"/>
                  </a:lnTo>
                  <a:lnTo>
                    <a:pt x="144" y="138"/>
                  </a:lnTo>
                  <a:lnTo>
                    <a:pt x="138" y="138"/>
                  </a:lnTo>
                  <a:lnTo>
                    <a:pt x="133" y="138"/>
                  </a:lnTo>
                  <a:lnTo>
                    <a:pt x="126" y="137"/>
                  </a:lnTo>
                  <a:lnTo>
                    <a:pt x="120" y="137"/>
                  </a:lnTo>
                  <a:lnTo>
                    <a:pt x="114" y="135"/>
                  </a:lnTo>
                  <a:lnTo>
                    <a:pt x="108" y="135"/>
                  </a:lnTo>
                  <a:lnTo>
                    <a:pt x="101" y="134"/>
                  </a:lnTo>
                  <a:lnTo>
                    <a:pt x="97" y="134"/>
                  </a:lnTo>
                  <a:lnTo>
                    <a:pt x="91" y="132"/>
                  </a:lnTo>
                  <a:lnTo>
                    <a:pt x="85" y="132"/>
                  </a:lnTo>
                  <a:lnTo>
                    <a:pt x="83" y="130"/>
                  </a:lnTo>
                  <a:lnTo>
                    <a:pt x="80" y="129"/>
                  </a:lnTo>
                  <a:lnTo>
                    <a:pt x="76" y="129"/>
                  </a:lnTo>
                  <a:lnTo>
                    <a:pt x="71" y="127"/>
                  </a:lnTo>
                  <a:lnTo>
                    <a:pt x="65" y="124"/>
                  </a:lnTo>
                  <a:lnTo>
                    <a:pt x="57" y="123"/>
                  </a:lnTo>
                  <a:lnTo>
                    <a:pt x="48" y="121"/>
                  </a:lnTo>
                  <a:lnTo>
                    <a:pt x="42" y="120"/>
                  </a:lnTo>
                  <a:lnTo>
                    <a:pt x="33" y="117"/>
                  </a:lnTo>
                  <a:lnTo>
                    <a:pt x="25" y="115"/>
                  </a:lnTo>
                  <a:lnTo>
                    <a:pt x="18" y="112"/>
                  </a:lnTo>
                  <a:lnTo>
                    <a:pt x="12" y="111"/>
                  </a:lnTo>
                  <a:lnTo>
                    <a:pt x="6" y="109"/>
                  </a:lnTo>
                  <a:lnTo>
                    <a:pt x="3" y="108"/>
                  </a:lnTo>
                  <a:lnTo>
                    <a:pt x="0" y="106"/>
                  </a:lnTo>
                  <a:lnTo>
                    <a:pt x="1" y="106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6"/>
            <p:cNvSpPr/>
            <p:nvPr/>
          </p:nvSpPr>
          <p:spPr>
            <a:xfrm>
              <a:off x="1562760" y="1936440"/>
              <a:ext cx="665280" cy="238680"/>
            </a:xfrm>
            <a:custGeom>
              <a:avLst/>
              <a:gdLst>
                <a:gd name="textAreaLeft" fmla="*/ 0 w 665280"/>
                <a:gd name="textAreaRight" fmla="*/ 665280 w 6652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418" h="150">
                  <a:moveTo>
                    <a:pt x="0" y="20"/>
                  </a:moveTo>
                  <a:lnTo>
                    <a:pt x="258" y="0"/>
                  </a:lnTo>
                  <a:lnTo>
                    <a:pt x="418" y="149"/>
                  </a:lnTo>
                  <a:lnTo>
                    <a:pt x="163" y="150"/>
                  </a:lnTo>
                  <a:lnTo>
                    <a:pt x="20" y="4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529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7"/>
            <p:cNvSpPr/>
            <p:nvPr/>
          </p:nvSpPr>
          <p:spPr>
            <a:xfrm>
              <a:off x="1526040" y="2006280"/>
              <a:ext cx="278280" cy="307080"/>
            </a:xfrm>
            <a:custGeom>
              <a:avLst/>
              <a:gdLst>
                <a:gd name="textAreaLeft" fmla="*/ 0 w 278280"/>
                <a:gd name="textAreaRight" fmla="*/ 278640 w 2782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75" h="193">
                  <a:moveTo>
                    <a:pt x="161" y="191"/>
                  </a:moveTo>
                  <a:lnTo>
                    <a:pt x="3" y="53"/>
                  </a:lnTo>
                  <a:lnTo>
                    <a:pt x="3" y="50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9"/>
                  </a:lnTo>
                  <a:lnTo>
                    <a:pt x="9" y="3"/>
                  </a:lnTo>
                  <a:lnTo>
                    <a:pt x="17" y="0"/>
                  </a:lnTo>
                  <a:lnTo>
                    <a:pt x="157" y="123"/>
                  </a:lnTo>
                  <a:lnTo>
                    <a:pt x="155" y="123"/>
                  </a:lnTo>
                  <a:lnTo>
                    <a:pt x="154" y="126"/>
                  </a:lnTo>
                  <a:lnTo>
                    <a:pt x="152" y="129"/>
                  </a:lnTo>
                  <a:lnTo>
                    <a:pt x="151" y="134"/>
                  </a:lnTo>
                  <a:lnTo>
                    <a:pt x="149" y="140"/>
                  </a:lnTo>
                  <a:lnTo>
                    <a:pt x="149" y="147"/>
                  </a:lnTo>
                  <a:lnTo>
                    <a:pt x="151" y="155"/>
                  </a:lnTo>
                  <a:lnTo>
                    <a:pt x="155" y="164"/>
                  </a:lnTo>
                  <a:lnTo>
                    <a:pt x="175" y="193"/>
                  </a:lnTo>
                  <a:lnTo>
                    <a:pt x="161" y="191"/>
                  </a:lnTo>
                  <a:close/>
                </a:path>
              </a:pathLst>
            </a:cu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8"/>
            <p:cNvSpPr/>
            <p:nvPr/>
          </p:nvSpPr>
          <p:spPr>
            <a:xfrm>
              <a:off x="1828440" y="2214720"/>
              <a:ext cx="454680" cy="103320"/>
            </a:xfrm>
            <a:custGeom>
              <a:avLst/>
              <a:gdLst>
                <a:gd name="textAreaLeft" fmla="*/ 0 w 454680"/>
                <a:gd name="textAreaRight" fmla="*/ 454680 w 4546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86" h="65">
                  <a:moveTo>
                    <a:pt x="27" y="6"/>
                  </a:moveTo>
                  <a:lnTo>
                    <a:pt x="286" y="0"/>
                  </a:lnTo>
                  <a:lnTo>
                    <a:pt x="281" y="3"/>
                  </a:lnTo>
                  <a:lnTo>
                    <a:pt x="277" y="10"/>
                  </a:lnTo>
                  <a:lnTo>
                    <a:pt x="272" y="16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8"/>
                  </a:lnTo>
                  <a:lnTo>
                    <a:pt x="271" y="44"/>
                  </a:lnTo>
                  <a:lnTo>
                    <a:pt x="274" y="51"/>
                  </a:lnTo>
                  <a:lnTo>
                    <a:pt x="272" y="51"/>
                  </a:lnTo>
                  <a:lnTo>
                    <a:pt x="264" y="51"/>
                  </a:lnTo>
                  <a:lnTo>
                    <a:pt x="258" y="51"/>
                  </a:lnTo>
                  <a:lnTo>
                    <a:pt x="254" y="53"/>
                  </a:lnTo>
                  <a:lnTo>
                    <a:pt x="246" y="53"/>
                  </a:lnTo>
                  <a:lnTo>
                    <a:pt x="240" y="54"/>
                  </a:lnTo>
                  <a:lnTo>
                    <a:pt x="231" y="54"/>
                  </a:lnTo>
                  <a:lnTo>
                    <a:pt x="223" y="56"/>
                  </a:lnTo>
                  <a:lnTo>
                    <a:pt x="213" y="56"/>
                  </a:lnTo>
                  <a:lnTo>
                    <a:pt x="204" y="57"/>
                  </a:lnTo>
                  <a:lnTo>
                    <a:pt x="199" y="57"/>
                  </a:lnTo>
                  <a:lnTo>
                    <a:pt x="195" y="59"/>
                  </a:lnTo>
                  <a:lnTo>
                    <a:pt x="188" y="59"/>
                  </a:lnTo>
                  <a:lnTo>
                    <a:pt x="184" y="60"/>
                  </a:lnTo>
                  <a:lnTo>
                    <a:pt x="179" y="60"/>
                  </a:lnTo>
                  <a:lnTo>
                    <a:pt x="173" y="60"/>
                  </a:lnTo>
                  <a:lnTo>
                    <a:pt x="167" y="62"/>
                  </a:lnTo>
                  <a:lnTo>
                    <a:pt x="163" y="62"/>
                  </a:lnTo>
                  <a:lnTo>
                    <a:pt x="157" y="62"/>
                  </a:lnTo>
                  <a:lnTo>
                    <a:pt x="152" y="62"/>
                  </a:lnTo>
                  <a:lnTo>
                    <a:pt x="146" y="62"/>
                  </a:lnTo>
                  <a:lnTo>
                    <a:pt x="140" y="63"/>
                  </a:lnTo>
                  <a:lnTo>
                    <a:pt x="135" y="63"/>
                  </a:lnTo>
                  <a:lnTo>
                    <a:pt x="129" y="63"/>
                  </a:lnTo>
                  <a:lnTo>
                    <a:pt x="125" y="63"/>
                  </a:lnTo>
                  <a:lnTo>
                    <a:pt x="119" y="65"/>
                  </a:lnTo>
                  <a:lnTo>
                    <a:pt x="114" y="65"/>
                  </a:lnTo>
                  <a:lnTo>
                    <a:pt x="108" y="65"/>
                  </a:lnTo>
                  <a:lnTo>
                    <a:pt x="102" y="65"/>
                  </a:lnTo>
                  <a:lnTo>
                    <a:pt x="97" y="65"/>
                  </a:lnTo>
                  <a:lnTo>
                    <a:pt x="91" y="65"/>
                  </a:lnTo>
                  <a:lnTo>
                    <a:pt x="87" y="65"/>
                  </a:lnTo>
                  <a:lnTo>
                    <a:pt x="82" y="65"/>
                  </a:lnTo>
                  <a:lnTo>
                    <a:pt x="78" y="65"/>
                  </a:lnTo>
                  <a:lnTo>
                    <a:pt x="67" y="63"/>
                  </a:lnTo>
                  <a:lnTo>
                    <a:pt x="58" y="63"/>
                  </a:lnTo>
                  <a:lnTo>
                    <a:pt x="50" y="62"/>
                  </a:lnTo>
                  <a:lnTo>
                    <a:pt x="43" y="62"/>
                  </a:lnTo>
                  <a:lnTo>
                    <a:pt x="33" y="60"/>
                  </a:lnTo>
                  <a:lnTo>
                    <a:pt x="29" y="59"/>
                  </a:lnTo>
                  <a:lnTo>
                    <a:pt x="23" y="57"/>
                  </a:lnTo>
                  <a:lnTo>
                    <a:pt x="18" y="56"/>
                  </a:lnTo>
                  <a:lnTo>
                    <a:pt x="11" y="50"/>
                  </a:lnTo>
                  <a:lnTo>
                    <a:pt x="5" y="45"/>
                  </a:lnTo>
                  <a:lnTo>
                    <a:pt x="2" y="41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5" y="21"/>
                  </a:lnTo>
                  <a:lnTo>
                    <a:pt x="12" y="13"/>
                  </a:lnTo>
                  <a:lnTo>
                    <a:pt x="18" y="9"/>
                  </a:lnTo>
                  <a:lnTo>
                    <a:pt x="24" y="6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94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9"/>
            <p:cNvSpPr/>
            <p:nvPr/>
          </p:nvSpPr>
          <p:spPr>
            <a:xfrm>
              <a:off x="3018600" y="2351520"/>
              <a:ext cx="541080" cy="24480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340" h="154">
                  <a:moveTo>
                    <a:pt x="129" y="35"/>
                  </a:moveTo>
                  <a:lnTo>
                    <a:pt x="182" y="0"/>
                  </a:lnTo>
                  <a:lnTo>
                    <a:pt x="187" y="0"/>
                  </a:lnTo>
                  <a:lnTo>
                    <a:pt x="193" y="2"/>
                  </a:lnTo>
                  <a:lnTo>
                    <a:pt x="202" y="2"/>
                  </a:lnTo>
                  <a:lnTo>
                    <a:pt x="206" y="2"/>
                  </a:lnTo>
                  <a:lnTo>
                    <a:pt x="212" y="3"/>
                  </a:lnTo>
                  <a:lnTo>
                    <a:pt x="218" y="3"/>
                  </a:lnTo>
                  <a:lnTo>
                    <a:pt x="225" y="5"/>
                  </a:lnTo>
                  <a:lnTo>
                    <a:pt x="231" y="5"/>
                  </a:lnTo>
                  <a:lnTo>
                    <a:pt x="238" y="6"/>
                  </a:lnTo>
                  <a:lnTo>
                    <a:pt x="244" y="6"/>
                  </a:lnTo>
                  <a:lnTo>
                    <a:pt x="252" y="8"/>
                  </a:lnTo>
                  <a:lnTo>
                    <a:pt x="258" y="8"/>
                  </a:lnTo>
                  <a:lnTo>
                    <a:pt x="266" y="11"/>
                  </a:lnTo>
                  <a:lnTo>
                    <a:pt x="272" y="11"/>
                  </a:lnTo>
                  <a:lnTo>
                    <a:pt x="279" y="12"/>
                  </a:lnTo>
                  <a:lnTo>
                    <a:pt x="285" y="12"/>
                  </a:lnTo>
                  <a:lnTo>
                    <a:pt x="293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0" y="17"/>
                  </a:lnTo>
                  <a:lnTo>
                    <a:pt x="316" y="18"/>
                  </a:lnTo>
                  <a:lnTo>
                    <a:pt x="320" y="20"/>
                  </a:lnTo>
                  <a:lnTo>
                    <a:pt x="326" y="21"/>
                  </a:lnTo>
                  <a:lnTo>
                    <a:pt x="334" y="23"/>
                  </a:lnTo>
                  <a:lnTo>
                    <a:pt x="340" y="26"/>
                  </a:lnTo>
                  <a:lnTo>
                    <a:pt x="146" y="154"/>
                  </a:lnTo>
                  <a:lnTo>
                    <a:pt x="0" y="120"/>
                  </a:lnTo>
                  <a:lnTo>
                    <a:pt x="111" y="47"/>
                  </a:lnTo>
                  <a:lnTo>
                    <a:pt x="129" y="35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"/>
            <p:cNvSpPr/>
            <p:nvPr/>
          </p:nvSpPr>
          <p:spPr>
            <a:xfrm>
              <a:off x="2382120" y="2248560"/>
              <a:ext cx="1069200" cy="282960"/>
            </a:xfrm>
            <a:custGeom>
              <a:avLst/>
              <a:gdLst>
                <a:gd name="textAreaLeft" fmla="*/ 0 w 1069200"/>
                <a:gd name="textAreaRight" fmla="*/ 1069560 w 106920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672" h="178">
                  <a:moveTo>
                    <a:pt x="0" y="70"/>
                  </a:moveTo>
                  <a:lnTo>
                    <a:pt x="5" y="68"/>
                  </a:lnTo>
                  <a:lnTo>
                    <a:pt x="9" y="64"/>
                  </a:lnTo>
                  <a:lnTo>
                    <a:pt x="17" y="61"/>
                  </a:lnTo>
                  <a:lnTo>
                    <a:pt x="26" y="55"/>
                  </a:lnTo>
                  <a:lnTo>
                    <a:pt x="35" y="50"/>
                  </a:lnTo>
                  <a:lnTo>
                    <a:pt x="41" y="45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8" y="38"/>
                  </a:lnTo>
                  <a:lnTo>
                    <a:pt x="64" y="35"/>
                  </a:lnTo>
                  <a:lnTo>
                    <a:pt x="68" y="30"/>
                  </a:lnTo>
                  <a:lnTo>
                    <a:pt x="74" y="27"/>
                  </a:lnTo>
                  <a:lnTo>
                    <a:pt x="81" y="24"/>
                  </a:lnTo>
                  <a:lnTo>
                    <a:pt x="87" y="21"/>
                  </a:lnTo>
                  <a:lnTo>
                    <a:pt x="91" y="18"/>
                  </a:lnTo>
                  <a:lnTo>
                    <a:pt x="97" y="17"/>
                  </a:lnTo>
                  <a:lnTo>
                    <a:pt x="103" y="13"/>
                  </a:lnTo>
                  <a:lnTo>
                    <a:pt x="112" y="7"/>
                  </a:lnTo>
                  <a:lnTo>
                    <a:pt x="122" y="4"/>
                  </a:lnTo>
                  <a:lnTo>
                    <a:pt x="129" y="1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2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5" y="3"/>
                  </a:lnTo>
                  <a:lnTo>
                    <a:pt x="181" y="4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2" y="6"/>
                  </a:lnTo>
                  <a:lnTo>
                    <a:pt x="208" y="7"/>
                  </a:lnTo>
                  <a:lnTo>
                    <a:pt x="216" y="7"/>
                  </a:lnTo>
                  <a:lnTo>
                    <a:pt x="225" y="9"/>
                  </a:lnTo>
                  <a:lnTo>
                    <a:pt x="231" y="9"/>
                  </a:lnTo>
                  <a:lnTo>
                    <a:pt x="240" y="9"/>
                  </a:lnTo>
                  <a:lnTo>
                    <a:pt x="249" y="10"/>
                  </a:lnTo>
                  <a:lnTo>
                    <a:pt x="258" y="12"/>
                  </a:lnTo>
                  <a:lnTo>
                    <a:pt x="266" y="12"/>
                  </a:lnTo>
                  <a:lnTo>
                    <a:pt x="275" y="13"/>
                  </a:lnTo>
                  <a:lnTo>
                    <a:pt x="284" y="13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3" y="18"/>
                  </a:lnTo>
                  <a:lnTo>
                    <a:pt x="322" y="18"/>
                  </a:lnTo>
                  <a:lnTo>
                    <a:pt x="333" y="21"/>
                  </a:lnTo>
                  <a:lnTo>
                    <a:pt x="342" y="21"/>
                  </a:lnTo>
                  <a:lnTo>
                    <a:pt x="351" y="23"/>
                  </a:lnTo>
                  <a:lnTo>
                    <a:pt x="360" y="23"/>
                  </a:lnTo>
                  <a:lnTo>
                    <a:pt x="369" y="24"/>
                  </a:lnTo>
                  <a:lnTo>
                    <a:pt x="378" y="24"/>
                  </a:lnTo>
                  <a:lnTo>
                    <a:pt x="389" y="26"/>
                  </a:lnTo>
                  <a:lnTo>
                    <a:pt x="398" y="26"/>
                  </a:lnTo>
                  <a:lnTo>
                    <a:pt x="407" y="27"/>
                  </a:lnTo>
                  <a:lnTo>
                    <a:pt x="416" y="27"/>
                  </a:lnTo>
                  <a:lnTo>
                    <a:pt x="425" y="30"/>
                  </a:lnTo>
                  <a:lnTo>
                    <a:pt x="435" y="30"/>
                  </a:lnTo>
                  <a:lnTo>
                    <a:pt x="444" y="32"/>
                  </a:lnTo>
                  <a:lnTo>
                    <a:pt x="453" y="32"/>
                  </a:lnTo>
                  <a:lnTo>
                    <a:pt x="462" y="33"/>
                  </a:lnTo>
                  <a:lnTo>
                    <a:pt x="470" y="35"/>
                  </a:lnTo>
                  <a:lnTo>
                    <a:pt x="479" y="36"/>
                  </a:lnTo>
                  <a:lnTo>
                    <a:pt x="486" y="36"/>
                  </a:lnTo>
                  <a:lnTo>
                    <a:pt x="494" y="36"/>
                  </a:lnTo>
                  <a:lnTo>
                    <a:pt x="500" y="38"/>
                  </a:lnTo>
                  <a:lnTo>
                    <a:pt x="508" y="39"/>
                  </a:lnTo>
                  <a:lnTo>
                    <a:pt x="514" y="39"/>
                  </a:lnTo>
                  <a:lnTo>
                    <a:pt x="521" y="41"/>
                  </a:lnTo>
                  <a:lnTo>
                    <a:pt x="527" y="41"/>
                  </a:lnTo>
                  <a:lnTo>
                    <a:pt x="535" y="44"/>
                  </a:lnTo>
                  <a:lnTo>
                    <a:pt x="538" y="44"/>
                  </a:lnTo>
                  <a:lnTo>
                    <a:pt x="544" y="44"/>
                  </a:lnTo>
                  <a:lnTo>
                    <a:pt x="549" y="45"/>
                  </a:lnTo>
                  <a:lnTo>
                    <a:pt x="555" y="45"/>
                  </a:lnTo>
                  <a:lnTo>
                    <a:pt x="561" y="47"/>
                  </a:lnTo>
                  <a:lnTo>
                    <a:pt x="568" y="48"/>
                  </a:lnTo>
                  <a:lnTo>
                    <a:pt x="529" y="85"/>
                  </a:lnTo>
                  <a:lnTo>
                    <a:pt x="672" y="103"/>
                  </a:lnTo>
                  <a:lnTo>
                    <a:pt x="620" y="137"/>
                  </a:lnTo>
                  <a:lnTo>
                    <a:pt x="618" y="135"/>
                  </a:lnTo>
                  <a:lnTo>
                    <a:pt x="615" y="134"/>
                  </a:lnTo>
                  <a:lnTo>
                    <a:pt x="609" y="132"/>
                  </a:lnTo>
                  <a:lnTo>
                    <a:pt x="603" y="132"/>
                  </a:lnTo>
                  <a:lnTo>
                    <a:pt x="599" y="129"/>
                  </a:lnTo>
                  <a:lnTo>
                    <a:pt x="594" y="129"/>
                  </a:lnTo>
                  <a:lnTo>
                    <a:pt x="590" y="127"/>
                  </a:lnTo>
                  <a:lnTo>
                    <a:pt x="585" y="127"/>
                  </a:lnTo>
                  <a:lnTo>
                    <a:pt x="579" y="126"/>
                  </a:lnTo>
                  <a:lnTo>
                    <a:pt x="574" y="126"/>
                  </a:lnTo>
                  <a:lnTo>
                    <a:pt x="570" y="124"/>
                  </a:lnTo>
                  <a:lnTo>
                    <a:pt x="565" y="124"/>
                  </a:lnTo>
                  <a:lnTo>
                    <a:pt x="559" y="123"/>
                  </a:lnTo>
                  <a:lnTo>
                    <a:pt x="552" y="121"/>
                  </a:lnTo>
                  <a:lnTo>
                    <a:pt x="546" y="121"/>
                  </a:lnTo>
                  <a:lnTo>
                    <a:pt x="541" y="120"/>
                  </a:lnTo>
                  <a:lnTo>
                    <a:pt x="535" y="118"/>
                  </a:lnTo>
                  <a:lnTo>
                    <a:pt x="527" y="118"/>
                  </a:lnTo>
                  <a:lnTo>
                    <a:pt x="523" y="117"/>
                  </a:lnTo>
                  <a:lnTo>
                    <a:pt x="517" y="117"/>
                  </a:lnTo>
                  <a:lnTo>
                    <a:pt x="511" y="115"/>
                  </a:lnTo>
                  <a:lnTo>
                    <a:pt x="504" y="115"/>
                  </a:lnTo>
                  <a:lnTo>
                    <a:pt x="500" y="114"/>
                  </a:lnTo>
                  <a:lnTo>
                    <a:pt x="494" y="114"/>
                  </a:lnTo>
                  <a:lnTo>
                    <a:pt x="489" y="114"/>
                  </a:lnTo>
                  <a:lnTo>
                    <a:pt x="483" y="114"/>
                  </a:lnTo>
                  <a:lnTo>
                    <a:pt x="479" y="114"/>
                  </a:lnTo>
                  <a:lnTo>
                    <a:pt x="476" y="115"/>
                  </a:lnTo>
                  <a:lnTo>
                    <a:pt x="392" y="178"/>
                  </a:lnTo>
                  <a:lnTo>
                    <a:pt x="52" y="112"/>
                  </a:lnTo>
                  <a:lnTo>
                    <a:pt x="52" y="111"/>
                  </a:lnTo>
                  <a:lnTo>
                    <a:pt x="52" y="108"/>
                  </a:lnTo>
                  <a:lnTo>
                    <a:pt x="50" y="103"/>
                  </a:lnTo>
                  <a:lnTo>
                    <a:pt x="50" y="99"/>
                  </a:lnTo>
                  <a:lnTo>
                    <a:pt x="47" y="92"/>
                  </a:lnTo>
                  <a:lnTo>
                    <a:pt x="43" y="88"/>
                  </a:lnTo>
                  <a:lnTo>
                    <a:pt x="40" y="85"/>
                  </a:lnTo>
                  <a:lnTo>
                    <a:pt x="35" y="82"/>
                  </a:lnTo>
                  <a:lnTo>
                    <a:pt x="30" y="80"/>
                  </a:lnTo>
                  <a:lnTo>
                    <a:pt x="26" y="80"/>
                  </a:lnTo>
                  <a:lnTo>
                    <a:pt x="21" y="77"/>
                  </a:lnTo>
                  <a:lnTo>
                    <a:pt x="17" y="77"/>
                  </a:lnTo>
                  <a:lnTo>
                    <a:pt x="12" y="76"/>
                  </a:lnTo>
                  <a:lnTo>
                    <a:pt x="9" y="76"/>
                  </a:lnTo>
                  <a:lnTo>
                    <a:pt x="5" y="7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"/>
            <p:cNvSpPr/>
            <p:nvPr/>
          </p:nvSpPr>
          <p:spPr>
            <a:xfrm>
              <a:off x="1284480" y="2584080"/>
              <a:ext cx="874800" cy="126324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550" h="794">
                  <a:moveTo>
                    <a:pt x="0" y="0"/>
                  </a:moveTo>
                  <a:lnTo>
                    <a:pt x="550" y="50"/>
                  </a:lnTo>
                  <a:lnTo>
                    <a:pt x="540" y="570"/>
                  </a:lnTo>
                  <a:lnTo>
                    <a:pt x="58" y="794"/>
                  </a:lnTo>
                  <a:lnTo>
                    <a:pt x="8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2"/>
            <p:cNvSpPr/>
            <p:nvPr/>
          </p:nvSpPr>
          <p:spPr>
            <a:xfrm>
              <a:off x="3405240" y="2332440"/>
              <a:ext cx="1148760" cy="1786680"/>
            </a:xfrm>
            <a:custGeom>
              <a:avLst/>
              <a:gdLst>
                <a:gd name="textAreaLeft" fmla="*/ 0 w 1148760"/>
                <a:gd name="textAreaRight" fmla="*/ 1149120 w 1148760"/>
                <a:gd name="textAreaTop" fmla="*/ 0 h 1786680"/>
                <a:gd name="textAreaBottom" fmla="*/ 1787040 h 1786680"/>
              </a:gdLst>
              <a:ahLst/>
              <a:rect l="textAreaLeft" t="textAreaTop" r="textAreaRight" b="textAreaBottom"/>
              <a:pathLst>
                <a:path w="722" h="1123">
                  <a:moveTo>
                    <a:pt x="0" y="267"/>
                  </a:moveTo>
                  <a:lnTo>
                    <a:pt x="99" y="278"/>
                  </a:lnTo>
                  <a:lnTo>
                    <a:pt x="711" y="0"/>
                  </a:lnTo>
                  <a:lnTo>
                    <a:pt x="722" y="766"/>
                  </a:lnTo>
                  <a:lnTo>
                    <a:pt x="15" y="1123"/>
                  </a:lnTo>
                  <a:lnTo>
                    <a:pt x="4" y="339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b3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3"/>
            <p:cNvSpPr/>
            <p:nvPr/>
          </p:nvSpPr>
          <p:spPr>
            <a:xfrm>
              <a:off x="398160" y="2109960"/>
              <a:ext cx="3088080" cy="722160"/>
            </a:xfrm>
            <a:custGeom>
              <a:avLst/>
              <a:gdLst>
                <a:gd name="textAreaLeft" fmla="*/ 0 w 3088080"/>
                <a:gd name="textAreaRight" fmla="*/ 3088440 w 308808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1941" h="454">
                  <a:moveTo>
                    <a:pt x="0" y="181"/>
                  </a:moveTo>
                  <a:lnTo>
                    <a:pt x="0" y="179"/>
                  </a:lnTo>
                  <a:lnTo>
                    <a:pt x="1" y="178"/>
                  </a:lnTo>
                  <a:lnTo>
                    <a:pt x="6" y="176"/>
                  </a:lnTo>
                  <a:lnTo>
                    <a:pt x="13" y="176"/>
                  </a:lnTo>
                  <a:lnTo>
                    <a:pt x="19" y="172"/>
                  </a:lnTo>
                  <a:lnTo>
                    <a:pt x="30" y="169"/>
                  </a:lnTo>
                  <a:lnTo>
                    <a:pt x="36" y="167"/>
                  </a:lnTo>
                  <a:lnTo>
                    <a:pt x="41" y="166"/>
                  </a:lnTo>
                  <a:lnTo>
                    <a:pt x="47" y="164"/>
                  </a:lnTo>
                  <a:lnTo>
                    <a:pt x="54" y="163"/>
                  </a:lnTo>
                  <a:lnTo>
                    <a:pt x="60" y="160"/>
                  </a:lnTo>
                  <a:lnTo>
                    <a:pt x="68" y="158"/>
                  </a:lnTo>
                  <a:lnTo>
                    <a:pt x="75" y="155"/>
                  </a:lnTo>
                  <a:lnTo>
                    <a:pt x="83" y="154"/>
                  </a:lnTo>
                  <a:lnTo>
                    <a:pt x="92" y="151"/>
                  </a:lnTo>
                  <a:lnTo>
                    <a:pt x="100" y="149"/>
                  </a:lnTo>
                  <a:lnTo>
                    <a:pt x="109" y="146"/>
                  </a:lnTo>
                  <a:lnTo>
                    <a:pt x="120" y="145"/>
                  </a:lnTo>
                  <a:lnTo>
                    <a:pt x="129" y="140"/>
                  </a:lnTo>
                  <a:lnTo>
                    <a:pt x="138" y="137"/>
                  </a:lnTo>
                  <a:lnTo>
                    <a:pt x="148" y="135"/>
                  </a:lnTo>
                  <a:lnTo>
                    <a:pt x="159" y="132"/>
                  </a:lnTo>
                  <a:lnTo>
                    <a:pt x="170" y="128"/>
                  </a:lnTo>
                  <a:lnTo>
                    <a:pt x="180" y="126"/>
                  </a:lnTo>
                  <a:lnTo>
                    <a:pt x="191" y="123"/>
                  </a:lnTo>
                  <a:lnTo>
                    <a:pt x="205" y="120"/>
                  </a:lnTo>
                  <a:lnTo>
                    <a:pt x="215" y="117"/>
                  </a:lnTo>
                  <a:lnTo>
                    <a:pt x="227" y="113"/>
                  </a:lnTo>
                  <a:lnTo>
                    <a:pt x="240" y="110"/>
                  </a:lnTo>
                  <a:lnTo>
                    <a:pt x="253" y="105"/>
                  </a:lnTo>
                  <a:lnTo>
                    <a:pt x="264" y="102"/>
                  </a:lnTo>
                  <a:lnTo>
                    <a:pt x="278" y="99"/>
                  </a:lnTo>
                  <a:lnTo>
                    <a:pt x="291" y="94"/>
                  </a:lnTo>
                  <a:lnTo>
                    <a:pt x="305" y="93"/>
                  </a:lnTo>
                  <a:lnTo>
                    <a:pt x="319" y="87"/>
                  </a:lnTo>
                  <a:lnTo>
                    <a:pt x="332" y="84"/>
                  </a:lnTo>
                  <a:lnTo>
                    <a:pt x="346" y="81"/>
                  </a:lnTo>
                  <a:lnTo>
                    <a:pt x="361" y="76"/>
                  </a:lnTo>
                  <a:lnTo>
                    <a:pt x="375" y="72"/>
                  </a:lnTo>
                  <a:lnTo>
                    <a:pt x="390" y="69"/>
                  </a:lnTo>
                  <a:lnTo>
                    <a:pt x="404" y="66"/>
                  </a:lnTo>
                  <a:lnTo>
                    <a:pt x="420" y="63"/>
                  </a:lnTo>
                  <a:lnTo>
                    <a:pt x="434" y="58"/>
                  </a:lnTo>
                  <a:lnTo>
                    <a:pt x="449" y="53"/>
                  </a:lnTo>
                  <a:lnTo>
                    <a:pt x="464" y="49"/>
                  </a:lnTo>
                  <a:lnTo>
                    <a:pt x="481" y="46"/>
                  </a:lnTo>
                  <a:lnTo>
                    <a:pt x="496" y="41"/>
                  </a:lnTo>
                  <a:lnTo>
                    <a:pt x="513" y="38"/>
                  </a:lnTo>
                  <a:lnTo>
                    <a:pt x="528" y="34"/>
                  </a:lnTo>
                  <a:lnTo>
                    <a:pt x="545" y="31"/>
                  </a:lnTo>
                  <a:lnTo>
                    <a:pt x="560" y="26"/>
                  </a:lnTo>
                  <a:lnTo>
                    <a:pt x="577" y="21"/>
                  </a:lnTo>
                  <a:lnTo>
                    <a:pt x="594" y="18"/>
                  </a:lnTo>
                  <a:lnTo>
                    <a:pt x="610" y="15"/>
                  </a:lnTo>
                  <a:lnTo>
                    <a:pt x="626" y="11"/>
                  </a:lnTo>
                  <a:lnTo>
                    <a:pt x="644" y="8"/>
                  </a:lnTo>
                  <a:lnTo>
                    <a:pt x="659" y="3"/>
                  </a:lnTo>
                  <a:lnTo>
                    <a:pt x="677" y="0"/>
                  </a:lnTo>
                  <a:lnTo>
                    <a:pt x="695" y="11"/>
                  </a:lnTo>
                  <a:lnTo>
                    <a:pt x="694" y="11"/>
                  </a:lnTo>
                  <a:lnTo>
                    <a:pt x="691" y="11"/>
                  </a:lnTo>
                  <a:lnTo>
                    <a:pt x="685" y="11"/>
                  </a:lnTo>
                  <a:lnTo>
                    <a:pt x="677" y="14"/>
                  </a:lnTo>
                  <a:lnTo>
                    <a:pt x="671" y="15"/>
                  </a:lnTo>
                  <a:lnTo>
                    <a:pt x="667" y="17"/>
                  </a:lnTo>
                  <a:lnTo>
                    <a:pt x="659" y="17"/>
                  </a:lnTo>
                  <a:lnTo>
                    <a:pt x="654" y="20"/>
                  </a:lnTo>
                  <a:lnTo>
                    <a:pt x="647" y="20"/>
                  </a:lnTo>
                  <a:lnTo>
                    <a:pt x="641" y="21"/>
                  </a:lnTo>
                  <a:lnTo>
                    <a:pt x="633" y="25"/>
                  </a:lnTo>
                  <a:lnTo>
                    <a:pt x="626" y="26"/>
                  </a:lnTo>
                  <a:lnTo>
                    <a:pt x="616" y="29"/>
                  </a:lnTo>
                  <a:lnTo>
                    <a:pt x="607" y="31"/>
                  </a:lnTo>
                  <a:lnTo>
                    <a:pt x="598" y="32"/>
                  </a:lnTo>
                  <a:lnTo>
                    <a:pt x="589" y="35"/>
                  </a:lnTo>
                  <a:lnTo>
                    <a:pt x="580" y="38"/>
                  </a:lnTo>
                  <a:lnTo>
                    <a:pt x="569" y="40"/>
                  </a:lnTo>
                  <a:lnTo>
                    <a:pt x="560" y="43"/>
                  </a:lnTo>
                  <a:lnTo>
                    <a:pt x="550" y="46"/>
                  </a:lnTo>
                  <a:lnTo>
                    <a:pt x="537" y="49"/>
                  </a:lnTo>
                  <a:lnTo>
                    <a:pt x="527" y="52"/>
                  </a:lnTo>
                  <a:lnTo>
                    <a:pt x="516" y="53"/>
                  </a:lnTo>
                  <a:lnTo>
                    <a:pt x="506" y="56"/>
                  </a:lnTo>
                  <a:lnTo>
                    <a:pt x="493" y="59"/>
                  </a:lnTo>
                  <a:lnTo>
                    <a:pt x="481" y="63"/>
                  </a:lnTo>
                  <a:lnTo>
                    <a:pt x="469" y="67"/>
                  </a:lnTo>
                  <a:lnTo>
                    <a:pt x="458" y="70"/>
                  </a:lnTo>
                  <a:lnTo>
                    <a:pt x="445" y="73"/>
                  </a:lnTo>
                  <a:lnTo>
                    <a:pt x="433" y="76"/>
                  </a:lnTo>
                  <a:lnTo>
                    <a:pt x="420" y="79"/>
                  </a:lnTo>
                  <a:lnTo>
                    <a:pt x="407" y="82"/>
                  </a:lnTo>
                  <a:lnTo>
                    <a:pt x="395" y="85"/>
                  </a:lnTo>
                  <a:lnTo>
                    <a:pt x="381" y="88"/>
                  </a:lnTo>
                  <a:lnTo>
                    <a:pt x="369" y="93"/>
                  </a:lnTo>
                  <a:lnTo>
                    <a:pt x="357" y="96"/>
                  </a:lnTo>
                  <a:lnTo>
                    <a:pt x="343" y="99"/>
                  </a:lnTo>
                  <a:lnTo>
                    <a:pt x="329" y="102"/>
                  </a:lnTo>
                  <a:lnTo>
                    <a:pt x="317" y="105"/>
                  </a:lnTo>
                  <a:lnTo>
                    <a:pt x="305" y="110"/>
                  </a:lnTo>
                  <a:lnTo>
                    <a:pt x="291" y="113"/>
                  </a:lnTo>
                  <a:lnTo>
                    <a:pt x="278" y="117"/>
                  </a:lnTo>
                  <a:lnTo>
                    <a:pt x="265" y="120"/>
                  </a:lnTo>
                  <a:lnTo>
                    <a:pt x="253" y="125"/>
                  </a:lnTo>
                  <a:lnTo>
                    <a:pt x="240" y="128"/>
                  </a:lnTo>
                  <a:lnTo>
                    <a:pt x="227" y="131"/>
                  </a:lnTo>
                  <a:lnTo>
                    <a:pt x="215" y="135"/>
                  </a:lnTo>
                  <a:lnTo>
                    <a:pt x="203" y="138"/>
                  </a:lnTo>
                  <a:lnTo>
                    <a:pt x="191" y="142"/>
                  </a:lnTo>
                  <a:lnTo>
                    <a:pt x="179" y="146"/>
                  </a:lnTo>
                  <a:lnTo>
                    <a:pt x="167" y="149"/>
                  </a:lnTo>
                  <a:lnTo>
                    <a:pt x="156" y="154"/>
                  </a:lnTo>
                  <a:lnTo>
                    <a:pt x="144" y="155"/>
                  </a:lnTo>
                  <a:lnTo>
                    <a:pt x="133" y="160"/>
                  </a:lnTo>
                  <a:lnTo>
                    <a:pt x="123" y="163"/>
                  </a:lnTo>
                  <a:lnTo>
                    <a:pt x="112" y="167"/>
                  </a:lnTo>
                  <a:lnTo>
                    <a:pt x="101" y="169"/>
                  </a:lnTo>
                  <a:lnTo>
                    <a:pt x="92" y="173"/>
                  </a:lnTo>
                  <a:lnTo>
                    <a:pt x="83" y="176"/>
                  </a:lnTo>
                  <a:lnTo>
                    <a:pt x="74" y="181"/>
                  </a:lnTo>
                  <a:lnTo>
                    <a:pt x="77" y="181"/>
                  </a:lnTo>
                  <a:lnTo>
                    <a:pt x="82" y="181"/>
                  </a:lnTo>
                  <a:lnTo>
                    <a:pt x="89" y="181"/>
                  </a:lnTo>
                  <a:lnTo>
                    <a:pt x="97" y="181"/>
                  </a:lnTo>
                  <a:lnTo>
                    <a:pt x="106" y="183"/>
                  </a:lnTo>
                  <a:lnTo>
                    <a:pt x="117" y="183"/>
                  </a:lnTo>
                  <a:lnTo>
                    <a:pt x="132" y="186"/>
                  </a:lnTo>
                  <a:lnTo>
                    <a:pt x="145" y="186"/>
                  </a:lnTo>
                  <a:lnTo>
                    <a:pt x="162" y="187"/>
                  </a:lnTo>
                  <a:lnTo>
                    <a:pt x="180" y="189"/>
                  </a:lnTo>
                  <a:lnTo>
                    <a:pt x="200" y="192"/>
                  </a:lnTo>
                  <a:lnTo>
                    <a:pt x="220" y="193"/>
                  </a:lnTo>
                  <a:lnTo>
                    <a:pt x="241" y="195"/>
                  </a:lnTo>
                  <a:lnTo>
                    <a:pt x="264" y="198"/>
                  </a:lnTo>
                  <a:lnTo>
                    <a:pt x="290" y="201"/>
                  </a:lnTo>
                  <a:lnTo>
                    <a:pt x="314" y="202"/>
                  </a:lnTo>
                  <a:lnTo>
                    <a:pt x="341" y="205"/>
                  </a:lnTo>
                  <a:lnTo>
                    <a:pt x="367" y="208"/>
                  </a:lnTo>
                  <a:lnTo>
                    <a:pt x="398" y="210"/>
                  </a:lnTo>
                  <a:lnTo>
                    <a:pt x="426" y="213"/>
                  </a:lnTo>
                  <a:lnTo>
                    <a:pt x="458" y="216"/>
                  </a:lnTo>
                  <a:lnTo>
                    <a:pt x="490" y="219"/>
                  </a:lnTo>
                  <a:lnTo>
                    <a:pt x="522" y="224"/>
                  </a:lnTo>
                  <a:lnTo>
                    <a:pt x="556" y="227"/>
                  </a:lnTo>
                  <a:lnTo>
                    <a:pt x="589" y="228"/>
                  </a:lnTo>
                  <a:lnTo>
                    <a:pt x="623" y="233"/>
                  </a:lnTo>
                  <a:lnTo>
                    <a:pt x="659" y="236"/>
                  </a:lnTo>
                  <a:lnTo>
                    <a:pt x="694" y="240"/>
                  </a:lnTo>
                  <a:lnTo>
                    <a:pt x="730" y="243"/>
                  </a:lnTo>
                  <a:lnTo>
                    <a:pt x="767" y="248"/>
                  </a:lnTo>
                  <a:lnTo>
                    <a:pt x="805" y="252"/>
                  </a:lnTo>
                  <a:lnTo>
                    <a:pt x="841" y="255"/>
                  </a:lnTo>
                  <a:lnTo>
                    <a:pt x="879" y="260"/>
                  </a:lnTo>
                  <a:lnTo>
                    <a:pt x="917" y="262"/>
                  </a:lnTo>
                  <a:lnTo>
                    <a:pt x="955" y="266"/>
                  </a:lnTo>
                  <a:lnTo>
                    <a:pt x="995" y="271"/>
                  </a:lnTo>
                  <a:lnTo>
                    <a:pt x="1033" y="275"/>
                  </a:lnTo>
                  <a:lnTo>
                    <a:pt x="1072" y="278"/>
                  </a:lnTo>
                  <a:lnTo>
                    <a:pt x="1112" y="283"/>
                  </a:lnTo>
                  <a:lnTo>
                    <a:pt x="1150" y="287"/>
                  </a:lnTo>
                  <a:lnTo>
                    <a:pt x="1189" y="292"/>
                  </a:lnTo>
                  <a:lnTo>
                    <a:pt x="1227" y="295"/>
                  </a:lnTo>
                  <a:lnTo>
                    <a:pt x="1265" y="301"/>
                  </a:lnTo>
                  <a:lnTo>
                    <a:pt x="1303" y="304"/>
                  </a:lnTo>
                  <a:lnTo>
                    <a:pt x="1341" y="309"/>
                  </a:lnTo>
                  <a:lnTo>
                    <a:pt x="1379" y="312"/>
                  </a:lnTo>
                  <a:lnTo>
                    <a:pt x="1417" y="318"/>
                  </a:lnTo>
                  <a:lnTo>
                    <a:pt x="1454" y="321"/>
                  </a:lnTo>
                  <a:lnTo>
                    <a:pt x="1490" y="325"/>
                  </a:lnTo>
                  <a:lnTo>
                    <a:pt x="1525" y="330"/>
                  </a:lnTo>
                  <a:lnTo>
                    <a:pt x="1562" y="334"/>
                  </a:lnTo>
                  <a:lnTo>
                    <a:pt x="1597" y="337"/>
                  </a:lnTo>
                  <a:lnTo>
                    <a:pt x="1631" y="342"/>
                  </a:lnTo>
                  <a:lnTo>
                    <a:pt x="1665" y="347"/>
                  </a:lnTo>
                  <a:lnTo>
                    <a:pt x="1698" y="351"/>
                  </a:lnTo>
                  <a:lnTo>
                    <a:pt x="1730" y="356"/>
                  </a:lnTo>
                  <a:lnTo>
                    <a:pt x="1761" y="359"/>
                  </a:lnTo>
                  <a:lnTo>
                    <a:pt x="1791" y="362"/>
                  </a:lnTo>
                  <a:lnTo>
                    <a:pt x="1821" y="366"/>
                  </a:lnTo>
                  <a:lnTo>
                    <a:pt x="1849" y="371"/>
                  </a:lnTo>
                  <a:lnTo>
                    <a:pt x="1878" y="375"/>
                  </a:lnTo>
                  <a:lnTo>
                    <a:pt x="1903" y="378"/>
                  </a:lnTo>
                  <a:lnTo>
                    <a:pt x="1931" y="383"/>
                  </a:lnTo>
                  <a:lnTo>
                    <a:pt x="1941" y="454"/>
                  </a:lnTo>
                  <a:lnTo>
                    <a:pt x="1940" y="453"/>
                  </a:lnTo>
                  <a:lnTo>
                    <a:pt x="1937" y="453"/>
                  </a:lnTo>
                  <a:lnTo>
                    <a:pt x="1932" y="453"/>
                  </a:lnTo>
                  <a:lnTo>
                    <a:pt x="1926" y="451"/>
                  </a:lnTo>
                  <a:lnTo>
                    <a:pt x="1917" y="450"/>
                  </a:lnTo>
                  <a:lnTo>
                    <a:pt x="1908" y="448"/>
                  </a:lnTo>
                  <a:lnTo>
                    <a:pt x="1896" y="447"/>
                  </a:lnTo>
                  <a:lnTo>
                    <a:pt x="1885" y="445"/>
                  </a:lnTo>
                  <a:lnTo>
                    <a:pt x="1870" y="444"/>
                  </a:lnTo>
                  <a:lnTo>
                    <a:pt x="1855" y="441"/>
                  </a:lnTo>
                  <a:lnTo>
                    <a:pt x="1838" y="438"/>
                  </a:lnTo>
                  <a:lnTo>
                    <a:pt x="1820" y="436"/>
                  </a:lnTo>
                  <a:lnTo>
                    <a:pt x="1799" y="432"/>
                  </a:lnTo>
                  <a:lnTo>
                    <a:pt x="1779" y="430"/>
                  </a:lnTo>
                  <a:lnTo>
                    <a:pt x="1756" y="427"/>
                  </a:lnTo>
                  <a:lnTo>
                    <a:pt x="1733" y="424"/>
                  </a:lnTo>
                  <a:lnTo>
                    <a:pt x="1709" y="420"/>
                  </a:lnTo>
                  <a:lnTo>
                    <a:pt x="1682" y="416"/>
                  </a:lnTo>
                  <a:lnTo>
                    <a:pt x="1654" y="412"/>
                  </a:lnTo>
                  <a:lnTo>
                    <a:pt x="1628" y="409"/>
                  </a:lnTo>
                  <a:lnTo>
                    <a:pt x="1598" y="404"/>
                  </a:lnTo>
                  <a:lnTo>
                    <a:pt x="1569" y="400"/>
                  </a:lnTo>
                  <a:lnTo>
                    <a:pt x="1539" y="395"/>
                  </a:lnTo>
                  <a:lnTo>
                    <a:pt x="1507" y="392"/>
                  </a:lnTo>
                  <a:lnTo>
                    <a:pt x="1473" y="388"/>
                  </a:lnTo>
                  <a:lnTo>
                    <a:pt x="1442" y="383"/>
                  </a:lnTo>
                  <a:lnTo>
                    <a:pt x="1407" y="378"/>
                  </a:lnTo>
                  <a:lnTo>
                    <a:pt x="1373" y="374"/>
                  </a:lnTo>
                  <a:lnTo>
                    <a:pt x="1337" y="369"/>
                  </a:lnTo>
                  <a:lnTo>
                    <a:pt x="1302" y="365"/>
                  </a:lnTo>
                  <a:lnTo>
                    <a:pt x="1265" y="360"/>
                  </a:lnTo>
                  <a:lnTo>
                    <a:pt x="1229" y="357"/>
                  </a:lnTo>
                  <a:lnTo>
                    <a:pt x="1191" y="351"/>
                  </a:lnTo>
                  <a:lnTo>
                    <a:pt x="1153" y="347"/>
                  </a:lnTo>
                  <a:lnTo>
                    <a:pt x="1113" y="342"/>
                  </a:lnTo>
                  <a:lnTo>
                    <a:pt x="1075" y="337"/>
                  </a:lnTo>
                  <a:lnTo>
                    <a:pt x="1034" y="331"/>
                  </a:lnTo>
                  <a:lnTo>
                    <a:pt x="996" y="327"/>
                  </a:lnTo>
                  <a:lnTo>
                    <a:pt x="955" y="322"/>
                  </a:lnTo>
                  <a:lnTo>
                    <a:pt x="917" y="318"/>
                  </a:lnTo>
                  <a:lnTo>
                    <a:pt x="876" y="312"/>
                  </a:lnTo>
                  <a:lnTo>
                    <a:pt x="835" y="307"/>
                  </a:lnTo>
                  <a:lnTo>
                    <a:pt x="796" y="303"/>
                  </a:lnTo>
                  <a:lnTo>
                    <a:pt x="756" y="299"/>
                  </a:lnTo>
                  <a:lnTo>
                    <a:pt x="715" y="293"/>
                  </a:lnTo>
                  <a:lnTo>
                    <a:pt x="674" y="290"/>
                  </a:lnTo>
                  <a:lnTo>
                    <a:pt x="635" y="286"/>
                  </a:lnTo>
                  <a:lnTo>
                    <a:pt x="595" y="283"/>
                  </a:lnTo>
                  <a:lnTo>
                    <a:pt x="554" y="278"/>
                  </a:lnTo>
                  <a:lnTo>
                    <a:pt x="515" y="274"/>
                  </a:lnTo>
                  <a:lnTo>
                    <a:pt x="474" y="269"/>
                  </a:lnTo>
                  <a:lnTo>
                    <a:pt x="436" y="266"/>
                  </a:lnTo>
                  <a:lnTo>
                    <a:pt x="396" y="262"/>
                  </a:lnTo>
                  <a:lnTo>
                    <a:pt x="358" y="258"/>
                  </a:lnTo>
                  <a:lnTo>
                    <a:pt x="320" y="255"/>
                  </a:lnTo>
                  <a:lnTo>
                    <a:pt x="282" y="252"/>
                  </a:lnTo>
                  <a:lnTo>
                    <a:pt x="244" y="249"/>
                  </a:lnTo>
                  <a:lnTo>
                    <a:pt x="208" y="246"/>
                  </a:lnTo>
                  <a:lnTo>
                    <a:pt x="173" y="243"/>
                  </a:lnTo>
                  <a:lnTo>
                    <a:pt x="138" y="242"/>
                  </a:lnTo>
                  <a:lnTo>
                    <a:pt x="101" y="240"/>
                  </a:lnTo>
                  <a:lnTo>
                    <a:pt x="69" y="237"/>
                  </a:lnTo>
                  <a:lnTo>
                    <a:pt x="36" y="236"/>
                  </a:lnTo>
                  <a:lnTo>
                    <a:pt x="4" y="234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4d4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4"/>
            <p:cNvSpPr/>
            <p:nvPr/>
          </p:nvSpPr>
          <p:spPr>
            <a:xfrm>
              <a:off x="3494520" y="2109960"/>
              <a:ext cx="1254960" cy="722160"/>
            </a:xfrm>
            <a:custGeom>
              <a:avLst/>
              <a:gdLst>
                <a:gd name="textAreaLeft" fmla="*/ 0 w 1254960"/>
                <a:gd name="textAreaRight" fmla="*/ 1255320 w 1254960"/>
                <a:gd name="textAreaTop" fmla="*/ 0 h 722160"/>
                <a:gd name="textAreaBottom" fmla="*/ 722520 h 722160"/>
              </a:gdLst>
              <a:ahLst/>
              <a:rect l="textAreaLeft" t="textAreaTop" r="textAreaRight" b="textAreaBottom"/>
              <a:pathLst>
                <a:path w="789" h="454">
                  <a:moveTo>
                    <a:pt x="0" y="366"/>
                  </a:moveTo>
                  <a:lnTo>
                    <a:pt x="740" y="66"/>
                  </a:lnTo>
                  <a:lnTo>
                    <a:pt x="0" y="21"/>
                  </a:lnTo>
                  <a:lnTo>
                    <a:pt x="29" y="0"/>
                  </a:lnTo>
                  <a:lnTo>
                    <a:pt x="789" y="43"/>
                  </a:lnTo>
                  <a:lnTo>
                    <a:pt x="789" y="87"/>
                  </a:lnTo>
                  <a:lnTo>
                    <a:pt x="38" y="454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4d4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5"/>
            <p:cNvSpPr/>
            <p:nvPr/>
          </p:nvSpPr>
          <p:spPr>
            <a:xfrm>
              <a:off x="562320" y="2518560"/>
              <a:ext cx="676080" cy="136800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368000"/>
                <a:gd name="textAreaBottom" fmla="*/ 1368360 h 1368000"/>
              </a:gdLst>
              <a:ahLst/>
              <a:rect l="textAreaLeft" t="textAreaTop" r="textAreaRight" b="textAreaBottom"/>
              <a:pathLst>
                <a:path w="425" h="860">
                  <a:moveTo>
                    <a:pt x="0" y="5"/>
                  </a:moveTo>
                  <a:lnTo>
                    <a:pt x="38" y="0"/>
                  </a:lnTo>
                  <a:lnTo>
                    <a:pt x="70" y="749"/>
                  </a:lnTo>
                  <a:lnTo>
                    <a:pt x="387" y="817"/>
                  </a:lnTo>
                  <a:lnTo>
                    <a:pt x="425" y="860"/>
                  </a:lnTo>
                  <a:lnTo>
                    <a:pt x="4" y="77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6"/>
            <p:cNvSpPr/>
            <p:nvPr/>
          </p:nvSpPr>
          <p:spPr>
            <a:xfrm>
              <a:off x="1177560" y="2561400"/>
              <a:ext cx="947880" cy="130752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596" h="822">
                  <a:moveTo>
                    <a:pt x="29" y="783"/>
                  </a:moveTo>
                  <a:lnTo>
                    <a:pt x="6" y="34"/>
                  </a:lnTo>
                  <a:lnTo>
                    <a:pt x="0" y="0"/>
                  </a:lnTo>
                  <a:lnTo>
                    <a:pt x="46" y="22"/>
                  </a:lnTo>
                  <a:lnTo>
                    <a:pt x="105" y="740"/>
                  </a:lnTo>
                  <a:lnTo>
                    <a:pt x="553" y="532"/>
                  </a:lnTo>
                  <a:lnTo>
                    <a:pt x="558" y="67"/>
                  </a:lnTo>
                  <a:lnTo>
                    <a:pt x="591" y="76"/>
                  </a:lnTo>
                  <a:lnTo>
                    <a:pt x="596" y="575"/>
                  </a:lnTo>
                  <a:lnTo>
                    <a:pt x="34" y="822"/>
                  </a:lnTo>
                  <a:lnTo>
                    <a:pt x="29" y="783"/>
                  </a:lnTo>
                  <a:close/>
                </a:path>
              </a:pathLst>
            </a:custGeom>
            <a:solidFill>
              <a:srgbClr val="4d4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7"/>
            <p:cNvSpPr/>
            <p:nvPr/>
          </p:nvSpPr>
          <p:spPr>
            <a:xfrm>
              <a:off x="3295440" y="2388240"/>
              <a:ext cx="1245240" cy="1856160"/>
            </a:xfrm>
            <a:custGeom>
              <a:avLst/>
              <a:gdLst>
                <a:gd name="textAreaLeft" fmla="*/ 0 w 1245240"/>
                <a:gd name="textAreaRight" fmla="*/ 1245240 w 1245240"/>
                <a:gd name="textAreaTop" fmla="*/ 0 h 1856160"/>
                <a:gd name="textAreaBottom" fmla="*/ 1856520 h 1856160"/>
              </a:gdLst>
              <a:ahLst/>
              <a:rect l="textAreaLeft" t="textAreaTop" r="textAreaRight" b="textAreaBottom"/>
              <a:pathLst>
                <a:path w="783" h="1167">
                  <a:moveTo>
                    <a:pt x="0" y="296"/>
                  </a:moveTo>
                  <a:lnTo>
                    <a:pt x="61" y="296"/>
                  </a:lnTo>
                  <a:lnTo>
                    <a:pt x="70" y="1074"/>
                  </a:lnTo>
                  <a:lnTo>
                    <a:pt x="728" y="744"/>
                  </a:lnTo>
                  <a:lnTo>
                    <a:pt x="733" y="21"/>
                  </a:lnTo>
                  <a:lnTo>
                    <a:pt x="766" y="0"/>
                  </a:lnTo>
                  <a:lnTo>
                    <a:pt x="783" y="761"/>
                  </a:lnTo>
                  <a:lnTo>
                    <a:pt x="10" y="1167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4d4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8"/>
            <p:cNvSpPr/>
            <p:nvPr/>
          </p:nvSpPr>
          <p:spPr>
            <a:xfrm>
              <a:off x="2368080" y="2257920"/>
              <a:ext cx="1138680" cy="135000"/>
            </a:xfrm>
            <a:custGeom>
              <a:avLst/>
              <a:gdLst>
                <a:gd name="textAreaLeft" fmla="*/ 0 w 1138680"/>
                <a:gd name="textAreaRight" fmla="*/ 1139040 w 11386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716" h="85">
                  <a:moveTo>
                    <a:pt x="0" y="82"/>
                  </a:moveTo>
                  <a:lnTo>
                    <a:pt x="0" y="80"/>
                  </a:lnTo>
                  <a:lnTo>
                    <a:pt x="3" y="79"/>
                  </a:lnTo>
                  <a:lnTo>
                    <a:pt x="8" y="74"/>
                  </a:lnTo>
                  <a:lnTo>
                    <a:pt x="15" y="71"/>
                  </a:lnTo>
                  <a:lnTo>
                    <a:pt x="23" y="67"/>
                  </a:lnTo>
                  <a:lnTo>
                    <a:pt x="32" y="61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0" y="52"/>
                  </a:lnTo>
                  <a:lnTo>
                    <a:pt x="56" y="49"/>
                  </a:lnTo>
                  <a:lnTo>
                    <a:pt x="61" y="45"/>
                  </a:lnTo>
                  <a:lnTo>
                    <a:pt x="67" y="42"/>
                  </a:lnTo>
                  <a:lnTo>
                    <a:pt x="73" y="38"/>
                  </a:lnTo>
                  <a:lnTo>
                    <a:pt x="80" y="35"/>
                  </a:lnTo>
                  <a:lnTo>
                    <a:pt x="87" y="32"/>
                  </a:lnTo>
                  <a:lnTo>
                    <a:pt x="94" y="29"/>
                  </a:lnTo>
                  <a:lnTo>
                    <a:pt x="100" y="24"/>
                  </a:lnTo>
                  <a:lnTo>
                    <a:pt x="108" y="21"/>
                  </a:lnTo>
                  <a:lnTo>
                    <a:pt x="114" y="18"/>
                  </a:lnTo>
                  <a:lnTo>
                    <a:pt x="120" y="15"/>
                  </a:lnTo>
                  <a:lnTo>
                    <a:pt x="128" y="12"/>
                  </a:lnTo>
                  <a:lnTo>
                    <a:pt x="134" y="9"/>
                  </a:lnTo>
                  <a:lnTo>
                    <a:pt x="141" y="6"/>
                  </a:lnTo>
                  <a:lnTo>
                    <a:pt x="147" y="3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91" y="3"/>
                  </a:lnTo>
                  <a:lnTo>
                    <a:pt x="197" y="3"/>
                  </a:lnTo>
                  <a:lnTo>
                    <a:pt x="202" y="3"/>
                  </a:lnTo>
                  <a:lnTo>
                    <a:pt x="208" y="4"/>
                  </a:lnTo>
                  <a:lnTo>
                    <a:pt x="216" y="6"/>
                  </a:lnTo>
                  <a:lnTo>
                    <a:pt x="220" y="6"/>
                  </a:lnTo>
                  <a:lnTo>
                    <a:pt x="228" y="6"/>
                  </a:lnTo>
                  <a:lnTo>
                    <a:pt x="234" y="7"/>
                  </a:lnTo>
                  <a:lnTo>
                    <a:pt x="242" y="7"/>
                  </a:lnTo>
                  <a:lnTo>
                    <a:pt x="251" y="7"/>
                  </a:lnTo>
                  <a:lnTo>
                    <a:pt x="258" y="9"/>
                  </a:lnTo>
                  <a:lnTo>
                    <a:pt x="267" y="11"/>
                  </a:lnTo>
                  <a:lnTo>
                    <a:pt x="276" y="12"/>
                  </a:lnTo>
                  <a:lnTo>
                    <a:pt x="284" y="12"/>
                  </a:lnTo>
                  <a:lnTo>
                    <a:pt x="293" y="14"/>
                  </a:lnTo>
                  <a:lnTo>
                    <a:pt x="302" y="15"/>
                  </a:lnTo>
                  <a:lnTo>
                    <a:pt x="313" y="17"/>
                  </a:lnTo>
                  <a:lnTo>
                    <a:pt x="322" y="17"/>
                  </a:lnTo>
                  <a:lnTo>
                    <a:pt x="331" y="20"/>
                  </a:lnTo>
                  <a:lnTo>
                    <a:pt x="342" y="20"/>
                  </a:lnTo>
                  <a:lnTo>
                    <a:pt x="352" y="21"/>
                  </a:lnTo>
                  <a:lnTo>
                    <a:pt x="363" y="21"/>
                  </a:lnTo>
                  <a:lnTo>
                    <a:pt x="374" y="24"/>
                  </a:lnTo>
                  <a:lnTo>
                    <a:pt x="384" y="24"/>
                  </a:lnTo>
                  <a:lnTo>
                    <a:pt x="395" y="26"/>
                  </a:lnTo>
                  <a:lnTo>
                    <a:pt x="406" y="27"/>
                  </a:lnTo>
                  <a:lnTo>
                    <a:pt x="416" y="29"/>
                  </a:lnTo>
                  <a:lnTo>
                    <a:pt x="428" y="30"/>
                  </a:lnTo>
                  <a:lnTo>
                    <a:pt x="441" y="32"/>
                  </a:lnTo>
                  <a:lnTo>
                    <a:pt x="451" y="33"/>
                  </a:lnTo>
                  <a:lnTo>
                    <a:pt x="462" y="35"/>
                  </a:lnTo>
                  <a:lnTo>
                    <a:pt x="474" y="35"/>
                  </a:lnTo>
                  <a:lnTo>
                    <a:pt x="486" y="38"/>
                  </a:lnTo>
                  <a:lnTo>
                    <a:pt x="497" y="39"/>
                  </a:lnTo>
                  <a:lnTo>
                    <a:pt x="509" y="41"/>
                  </a:lnTo>
                  <a:lnTo>
                    <a:pt x="521" y="42"/>
                  </a:lnTo>
                  <a:lnTo>
                    <a:pt x="533" y="44"/>
                  </a:lnTo>
                  <a:lnTo>
                    <a:pt x="544" y="45"/>
                  </a:lnTo>
                  <a:lnTo>
                    <a:pt x="556" y="47"/>
                  </a:lnTo>
                  <a:lnTo>
                    <a:pt x="568" y="49"/>
                  </a:lnTo>
                  <a:lnTo>
                    <a:pt x="579" y="52"/>
                  </a:lnTo>
                  <a:lnTo>
                    <a:pt x="591" y="52"/>
                  </a:lnTo>
                  <a:lnTo>
                    <a:pt x="602" y="55"/>
                  </a:lnTo>
                  <a:lnTo>
                    <a:pt x="614" y="56"/>
                  </a:lnTo>
                  <a:lnTo>
                    <a:pt x="626" y="58"/>
                  </a:lnTo>
                  <a:lnTo>
                    <a:pt x="637" y="59"/>
                  </a:lnTo>
                  <a:lnTo>
                    <a:pt x="649" y="61"/>
                  </a:lnTo>
                  <a:lnTo>
                    <a:pt x="659" y="62"/>
                  </a:lnTo>
                  <a:lnTo>
                    <a:pt x="672" y="65"/>
                  </a:lnTo>
                  <a:lnTo>
                    <a:pt x="682" y="67"/>
                  </a:lnTo>
                  <a:lnTo>
                    <a:pt x="693" y="68"/>
                  </a:lnTo>
                  <a:lnTo>
                    <a:pt x="703" y="70"/>
                  </a:lnTo>
                  <a:lnTo>
                    <a:pt x="716" y="73"/>
                  </a:lnTo>
                  <a:lnTo>
                    <a:pt x="693" y="76"/>
                  </a:lnTo>
                  <a:lnTo>
                    <a:pt x="690" y="74"/>
                  </a:lnTo>
                  <a:lnTo>
                    <a:pt x="687" y="74"/>
                  </a:lnTo>
                  <a:lnTo>
                    <a:pt x="681" y="74"/>
                  </a:lnTo>
                  <a:lnTo>
                    <a:pt x="672" y="73"/>
                  </a:lnTo>
                  <a:lnTo>
                    <a:pt x="667" y="71"/>
                  </a:lnTo>
                  <a:lnTo>
                    <a:pt x="661" y="71"/>
                  </a:lnTo>
                  <a:lnTo>
                    <a:pt x="655" y="70"/>
                  </a:lnTo>
                  <a:lnTo>
                    <a:pt x="649" y="70"/>
                  </a:lnTo>
                  <a:lnTo>
                    <a:pt x="643" y="68"/>
                  </a:lnTo>
                  <a:lnTo>
                    <a:pt x="635" y="67"/>
                  </a:lnTo>
                  <a:lnTo>
                    <a:pt x="627" y="67"/>
                  </a:lnTo>
                  <a:lnTo>
                    <a:pt x="620" y="67"/>
                  </a:lnTo>
                  <a:lnTo>
                    <a:pt x="611" y="65"/>
                  </a:lnTo>
                  <a:lnTo>
                    <a:pt x="603" y="64"/>
                  </a:lnTo>
                  <a:lnTo>
                    <a:pt x="594" y="62"/>
                  </a:lnTo>
                  <a:lnTo>
                    <a:pt x="585" y="62"/>
                  </a:lnTo>
                  <a:lnTo>
                    <a:pt x="574" y="61"/>
                  </a:lnTo>
                  <a:lnTo>
                    <a:pt x="565" y="59"/>
                  </a:lnTo>
                  <a:lnTo>
                    <a:pt x="555" y="58"/>
                  </a:lnTo>
                  <a:lnTo>
                    <a:pt x="545" y="58"/>
                  </a:lnTo>
                  <a:lnTo>
                    <a:pt x="535" y="56"/>
                  </a:lnTo>
                  <a:lnTo>
                    <a:pt x="524" y="55"/>
                  </a:lnTo>
                  <a:lnTo>
                    <a:pt x="513" y="53"/>
                  </a:lnTo>
                  <a:lnTo>
                    <a:pt x="503" y="52"/>
                  </a:lnTo>
                  <a:lnTo>
                    <a:pt x="491" y="50"/>
                  </a:lnTo>
                  <a:lnTo>
                    <a:pt x="480" y="49"/>
                  </a:lnTo>
                  <a:lnTo>
                    <a:pt x="468" y="49"/>
                  </a:lnTo>
                  <a:lnTo>
                    <a:pt x="457" y="47"/>
                  </a:lnTo>
                  <a:lnTo>
                    <a:pt x="445" y="45"/>
                  </a:lnTo>
                  <a:lnTo>
                    <a:pt x="434" y="44"/>
                  </a:lnTo>
                  <a:lnTo>
                    <a:pt x="421" y="42"/>
                  </a:lnTo>
                  <a:lnTo>
                    <a:pt x="410" y="42"/>
                  </a:lnTo>
                  <a:lnTo>
                    <a:pt x="398" y="39"/>
                  </a:lnTo>
                  <a:lnTo>
                    <a:pt x="387" y="39"/>
                  </a:lnTo>
                  <a:lnTo>
                    <a:pt x="375" y="38"/>
                  </a:lnTo>
                  <a:lnTo>
                    <a:pt x="365" y="36"/>
                  </a:lnTo>
                  <a:lnTo>
                    <a:pt x="352" y="35"/>
                  </a:lnTo>
                  <a:lnTo>
                    <a:pt x="340" y="33"/>
                  </a:lnTo>
                  <a:lnTo>
                    <a:pt x="330" y="33"/>
                  </a:lnTo>
                  <a:lnTo>
                    <a:pt x="319" y="32"/>
                  </a:lnTo>
                  <a:lnTo>
                    <a:pt x="307" y="30"/>
                  </a:lnTo>
                  <a:lnTo>
                    <a:pt x="296" y="30"/>
                  </a:lnTo>
                  <a:lnTo>
                    <a:pt x="286" y="29"/>
                  </a:lnTo>
                  <a:lnTo>
                    <a:pt x="276" y="29"/>
                  </a:lnTo>
                  <a:lnTo>
                    <a:pt x="264" y="26"/>
                  </a:lnTo>
                  <a:lnTo>
                    <a:pt x="255" y="26"/>
                  </a:lnTo>
                  <a:lnTo>
                    <a:pt x="245" y="24"/>
                  </a:lnTo>
                  <a:lnTo>
                    <a:pt x="235" y="24"/>
                  </a:lnTo>
                  <a:lnTo>
                    <a:pt x="226" y="23"/>
                  </a:lnTo>
                  <a:lnTo>
                    <a:pt x="217" y="21"/>
                  </a:lnTo>
                  <a:lnTo>
                    <a:pt x="210" y="21"/>
                  </a:lnTo>
                  <a:lnTo>
                    <a:pt x="202" y="21"/>
                  </a:lnTo>
                  <a:lnTo>
                    <a:pt x="194" y="20"/>
                  </a:lnTo>
                  <a:lnTo>
                    <a:pt x="187" y="20"/>
                  </a:lnTo>
                  <a:lnTo>
                    <a:pt x="179" y="20"/>
                  </a:lnTo>
                  <a:lnTo>
                    <a:pt x="173" y="20"/>
                  </a:lnTo>
                  <a:lnTo>
                    <a:pt x="167" y="20"/>
                  </a:lnTo>
                  <a:lnTo>
                    <a:pt x="161" y="20"/>
                  </a:lnTo>
                  <a:lnTo>
                    <a:pt x="156" y="20"/>
                  </a:lnTo>
                  <a:lnTo>
                    <a:pt x="153" y="20"/>
                  </a:lnTo>
                  <a:lnTo>
                    <a:pt x="26" y="85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9"/>
            <p:cNvSpPr/>
            <p:nvPr/>
          </p:nvSpPr>
          <p:spPr>
            <a:xfrm>
              <a:off x="2493360" y="2444040"/>
              <a:ext cx="780840" cy="17820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491" h="112">
                  <a:moveTo>
                    <a:pt x="11" y="3"/>
                  </a:moveTo>
                  <a:lnTo>
                    <a:pt x="477" y="86"/>
                  </a:lnTo>
                  <a:lnTo>
                    <a:pt x="491" y="112"/>
                  </a:lnTo>
                  <a:lnTo>
                    <a:pt x="3" y="17"/>
                  </a:lnTo>
                  <a:lnTo>
                    <a:pt x="0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0"/>
            <p:cNvSpPr/>
            <p:nvPr/>
          </p:nvSpPr>
          <p:spPr>
            <a:xfrm>
              <a:off x="3265200" y="2385000"/>
              <a:ext cx="351360" cy="22572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21" h="142">
                  <a:moveTo>
                    <a:pt x="0" y="120"/>
                  </a:moveTo>
                  <a:lnTo>
                    <a:pt x="1" y="119"/>
                  </a:lnTo>
                  <a:lnTo>
                    <a:pt x="4" y="116"/>
                  </a:lnTo>
                  <a:lnTo>
                    <a:pt x="10" y="110"/>
                  </a:lnTo>
                  <a:lnTo>
                    <a:pt x="19" y="105"/>
                  </a:lnTo>
                  <a:lnTo>
                    <a:pt x="24" y="101"/>
                  </a:lnTo>
                  <a:lnTo>
                    <a:pt x="29" y="96"/>
                  </a:lnTo>
                  <a:lnTo>
                    <a:pt x="35" y="93"/>
                  </a:lnTo>
                  <a:lnTo>
                    <a:pt x="41" y="89"/>
                  </a:lnTo>
                  <a:lnTo>
                    <a:pt x="47" y="84"/>
                  </a:lnTo>
                  <a:lnTo>
                    <a:pt x="54" y="79"/>
                  </a:lnTo>
                  <a:lnTo>
                    <a:pt x="60" y="75"/>
                  </a:lnTo>
                  <a:lnTo>
                    <a:pt x="68" y="70"/>
                  </a:lnTo>
                  <a:lnTo>
                    <a:pt x="74" y="66"/>
                  </a:lnTo>
                  <a:lnTo>
                    <a:pt x="82" y="60"/>
                  </a:lnTo>
                  <a:lnTo>
                    <a:pt x="89" y="55"/>
                  </a:lnTo>
                  <a:lnTo>
                    <a:pt x="97" y="51"/>
                  </a:lnTo>
                  <a:lnTo>
                    <a:pt x="104" y="44"/>
                  </a:lnTo>
                  <a:lnTo>
                    <a:pt x="112" y="40"/>
                  </a:lnTo>
                  <a:lnTo>
                    <a:pt x="121" y="35"/>
                  </a:lnTo>
                  <a:lnTo>
                    <a:pt x="129" y="31"/>
                  </a:lnTo>
                  <a:lnTo>
                    <a:pt x="136" y="26"/>
                  </a:lnTo>
                  <a:lnTo>
                    <a:pt x="144" y="22"/>
                  </a:lnTo>
                  <a:lnTo>
                    <a:pt x="152" y="17"/>
                  </a:lnTo>
                  <a:lnTo>
                    <a:pt x="159" y="13"/>
                  </a:lnTo>
                  <a:lnTo>
                    <a:pt x="165" y="10"/>
                  </a:lnTo>
                  <a:lnTo>
                    <a:pt x="173" y="5"/>
                  </a:lnTo>
                  <a:lnTo>
                    <a:pt x="179" y="3"/>
                  </a:lnTo>
                  <a:lnTo>
                    <a:pt x="187" y="0"/>
                  </a:lnTo>
                  <a:lnTo>
                    <a:pt x="221" y="34"/>
                  </a:lnTo>
                  <a:lnTo>
                    <a:pt x="220" y="34"/>
                  </a:lnTo>
                  <a:lnTo>
                    <a:pt x="217" y="35"/>
                  </a:lnTo>
                  <a:lnTo>
                    <a:pt x="211" y="37"/>
                  </a:lnTo>
                  <a:lnTo>
                    <a:pt x="203" y="40"/>
                  </a:lnTo>
                  <a:lnTo>
                    <a:pt x="199" y="41"/>
                  </a:lnTo>
                  <a:lnTo>
                    <a:pt x="194" y="43"/>
                  </a:lnTo>
                  <a:lnTo>
                    <a:pt x="188" y="46"/>
                  </a:lnTo>
                  <a:lnTo>
                    <a:pt x="182" y="48"/>
                  </a:lnTo>
                  <a:lnTo>
                    <a:pt x="176" y="51"/>
                  </a:lnTo>
                  <a:lnTo>
                    <a:pt x="170" y="54"/>
                  </a:lnTo>
                  <a:lnTo>
                    <a:pt x="164" y="57"/>
                  </a:lnTo>
                  <a:lnTo>
                    <a:pt x="158" y="61"/>
                  </a:lnTo>
                  <a:lnTo>
                    <a:pt x="149" y="64"/>
                  </a:lnTo>
                  <a:lnTo>
                    <a:pt x="141" y="67"/>
                  </a:lnTo>
                  <a:lnTo>
                    <a:pt x="133" y="70"/>
                  </a:lnTo>
                  <a:lnTo>
                    <a:pt x="126" y="75"/>
                  </a:lnTo>
                  <a:lnTo>
                    <a:pt x="117" y="79"/>
                  </a:lnTo>
                  <a:lnTo>
                    <a:pt x="108" y="84"/>
                  </a:lnTo>
                  <a:lnTo>
                    <a:pt x="98" y="89"/>
                  </a:lnTo>
                  <a:lnTo>
                    <a:pt x="91" y="95"/>
                  </a:lnTo>
                  <a:lnTo>
                    <a:pt x="80" y="99"/>
                  </a:lnTo>
                  <a:lnTo>
                    <a:pt x="71" y="105"/>
                  </a:lnTo>
                  <a:lnTo>
                    <a:pt x="62" y="110"/>
                  </a:lnTo>
                  <a:lnTo>
                    <a:pt x="53" y="116"/>
                  </a:lnTo>
                  <a:lnTo>
                    <a:pt x="47" y="119"/>
                  </a:lnTo>
                  <a:lnTo>
                    <a:pt x="42" y="122"/>
                  </a:lnTo>
                  <a:lnTo>
                    <a:pt x="38" y="125"/>
                  </a:lnTo>
                  <a:lnTo>
                    <a:pt x="33" y="128"/>
                  </a:lnTo>
                  <a:lnTo>
                    <a:pt x="22" y="134"/>
                  </a:lnTo>
                  <a:lnTo>
                    <a:pt x="13" y="14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1"/>
            <p:cNvSpPr/>
            <p:nvPr/>
          </p:nvSpPr>
          <p:spPr>
            <a:xfrm>
              <a:off x="2499840" y="2284920"/>
              <a:ext cx="235080" cy="1414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48" h="89">
                  <a:moveTo>
                    <a:pt x="16" y="73"/>
                  </a:moveTo>
                  <a:lnTo>
                    <a:pt x="134" y="0"/>
                  </a:lnTo>
                  <a:lnTo>
                    <a:pt x="148" y="3"/>
                  </a:lnTo>
                  <a:lnTo>
                    <a:pt x="17" y="89"/>
                  </a:lnTo>
                  <a:lnTo>
                    <a:pt x="0" y="85"/>
                  </a:lnTo>
                  <a:lnTo>
                    <a:pt x="16" y="7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2"/>
            <p:cNvSpPr/>
            <p:nvPr/>
          </p:nvSpPr>
          <p:spPr>
            <a:xfrm>
              <a:off x="3080520" y="2351520"/>
              <a:ext cx="235440" cy="1429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8" h="90">
                  <a:moveTo>
                    <a:pt x="14" y="75"/>
                  </a:moveTo>
                  <a:lnTo>
                    <a:pt x="134" y="0"/>
                  </a:lnTo>
                  <a:lnTo>
                    <a:pt x="148" y="3"/>
                  </a:lnTo>
                  <a:lnTo>
                    <a:pt x="15" y="90"/>
                  </a:lnTo>
                  <a:lnTo>
                    <a:pt x="0" y="88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3"/>
            <p:cNvSpPr/>
            <p:nvPr/>
          </p:nvSpPr>
          <p:spPr>
            <a:xfrm>
              <a:off x="2954880" y="2335680"/>
              <a:ext cx="235440" cy="1396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48" h="88">
                  <a:moveTo>
                    <a:pt x="15" y="74"/>
                  </a:moveTo>
                  <a:lnTo>
                    <a:pt x="134" y="0"/>
                  </a:lnTo>
                  <a:lnTo>
                    <a:pt x="148" y="3"/>
                  </a:lnTo>
                  <a:lnTo>
                    <a:pt x="15" y="88"/>
                  </a:lnTo>
                  <a:lnTo>
                    <a:pt x="0" y="86"/>
                  </a:lnTo>
                  <a:lnTo>
                    <a:pt x="15" y="7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4"/>
            <p:cNvSpPr/>
            <p:nvPr/>
          </p:nvSpPr>
          <p:spPr>
            <a:xfrm>
              <a:off x="2838600" y="2324520"/>
              <a:ext cx="235440" cy="1461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8" h="92">
                  <a:moveTo>
                    <a:pt x="15" y="75"/>
                  </a:moveTo>
                  <a:lnTo>
                    <a:pt x="134" y="0"/>
                  </a:lnTo>
                  <a:lnTo>
                    <a:pt x="148" y="5"/>
                  </a:lnTo>
                  <a:lnTo>
                    <a:pt x="17" y="92"/>
                  </a:lnTo>
                  <a:lnTo>
                    <a:pt x="0" y="89"/>
                  </a:lnTo>
                  <a:lnTo>
                    <a:pt x="15" y="7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5"/>
            <p:cNvSpPr/>
            <p:nvPr/>
          </p:nvSpPr>
          <p:spPr>
            <a:xfrm>
              <a:off x="2740320" y="2305800"/>
              <a:ext cx="231840" cy="1425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46" h="90">
                  <a:moveTo>
                    <a:pt x="14" y="73"/>
                  </a:moveTo>
                  <a:lnTo>
                    <a:pt x="132" y="0"/>
                  </a:lnTo>
                  <a:lnTo>
                    <a:pt x="146" y="3"/>
                  </a:lnTo>
                  <a:lnTo>
                    <a:pt x="14" y="90"/>
                  </a:lnTo>
                  <a:lnTo>
                    <a:pt x="0" y="87"/>
                  </a:lnTo>
                  <a:lnTo>
                    <a:pt x="14" y="7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6"/>
            <p:cNvSpPr/>
            <p:nvPr/>
          </p:nvSpPr>
          <p:spPr>
            <a:xfrm>
              <a:off x="2611080" y="2296080"/>
              <a:ext cx="232200" cy="13968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46" h="88">
                  <a:moveTo>
                    <a:pt x="14" y="73"/>
                  </a:moveTo>
                  <a:lnTo>
                    <a:pt x="133" y="0"/>
                  </a:lnTo>
                  <a:lnTo>
                    <a:pt x="146" y="2"/>
                  </a:lnTo>
                  <a:lnTo>
                    <a:pt x="14" y="88"/>
                  </a:lnTo>
                  <a:lnTo>
                    <a:pt x="0" y="85"/>
                  </a:lnTo>
                  <a:lnTo>
                    <a:pt x="14" y="7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7"/>
            <p:cNvSpPr/>
            <p:nvPr/>
          </p:nvSpPr>
          <p:spPr>
            <a:xfrm>
              <a:off x="3252600" y="2407680"/>
              <a:ext cx="203400" cy="41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28" h="26">
                  <a:moveTo>
                    <a:pt x="18" y="0"/>
                  </a:moveTo>
                  <a:lnTo>
                    <a:pt x="67" y="5"/>
                  </a:lnTo>
                  <a:lnTo>
                    <a:pt x="93" y="8"/>
                  </a:lnTo>
                  <a:lnTo>
                    <a:pt x="128" y="14"/>
                  </a:lnTo>
                  <a:lnTo>
                    <a:pt x="105" y="26"/>
                  </a:lnTo>
                  <a:lnTo>
                    <a:pt x="0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8"/>
            <p:cNvSpPr/>
            <p:nvPr/>
          </p:nvSpPr>
          <p:spPr>
            <a:xfrm>
              <a:off x="3195360" y="2440800"/>
              <a:ext cx="186120" cy="39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17" h="25">
                  <a:moveTo>
                    <a:pt x="13" y="0"/>
                  </a:moveTo>
                  <a:lnTo>
                    <a:pt x="45" y="5"/>
                  </a:lnTo>
                  <a:lnTo>
                    <a:pt x="117" y="16"/>
                  </a:lnTo>
                  <a:lnTo>
                    <a:pt x="103" y="25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0"/>
            <p:cNvSpPr/>
            <p:nvPr/>
          </p:nvSpPr>
          <p:spPr>
            <a:xfrm>
              <a:off x="1767960" y="2197440"/>
              <a:ext cx="497880" cy="1429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3" h="90">
                  <a:moveTo>
                    <a:pt x="296" y="62"/>
                  </a:moveTo>
                  <a:lnTo>
                    <a:pt x="281" y="73"/>
                  </a:lnTo>
                  <a:lnTo>
                    <a:pt x="29" y="90"/>
                  </a:lnTo>
                  <a:lnTo>
                    <a:pt x="27" y="87"/>
                  </a:lnTo>
                  <a:lnTo>
                    <a:pt x="21" y="80"/>
                  </a:lnTo>
                  <a:lnTo>
                    <a:pt x="17" y="76"/>
                  </a:lnTo>
                  <a:lnTo>
                    <a:pt x="14" y="71"/>
                  </a:lnTo>
                  <a:lnTo>
                    <a:pt x="11" y="65"/>
                  </a:lnTo>
                  <a:lnTo>
                    <a:pt x="8" y="59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6"/>
                  </a:lnTo>
                  <a:lnTo>
                    <a:pt x="5" y="20"/>
                  </a:lnTo>
                  <a:lnTo>
                    <a:pt x="9" y="14"/>
                  </a:lnTo>
                  <a:lnTo>
                    <a:pt x="18" y="11"/>
                  </a:lnTo>
                  <a:lnTo>
                    <a:pt x="313" y="0"/>
                  </a:lnTo>
                  <a:lnTo>
                    <a:pt x="296" y="18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3" y="24"/>
                  </a:lnTo>
                  <a:lnTo>
                    <a:pt x="38" y="30"/>
                  </a:lnTo>
                  <a:lnTo>
                    <a:pt x="35" y="38"/>
                  </a:lnTo>
                  <a:lnTo>
                    <a:pt x="32" y="44"/>
                  </a:lnTo>
                  <a:lnTo>
                    <a:pt x="32" y="52"/>
                  </a:lnTo>
                  <a:lnTo>
                    <a:pt x="34" y="59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70"/>
                  </a:lnTo>
                  <a:lnTo>
                    <a:pt x="52" y="71"/>
                  </a:lnTo>
                  <a:lnTo>
                    <a:pt x="58" y="73"/>
                  </a:lnTo>
                  <a:lnTo>
                    <a:pt x="64" y="73"/>
                  </a:lnTo>
                  <a:lnTo>
                    <a:pt x="71" y="73"/>
                  </a:lnTo>
                  <a:lnTo>
                    <a:pt x="81" y="73"/>
                  </a:lnTo>
                  <a:lnTo>
                    <a:pt x="90" y="74"/>
                  </a:lnTo>
                  <a:lnTo>
                    <a:pt x="99" y="73"/>
                  </a:lnTo>
                  <a:lnTo>
                    <a:pt x="109" y="73"/>
                  </a:lnTo>
                  <a:lnTo>
                    <a:pt x="116" y="73"/>
                  </a:lnTo>
                  <a:lnTo>
                    <a:pt x="120" y="73"/>
                  </a:lnTo>
                  <a:lnTo>
                    <a:pt x="126" y="73"/>
                  </a:lnTo>
                  <a:lnTo>
                    <a:pt x="131" y="73"/>
                  </a:lnTo>
                  <a:lnTo>
                    <a:pt x="137" y="73"/>
                  </a:lnTo>
                  <a:lnTo>
                    <a:pt x="141" y="73"/>
                  </a:lnTo>
                  <a:lnTo>
                    <a:pt x="147" y="73"/>
                  </a:lnTo>
                  <a:lnTo>
                    <a:pt x="154" y="73"/>
                  </a:lnTo>
                  <a:lnTo>
                    <a:pt x="160" y="71"/>
                  </a:lnTo>
                  <a:lnTo>
                    <a:pt x="166" y="71"/>
                  </a:lnTo>
                  <a:lnTo>
                    <a:pt x="172" y="71"/>
                  </a:lnTo>
                  <a:lnTo>
                    <a:pt x="178" y="71"/>
                  </a:lnTo>
                  <a:lnTo>
                    <a:pt x="182" y="71"/>
                  </a:lnTo>
                  <a:lnTo>
                    <a:pt x="188" y="70"/>
                  </a:lnTo>
                  <a:lnTo>
                    <a:pt x="195" y="70"/>
                  </a:lnTo>
                  <a:lnTo>
                    <a:pt x="199" y="70"/>
                  </a:lnTo>
                  <a:lnTo>
                    <a:pt x="205" y="68"/>
                  </a:lnTo>
                  <a:lnTo>
                    <a:pt x="210" y="68"/>
                  </a:lnTo>
                  <a:lnTo>
                    <a:pt x="216" y="68"/>
                  </a:lnTo>
                  <a:lnTo>
                    <a:pt x="222" y="68"/>
                  </a:lnTo>
                  <a:lnTo>
                    <a:pt x="225" y="67"/>
                  </a:lnTo>
                  <a:lnTo>
                    <a:pt x="231" y="67"/>
                  </a:lnTo>
                  <a:lnTo>
                    <a:pt x="236" y="67"/>
                  </a:lnTo>
                  <a:lnTo>
                    <a:pt x="242" y="67"/>
                  </a:lnTo>
                  <a:lnTo>
                    <a:pt x="251" y="65"/>
                  </a:lnTo>
                  <a:lnTo>
                    <a:pt x="260" y="65"/>
                  </a:lnTo>
                  <a:lnTo>
                    <a:pt x="266" y="64"/>
                  </a:lnTo>
                  <a:lnTo>
                    <a:pt x="274" y="62"/>
                  </a:lnTo>
                  <a:lnTo>
                    <a:pt x="280" y="62"/>
                  </a:lnTo>
                  <a:lnTo>
                    <a:pt x="286" y="62"/>
                  </a:lnTo>
                  <a:lnTo>
                    <a:pt x="290" y="62"/>
                  </a:lnTo>
                  <a:lnTo>
                    <a:pt x="293" y="62"/>
                  </a:lnTo>
                  <a:lnTo>
                    <a:pt x="296" y="62"/>
                  </a:lnTo>
                  <a:close/>
                </a:path>
              </a:pathLst>
            </a:custGeom>
            <a:solidFill>
              <a:srgbClr val="125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1"/>
            <p:cNvSpPr/>
            <p:nvPr/>
          </p:nvSpPr>
          <p:spPr>
            <a:xfrm>
              <a:off x="1529280" y="1998360"/>
              <a:ext cx="262080" cy="319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65" h="201">
                  <a:moveTo>
                    <a:pt x="138" y="183"/>
                  </a:moveTo>
                  <a:lnTo>
                    <a:pt x="13" y="87"/>
                  </a:lnTo>
                  <a:lnTo>
                    <a:pt x="12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3" y="67"/>
                  </a:lnTo>
                  <a:lnTo>
                    <a:pt x="1" y="61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3" y="26"/>
                  </a:lnTo>
                  <a:lnTo>
                    <a:pt x="4" y="19"/>
                  </a:lnTo>
                  <a:lnTo>
                    <a:pt x="9" y="13"/>
                  </a:lnTo>
                  <a:lnTo>
                    <a:pt x="15" y="5"/>
                  </a:lnTo>
                  <a:lnTo>
                    <a:pt x="22" y="0"/>
                  </a:lnTo>
                  <a:lnTo>
                    <a:pt x="165" y="110"/>
                  </a:lnTo>
                  <a:lnTo>
                    <a:pt x="152" y="126"/>
                  </a:lnTo>
                  <a:lnTo>
                    <a:pt x="33" y="28"/>
                  </a:lnTo>
                  <a:lnTo>
                    <a:pt x="32" y="28"/>
                  </a:lnTo>
                  <a:lnTo>
                    <a:pt x="30" y="32"/>
                  </a:lnTo>
                  <a:lnTo>
                    <a:pt x="25" y="37"/>
                  </a:lnTo>
                  <a:lnTo>
                    <a:pt x="24" y="43"/>
                  </a:lnTo>
                  <a:lnTo>
                    <a:pt x="22" y="50"/>
                  </a:lnTo>
                  <a:lnTo>
                    <a:pt x="24" y="58"/>
                  </a:lnTo>
                  <a:lnTo>
                    <a:pt x="25" y="63"/>
                  </a:lnTo>
                  <a:lnTo>
                    <a:pt x="27" y="67"/>
                  </a:lnTo>
                  <a:lnTo>
                    <a:pt x="32" y="72"/>
                  </a:lnTo>
                  <a:lnTo>
                    <a:pt x="36" y="78"/>
                  </a:lnTo>
                  <a:lnTo>
                    <a:pt x="41" y="82"/>
                  </a:lnTo>
                  <a:lnTo>
                    <a:pt x="48" y="87"/>
                  </a:lnTo>
                  <a:lnTo>
                    <a:pt x="56" y="95"/>
                  </a:lnTo>
                  <a:lnTo>
                    <a:pt x="63" y="101"/>
                  </a:lnTo>
                  <a:lnTo>
                    <a:pt x="73" y="107"/>
                  </a:lnTo>
                  <a:lnTo>
                    <a:pt x="82" y="114"/>
                  </a:lnTo>
                  <a:lnTo>
                    <a:pt x="91" y="122"/>
                  </a:lnTo>
                  <a:lnTo>
                    <a:pt x="100" y="128"/>
                  </a:lnTo>
                  <a:lnTo>
                    <a:pt x="106" y="134"/>
                  </a:lnTo>
                  <a:lnTo>
                    <a:pt x="115" y="140"/>
                  </a:lnTo>
                  <a:lnTo>
                    <a:pt x="123" y="145"/>
                  </a:lnTo>
                  <a:lnTo>
                    <a:pt x="129" y="151"/>
                  </a:lnTo>
                  <a:lnTo>
                    <a:pt x="133" y="154"/>
                  </a:lnTo>
                  <a:lnTo>
                    <a:pt x="138" y="157"/>
                  </a:lnTo>
                  <a:lnTo>
                    <a:pt x="139" y="160"/>
                  </a:lnTo>
                  <a:lnTo>
                    <a:pt x="141" y="160"/>
                  </a:lnTo>
                  <a:lnTo>
                    <a:pt x="158" y="201"/>
                  </a:lnTo>
                  <a:lnTo>
                    <a:pt x="138" y="183"/>
                  </a:lnTo>
                  <a:close/>
                </a:path>
              </a:pathLst>
            </a:custGeom>
            <a:solidFill>
              <a:srgbClr val="125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2"/>
            <p:cNvSpPr/>
            <p:nvPr/>
          </p:nvSpPr>
          <p:spPr>
            <a:xfrm>
              <a:off x="1600920" y="1947600"/>
              <a:ext cx="632880" cy="240120"/>
            </a:xfrm>
            <a:custGeom>
              <a:avLst/>
              <a:gdLst>
                <a:gd name="textAreaLeft" fmla="*/ 0 w 632880"/>
                <a:gd name="textAreaRight" fmla="*/ 632880 w 632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98" h="151">
                  <a:moveTo>
                    <a:pt x="0" y="32"/>
                  </a:moveTo>
                  <a:lnTo>
                    <a:pt x="231" y="0"/>
                  </a:lnTo>
                  <a:lnTo>
                    <a:pt x="398" y="151"/>
                  </a:lnTo>
                  <a:lnTo>
                    <a:pt x="366" y="151"/>
                  </a:lnTo>
                  <a:lnTo>
                    <a:pt x="236" y="29"/>
                  </a:lnTo>
                  <a:lnTo>
                    <a:pt x="20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25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3"/>
            <p:cNvSpPr/>
            <p:nvPr/>
          </p:nvSpPr>
          <p:spPr>
            <a:xfrm>
              <a:off x="2437920" y="2030400"/>
              <a:ext cx="696600" cy="24624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438" h="155">
                  <a:moveTo>
                    <a:pt x="415" y="102"/>
                  </a:moveTo>
                  <a:lnTo>
                    <a:pt x="413" y="102"/>
                  </a:lnTo>
                  <a:lnTo>
                    <a:pt x="406" y="103"/>
                  </a:lnTo>
                  <a:lnTo>
                    <a:pt x="400" y="105"/>
                  </a:lnTo>
                  <a:lnTo>
                    <a:pt x="395" y="106"/>
                  </a:lnTo>
                  <a:lnTo>
                    <a:pt x="389" y="108"/>
                  </a:lnTo>
                  <a:lnTo>
                    <a:pt x="381" y="111"/>
                  </a:lnTo>
                  <a:lnTo>
                    <a:pt x="372" y="111"/>
                  </a:lnTo>
                  <a:lnTo>
                    <a:pt x="363" y="113"/>
                  </a:lnTo>
                  <a:lnTo>
                    <a:pt x="357" y="114"/>
                  </a:lnTo>
                  <a:lnTo>
                    <a:pt x="352" y="116"/>
                  </a:lnTo>
                  <a:lnTo>
                    <a:pt x="348" y="116"/>
                  </a:lnTo>
                  <a:lnTo>
                    <a:pt x="343" y="117"/>
                  </a:lnTo>
                  <a:lnTo>
                    <a:pt x="336" y="117"/>
                  </a:lnTo>
                  <a:lnTo>
                    <a:pt x="331" y="119"/>
                  </a:lnTo>
                  <a:lnTo>
                    <a:pt x="325" y="119"/>
                  </a:lnTo>
                  <a:lnTo>
                    <a:pt x="321" y="122"/>
                  </a:lnTo>
                  <a:lnTo>
                    <a:pt x="313" y="122"/>
                  </a:lnTo>
                  <a:lnTo>
                    <a:pt x="307" y="123"/>
                  </a:lnTo>
                  <a:lnTo>
                    <a:pt x="301" y="123"/>
                  </a:lnTo>
                  <a:lnTo>
                    <a:pt x="295" y="125"/>
                  </a:lnTo>
                  <a:lnTo>
                    <a:pt x="289" y="125"/>
                  </a:lnTo>
                  <a:lnTo>
                    <a:pt x="281" y="126"/>
                  </a:lnTo>
                  <a:lnTo>
                    <a:pt x="275" y="126"/>
                  </a:lnTo>
                  <a:lnTo>
                    <a:pt x="269" y="126"/>
                  </a:lnTo>
                  <a:lnTo>
                    <a:pt x="261" y="126"/>
                  </a:lnTo>
                  <a:lnTo>
                    <a:pt x="254" y="128"/>
                  </a:lnTo>
                  <a:lnTo>
                    <a:pt x="246" y="128"/>
                  </a:lnTo>
                  <a:lnTo>
                    <a:pt x="240" y="129"/>
                  </a:lnTo>
                  <a:lnTo>
                    <a:pt x="232" y="128"/>
                  </a:lnTo>
                  <a:lnTo>
                    <a:pt x="225" y="128"/>
                  </a:lnTo>
                  <a:lnTo>
                    <a:pt x="217" y="128"/>
                  </a:lnTo>
                  <a:lnTo>
                    <a:pt x="210" y="128"/>
                  </a:lnTo>
                  <a:lnTo>
                    <a:pt x="204" y="128"/>
                  </a:lnTo>
                  <a:lnTo>
                    <a:pt x="196" y="128"/>
                  </a:lnTo>
                  <a:lnTo>
                    <a:pt x="188" y="128"/>
                  </a:lnTo>
                  <a:lnTo>
                    <a:pt x="181" y="128"/>
                  </a:lnTo>
                  <a:lnTo>
                    <a:pt x="173" y="126"/>
                  </a:lnTo>
                  <a:lnTo>
                    <a:pt x="166" y="126"/>
                  </a:lnTo>
                  <a:lnTo>
                    <a:pt x="158" y="123"/>
                  </a:lnTo>
                  <a:lnTo>
                    <a:pt x="150" y="123"/>
                  </a:lnTo>
                  <a:lnTo>
                    <a:pt x="141" y="122"/>
                  </a:lnTo>
                  <a:lnTo>
                    <a:pt x="135" y="122"/>
                  </a:lnTo>
                  <a:lnTo>
                    <a:pt x="128" y="120"/>
                  </a:lnTo>
                  <a:lnTo>
                    <a:pt x="120" y="119"/>
                  </a:lnTo>
                  <a:lnTo>
                    <a:pt x="112" y="117"/>
                  </a:lnTo>
                  <a:lnTo>
                    <a:pt x="105" y="116"/>
                  </a:lnTo>
                  <a:lnTo>
                    <a:pt x="97" y="113"/>
                  </a:lnTo>
                  <a:lnTo>
                    <a:pt x="90" y="111"/>
                  </a:lnTo>
                  <a:lnTo>
                    <a:pt x="84" y="108"/>
                  </a:lnTo>
                  <a:lnTo>
                    <a:pt x="76" y="106"/>
                  </a:lnTo>
                  <a:lnTo>
                    <a:pt x="68" y="103"/>
                  </a:lnTo>
                  <a:lnTo>
                    <a:pt x="62" y="102"/>
                  </a:lnTo>
                  <a:lnTo>
                    <a:pt x="62" y="100"/>
                  </a:lnTo>
                  <a:lnTo>
                    <a:pt x="62" y="99"/>
                  </a:lnTo>
                  <a:lnTo>
                    <a:pt x="65" y="94"/>
                  </a:lnTo>
                  <a:lnTo>
                    <a:pt x="67" y="90"/>
                  </a:lnTo>
                  <a:lnTo>
                    <a:pt x="70" y="84"/>
                  </a:lnTo>
                  <a:lnTo>
                    <a:pt x="74" y="76"/>
                  </a:lnTo>
                  <a:lnTo>
                    <a:pt x="79" y="70"/>
                  </a:lnTo>
                  <a:lnTo>
                    <a:pt x="85" y="62"/>
                  </a:lnTo>
                  <a:lnTo>
                    <a:pt x="90" y="53"/>
                  </a:lnTo>
                  <a:lnTo>
                    <a:pt x="96" y="47"/>
                  </a:lnTo>
                  <a:lnTo>
                    <a:pt x="102" y="38"/>
                  </a:lnTo>
                  <a:lnTo>
                    <a:pt x="108" y="32"/>
                  </a:lnTo>
                  <a:lnTo>
                    <a:pt x="114" y="24"/>
                  </a:lnTo>
                  <a:lnTo>
                    <a:pt x="122" y="20"/>
                  </a:lnTo>
                  <a:lnTo>
                    <a:pt x="128" y="15"/>
                  </a:lnTo>
                  <a:lnTo>
                    <a:pt x="135" y="12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4" y="2"/>
                  </a:lnTo>
                  <a:lnTo>
                    <a:pt x="79" y="5"/>
                  </a:lnTo>
                  <a:lnTo>
                    <a:pt x="74" y="9"/>
                  </a:lnTo>
                  <a:lnTo>
                    <a:pt x="68" y="14"/>
                  </a:lnTo>
                  <a:lnTo>
                    <a:pt x="62" y="20"/>
                  </a:lnTo>
                  <a:lnTo>
                    <a:pt x="55" y="27"/>
                  </a:lnTo>
                  <a:lnTo>
                    <a:pt x="49" y="35"/>
                  </a:lnTo>
                  <a:lnTo>
                    <a:pt x="39" y="43"/>
                  </a:lnTo>
                  <a:lnTo>
                    <a:pt x="33" y="52"/>
                  </a:lnTo>
                  <a:lnTo>
                    <a:pt x="24" y="61"/>
                  </a:lnTo>
                  <a:lnTo>
                    <a:pt x="18" y="70"/>
                  </a:lnTo>
                  <a:lnTo>
                    <a:pt x="12" y="79"/>
                  </a:lnTo>
                  <a:lnTo>
                    <a:pt x="6" y="88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11" y="109"/>
                  </a:lnTo>
                  <a:lnTo>
                    <a:pt x="15" y="111"/>
                  </a:lnTo>
                  <a:lnTo>
                    <a:pt x="23" y="113"/>
                  </a:lnTo>
                  <a:lnTo>
                    <a:pt x="30" y="116"/>
                  </a:lnTo>
                  <a:lnTo>
                    <a:pt x="39" y="117"/>
                  </a:lnTo>
                  <a:lnTo>
                    <a:pt x="44" y="117"/>
                  </a:lnTo>
                  <a:lnTo>
                    <a:pt x="49" y="119"/>
                  </a:lnTo>
                  <a:lnTo>
                    <a:pt x="55" y="120"/>
                  </a:lnTo>
                  <a:lnTo>
                    <a:pt x="61" y="122"/>
                  </a:lnTo>
                  <a:lnTo>
                    <a:pt x="67" y="123"/>
                  </a:lnTo>
                  <a:lnTo>
                    <a:pt x="71" y="125"/>
                  </a:lnTo>
                  <a:lnTo>
                    <a:pt x="79" y="126"/>
                  </a:lnTo>
                  <a:lnTo>
                    <a:pt x="85" y="128"/>
                  </a:lnTo>
                  <a:lnTo>
                    <a:pt x="91" y="129"/>
                  </a:lnTo>
                  <a:lnTo>
                    <a:pt x="99" y="131"/>
                  </a:lnTo>
                  <a:lnTo>
                    <a:pt x="105" y="131"/>
                  </a:lnTo>
                  <a:lnTo>
                    <a:pt x="112" y="132"/>
                  </a:lnTo>
                  <a:lnTo>
                    <a:pt x="120" y="134"/>
                  </a:lnTo>
                  <a:lnTo>
                    <a:pt x="128" y="135"/>
                  </a:lnTo>
                  <a:lnTo>
                    <a:pt x="137" y="137"/>
                  </a:lnTo>
                  <a:lnTo>
                    <a:pt x="144" y="140"/>
                  </a:lnTo>
                  <a:lnTo>
                    <a:pt x="152" y="140"/>
                  </a:lnTo>
                  <a:lnTo>
                    <a:pt x="160" y="141"/>
                  </a:lnTo>
                  <a:lnTo>
                    <a:pt x="169" y="141"/>
                  </a:lnTo>
                  <a:lnTo>
                    <a:pt x="176" y="143"/>
                  </a:lnTo>
                  <a:lnTo>
                    <a:pt x="185" y="144"/>
                  </a:lnTo>
                  <a:lnTo>
                    <a:pt x="194" y="144"/>
                  </a:lnTo>
                  <a:lnTo>
                    <a:pt x="204" y="146"/>
                  </a:lnTo>
                  <a:lnTo>
                    <a:pt x="211" y="147"/>
                  </a:lnTo>
                  <a:lnTo>
                    <a:pt x="220" y="147"/>
                  </a:lnTo>
                  <a:lnTo>
                    <a:pt x="229" y="149"/>
                  </a:lnTo>
                  <a:lnTo>
                    <a:pt x="239" y="149"/>
                  </a:lnTo>
                  <a:lnTo>
                    <a:pt x="248" y="150"/>
                  </a:lnTo>
                  <a:lnTo>
                    <a:pt x="257" y="150"/>
                  </a:lnTo>
                  <a:lnTo>
                    <a:pt x="266" y="152"/>
                  </a:lnTo>
                  <a:lnTo>
                    <a:pt x="275" y="154"/>
                  </a:lnTo>
                  <a:lnTo>
                    <a:pt x="286" y="154"/>
                  </a:lnTo>
                  <a:lnTo>
                    <a:pt x="293" y="154"/>
                  </a:lnTo>
                  <a:lnTo>
                    <a:pt x="304" y="154"/>
                  </a:lnTo>
                  <a:lnTo>
                    <a:pt x="313" y="154"/>
                  </a:lnTo>
                  <a:lnTo>
                    <a:pt x="322" y="155"/>
                  </a:lnTo>
                  <a:lnTo>
                    <a:pt x="331" y="155"/>
                  </a:lnTo>
                  <a:lnTo>
                    <a:pt x="342" y="155"/>
                  </a:lnTo>
                  <a:lnTo>
                    <a:pt x="351" y="155"/>
                  </a:lnTo>
                  <a:lnTo>
                    <a:pt x="362" y="155"/>
                  </a:lnTo>
                  <a:lnTo>
                    <a:pt x="371" y="154"/>
                  </a:lnTo>
                  <a:lnTo>
                    <a:pt x="380" y="154"/>
                  </a:lnTo>
                  <a:lnTo>
                    <a:pt x="389" y="152"/>
                  </a:lnTo>
                  <a:lnTo>
                    <a:pt x="400" y="152"/>
                  </a:lnTo>
                  <a:lnTo>
                    <a:pt x="409" y="150"/>
                  </a:lnTo>
                  <a:lnTo>
                    <a:pt x="418" y="149"/>
                  </a:lnTo>
                  <a:lnTo>
                    <a:pt x="427" y="149"/>
                  </a:lnTo>
                  <a:lnTo>
                    <a:pt x="438" y="147"/>
                  </a:lnTo>
                  <a:lnTo>
                    <a:pt x="415" y="102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4"/>
            <p:cNvSpPr/>
            <p:nvPr/>
          </p:nvSpPr>
          <p:spPr>
            <a:xfrm>
              <a:off x="2991240" y="2081520"/>
              <a:ext cx="87480" cy="106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5" h="67">
                  <a:moveTo>
                    <a:pt x="0" y="0"/>
                  </a:moveTo>
                  <a:lnTo>
                    <a:pt x="29" y="0"/>
                  </a:lnTo>
                  <a:lnTo>
                    <a:pt x="41" y="27"/>
                  </a:lnTo>
                  <a:lnTo>
                    <a:pt x="55" y="58"/>
                  </a:lnTo>
                  <a:lnTo>
                    <a:pt x="41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5"/>
            <p:cNvSpPr/>
            <p:nvPr/>
          </p:nvSpPr>
          <p:spPr>
            <a:xfrm>
              <a:off x="2248560" y="1265400"/>
              <a:ext cx="1037160" cy="82512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652" h="519">
                  <a:moveTo>
                    <a:pt x="479" y="508"/>
                  </a:moveTo>
                  <a:lnTo>
                    <a:pt x="0" y="454"/>
                  </a:lnTo>
                  <a:lnTo>
                    <a:pt x="72" y="4"/>
                  </a:lnTo>
                  <a:lnTo>
                    <a:pt x="652" y="0"/>
                  </a:lnTo>
                  <a:lnTo>
                    <a:pt x="534" y="519"/>
                  </a:lnTo>
                  <a:lnTo>
                    <a:pt x="496" y="481"/>
                  </a:lnTo>
                  <a:lnTo>
                    <a:pt x="496" y="480"/>
                  </a:lnTo>
                  <a:lnTo>
                    <a:pt x="496" y="475"/>
                  </a:lnTo>
                  <a:lnTo>
                    <a:pt x="497" y="469"/>
                  </a:lnTo>
                  <a:lnTo>
                    <a:pt x="500" y="463"/>
                  </a:lnTo>
                  <a:lnTo>
                    <a:pt x="502" y="457"/>
                  </a:lnTo>
                  <a:lnTo>
                    <a:pt x="503" y="451"/>
                  </a:lnTo>
                  <a:lnTo>
                    <a:pt x="505" y="446"/>
                  </a:lnTo>
                  <a:lnTo>
                    <a:pt x="506" y="440"/>
                  </a:lnTo>
                  <a:lnTo>
                    <a:pt x="508" y="432"/>
                  </a:lnTo>
                  <a:lnTo>
                    <a:pt x="509" y="426"/>
                  </a:lnTo>
                  <a:lnTo>
                    <a:pt x="513" y="419"/>
                  </a:lnTo>
                  <a:lnTo>
                    <a:pt x="516" y="413"/>
                  </a:lnTo>
                  <a:lnTo>
                    <a:pt x="517" y="404"/>
                  </a:lnTo>
                  <a:lnTo>
                    <a:pt x="520" y="396"/>
                  </a:lnTo>
                  <a:lnTo>
                    <a:pt x="523" y="387"/>
                  </a:lnTo>
                  <a:lnTo>
                    <a:pt x="525" y="379"/>
                  </a:lnTo>
                  <a:lnTo>
                    <a:pt x="528" y="370"/>
                  </a:lnTo>
                  <a:lnTo>
                    <a:pt x="531" y="361"/>
                  </a:lnTo>
                  <a:lnTo>
                    <a:pt x="534" y="352"/>
                  </a:lnTo>
                  <a:lnTo>
                    <a:pt x="537" y="343"/>
                  </a:lnTo>
                  <a:lnTo>
                    <a:pt x="538" y="332"/>
                  </a:lnTo>
                  <a:lnTo>
                    <a:pt x="541" y="323"/>
                  </a:lnTo>
                  <a:lnTo>
                    <a:pt x="544" y="312"/>
                  </a:lnTo>
                  <a:lnTo>
                    <a:pt x="547" y="303"/>
                  </a:lnTo>
                  <a:lnTo>
                    <a:pt x="551" y="293"/>
                  </a:lnTo>
                  <a:lnTo>
                    <a:pt x="555" y="284"/>
                  </a:lnTo>
                  <a:lnTo>
                    <a:pt x="557" y="273"/>
                  </a:lnTo>
                  <a:lnTo>
                    <a:pt x="561" y="264"/>
                  </a:lnTo>
                  <a:lnTo>
                    <a:pt x="564" y="253"/>
                  </a:lnTo>
                  <a:lnTo>
                    <a:pt x="566" y="243"/>
                  </a:lnTo>
                  <a:lnTo>
                    <a:pt x="569" y="233"/>
                  </a:lnTo>
                  <a:lnTo>
                    <a:pt x="572" y="223"/>
                  </a:lnTo>
                  <a:lnTo>
                    <a:pt x="575" y="212"/>
                  </a:lnTo>
                  <a:lnTo>
                    <a:pt x="578" y="202"/>
                  </a:lnTo>
                  <a:lnTo>
                    <a:pt x="579" y="192"/>
                  </a:lnTo>
                  <a:lnTo>
                    <a:pt x="584" y="183"/>
                  </a:lnTo>
                  <a:lnTo>
                    <a:pt x="585" y="173"/>
                  </a:lnTo>
                  <a:lnTo>
                    <a:pt x="588" y="164"/>
                  </a:lnTo>
                  <a:lnTo>
                    <a:pt x="592" y="154"/>
                  </a:lnTo>
                  <a:lnTo>
                    <a:pt x="593" y="145"/>
                  </a:lnTo>
                  <a:lnTo>
                    <a:pt x="596" y="136"/>
                  </a:lnTo>
                  <a:lnTo>
                    <a:pt x="598" y="129"/>
                  </a:lnTo>
                  <a:lnTo>
                    <a:pt x="601" y="120"/>
                  </a:lnTo>
                  <a:lnTo>
                    <a:pt x="604" y="113"/>
                  </a:lnTo>
                  <a:lnTo>
                    <a:pt x="605" y="104"/>
                  </a:lnTo>
                  <a:lnTo>
                    <a:pt x="607" y="97"/>
                  </a:lnTo>
                  <a:lnTo>
                    <a:pt x="608" y="91"/>
                  </a:lnTo>
                  <a:lnTo>
                    <a:pt x="611" y="83"/>
                  </a:lnTo>
                  <a:lnTo>
                    <a:pt x="611" y="77"/>
                  </a:lnTo>
                  <a:lnTo>
                    <a:pt x="613" y="72"/>
                  </a:lnTo>
                  <a:lnTo>
                    <a:pt x="614" y="66"/>
                  </a:lnTo>
                  <a:lnTo>
                    <a:pt x="616" y="63"/>
                  </a:lnTo>
                  <a:lnTo>
                    <a:pt x="617" y="54"/>
                  </a:lnTo>
                  <a:lnTo>
                    <a:pt x="619" y="48"/>
                  </a:lnTo>
                  <a:lnTo>
                    <a:pt x="619" y="45"/>
                  </a:lnTo>
                  <a:lnTo>
                    <a:pt x="620" y="44"/>
                  </a:lnTo>
                  <a:lnTo>
                    <a:pt x="616" y="42"/>
                  </a:lnTo>
                  <a:lnTo>
                    <a:pt x="611" y="42"/>
                  </a:lnTo>
                  <a:lnTo>
                    <a:pt x="607" y="41"/>
                  </a:lnTo>
                  <a:lnTo>
                    <a:pt x="602" y="41"/>
                  </a:lnTo>
                  <a:lnTo>
                    <a:pt x="598" y="41"/>
                  </a:lnTo>
                  <a:lnTo>
                    <a:pt x="593" y="41"/>
                  </a:lnTo>
                  <a:lnTo>
                    <a:pt x="587" y="39"/>
                  </a:lnTo>
                  <a:lnTo>
                    <a:pt x="581" y="38"/>
                  </a:lnTo>
                  <a:lnTo>
                    <a:pt x="573" y="38"/>
                  </a:lnTo>
                  <a:lnTo>
                    <a:pt x="567" y="38"/>
                  </a:lnTo>
                  <a:lnTo>
                    <a:pt x="560" y="38"/>
                  </a:lnTo>
                  <a:lnTo>
                    <a:pt x="551" y="36"/>
                  </a:lnTo>
                  <a:lnTo>
                    <a:pt x="543" y="36"/>
                  </a:lnTo>
                  <a:lnTo>
                    <a:pt x="534" y="36"/>
                  </a:lnTo>
                  <a:lnTo>
                    <a:pt x="525" y="36"/>
                  </a:lnTo>
                  <a:lnTo>
                    <a:pt x="514" y="34"/>
                  </a:lnTo>
                  <a:lnTo>
                    <a:pt x="505" y="34"/>
                  </a:lnTo>
                  <a:lnTo>
                    <a:pt x="494" y="34"/>
                  </a:lnTo>
                  <a:lnTo>
                    <a:pt x="484" y="33"/>
                  </a:lnTo>
                  <a:lnTo>
                    <a:pt x="473" y="33"/>
                  </a:lnTo>
                  <a:lnTo>
                    <a:pt x="462" y="33"/>
                  </a:lnTo>
                  <a:lnTo>
                    <a:pt x="452" y="33"/>
                  </a:lnTo>
                  <a:lnTo>
                    <a:pt x="440" y="31"/>
                  </a:lnTo>
                  <a:lnTo>
                    <a:pt x="427" y="31"/>
                  </a:lnTo>
                  <a:lnTo>
                    <a:pt x="417" y="31"/>
                  </a:lnTo>
                  <a:lnTo>
                    <a:pt x="406" y="31"/>
                  </a:lnTo>
                  <a:lnTo>
                    <a:pt x="394" y="30"/>
                  </a:lnTo>
                  <a:lnTo>
                    <a:pt x="382" y="28"/>
                  </a:lnTo>
                  <a:lnTo>
                    <a:pt x="370" y="28"/>
                  </a:lnTo>
                  <a:lnTo>
                    <a:pt x="359" y="28"/>
                  </a:lnTo>
                  <a:lnTo>
                    <a:pt x="347" y="28"/>
                  </a:lnTo>
                  <a:lnTo>
                    <a:pt x="335" y="27"/>
                  </a:lnTo>
                  <a:lnTo>
                    <a:pt x="323" y="27"/>
                  </a:lnTo>
                  <a:lnTo>
                    <a:pt x="310" y="27"/>
                  </a:lnTo>
                  <a:lnTo>
                    <a:pt x="300" y="25"/>
                  </a:lnTo>
                  <a:lnTo>
                    <a:pt x="288" y="25"/>
                  </a:lnTo>
                  <a:lnTo>
                    <a:pt x="277" y="25"/>
                  </a:lnTo>
                  <a:lnTo>
                    <a:pt x="265" y="25"/>
                  </a:lnTo>
                  <a:lnTo>
                    <a:pt x="254" y="24"/>
                  </a:lnTo>
                  <a:lnTo>
                    <a:pt x="242" y="24"/>
                  </a:lnTo>
                  <a:lnTo>
                    <a:pt x="231" y="24"/>
                  </a:lnTo>
                  <a:lnTo>
                    <a:pt x="222" y="24"/>
                  </a:lnTo>
                  <a:lnTo>
                    <a:pt x="212" y="22"/>
                  </a:lnTo>
                  <a:lnTo>
                    <a:pt x="203" y="22"/>
                  </a:lnTo>
                  <a:lnTo>
                    <a:pt x="193" y="22"/>
                  </a:lnTo>
                  <a:lnTo>
                    <a:pt x="186" y="22"/>
                  </a:lnTo>
                  <a:lnTo>
                    <a:pt x="177" y="22"/>
                  </a:lnTo>
                  <a:lnTo>
                    <a:pt x="168" y="22"/>
                  </a:lnTo>
                  <a:lnTo>
                    <a:pt x="160" y="22"/>
                  </a:lnTo>
                  <a:lnTo>
                    <a:pt x="152" y="22"/>
                  </a:lnTo>
                  <a:lnTo>
                    <a:pt x="145" y="21"/>
                  </a:lnTo>
                  <a:lnTo>
                    <a:pt x="139" y="21"/>
                  </a:lnTo>
                  <a:lnTo>
                    <a:pt x="133" y="21"/>
                  </a:lnTo>
                  <a:lnTo>
                    <a:pt x="128" y="21"/>
                  </a:lnTo>
                  <a:lnTo>
                    <a:pt x="124" y="21"/>
                  </a:lnTo>
                  <a:lnTo>
                    <a:pt x="119" y="21"/>
                  </a:lnTo>
                  <a:lnTo>
                    <a:pt x="114" y="21"/>
                  </a:lnTo>
                  <a:lnTo>
                    <a:pt x="111" y="21"/>
                  </a:lnTo>
                  <a:lnTo>
                    <a:pt x="108" y="21"/>
                  </a:lnTo>
                  <a:lnTo>
                    <a:pt x="107" y="21"/>
                  </a:lnTo>
                  <a:lnTo>
                    <a:pt x="31" y="419"/>
                  </a:lnTo>
                  <a:lnTo>
                    <a:pt x="467" y="489"/>
                  </a:lnTo>
                  <a:lnTo>
                    <a:pt x="479" y="508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6"/>
            <p:cNvSpPr/>
            <p:nvPr/>
          </p:nvSpPr>
          <p:spPr>
            <a:xfrm>
              <a:off x="2410920" y="1406880"/>
              <a:ext cx="645480" cy="465840"/>
            </a:xfrm>
            <a:custGeom>
              <a:avLst/>
              <a:gdLst>
                <a:gd name="textAreaLeft" fmla="*/ 0 w 645480"/>
                <a:gd name="textAreaRight" fmla="*/ 645840 w 64548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06" h="293">
                  <a:moveTo>
                    <a:pt x="0" y="260"/>
                  </a:move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3" y="2"/>
                  </a:lnTo>
                  <a:lnTo>
                    <a:pt x="170" y="2"/>
                  </a:lnTo>
                  <a:lnTo>
                    <a:pt x="178" y="2"/>
                  </a:lnTo>
                  <a:lnTo>
                    <a:pt x="186" y="2"/>
                  </a:lnTo>
                  <a:lnTo>
                    <a:pt x="195" y="3"/>
                  </a:lnTo>
                  <a:lnTo>
                    <a:pt x="202" y="3"/>
                  </a:lnTo>
                  <a:lnTo>
                    <a:pt x="208" y="3"/>
                  </a:lnTo>
                  <a:lnTo>
                    <a:pt x="216" y="3"/>
                  </a:lnTo>
                  <a:lnTo>
                    <a:pt x="224" y="3"/>
                  </a:lnTo>
                  <a:lnTo>
                    <a:pt x="231" y="3"/>
                  </a:lnTo>
                  <a:lnTo>
                    <a:pt x="239" y="3"/>
                  </a:lnTo>
                  <a:lnTo>
                    <a:pt x="246" y="3"/>
                  </a:lnTo>
                  <a:lnTo>
                    <a:pt x="256" y="3"/>
                  </a:lnTo>
                  <a:lnTo>
                    <a:pt x="263" y="3"/>
                  </a:lnTo>
                  <a:lnTo>
                    <a:pt x="269" y="3"/>
                  </a:lnTo>
                  <a:lnTo>
                    <a:pt x="277" y="3"/>
                  </a:lnTo>
                  <a:lnTo>
                    <a:pt x="284" y="5"/>
                  </a:lnTo>
                  <a:lnTo>
                    <a:pt x="292" y="5"/>
                  </a:lnTo>
                  <a:lnTo>
                    <a:pt x="298" y="6"/>
                  </a:lnTo>
                  <a:lnTo>
                    <a:pt x="306" y="6"/>
                  </a:lnTo>
                  <a:lnTo>
                    <a:pt x="315" y="6"/>
                  </a:lnTo>
                  <a:lnTo>
                    <a:pt x="321" y="6"/>
                  </a:lnTo>
                  <a:lnTo>
                    <a:pt x="328" y="6"/>
                  </a:lnTo>
                  <a:lnTo>
                    <a:pt x="335" y="6"/>
                  </a:lnTo>
                  <a:lnTo>
                    <a:pt x="342" y="8"/>
                  </a:lnTo>
                  <a:lnTo>
                    <a:pt x="347" y="8"/>
                  </a:lnTo>
                  <a:lnTo>
                    <a:pt x="353" y="8"/>
                  </a:lnTo>
                  <a:lnTo>
                    <a:pt x="360" y="8"/>
                  </a:lnTo>
                  <a:lnTo>
                    <a:pt x="366" y="9"/>
                  </a:lnTo>
                  <a:lnTo>
                    <a:pt x="371" y="9"/>
                  </a:lnTo>
                  <a:lnTo>
                    <a:pt x="376" y="11"/>
                  </a:lnTo>
                  <a:lnTo>
                    <a:pt x="382" y="11"/>
                  </a:lnTo>
                  <a:lnTo>
                    <a:pt x="388" y="11"/>
                  </a:lnTo>
                  <a:lnTo>
                    <a:pt x="392" y="11"/>
                  </a:lnTo>
                  <a:lnTo>
                    <a:pt x="395" y="12"/>
                  </a:lnTo>
                  <a:lnTo>
                    <a:pt x="401" y="12"/>
                  </a:lnTo>
                  <a:lnTo>
                    <a:pt x="406" y="14"/>
                  </a:lnTo>
                  <a:lnTo>
                    <a:pt x="338" y="286"/>
                  </a:lnTo>
                  <a:lnTo>
                    <a:pt x="319" y="266"/>
                  </a:lnTo>
                  <a:lnTo>
                    <a:pt x="386" y="38"/>
                  </a:lnTo>
                  <a:lnTo>
                    <a:pt x="69" y="14"/>
                  </a:lnTo>
                  <a:lnTo>
                    <a:pt x="20" y="242"/>
                  </a:lnTo>
                  <a:lnTo>
                    <a:pt x="297" y="274"/>
                  </a:lnTo>
                  <a:lnTo>
                    <a:pt x="310" y="293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6ba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7"/>
            <p:cNvSpPr/>
            <p:nvPr/>
          </p:nvSpPr>
          <p:spPr>
            <a:xfrm>
              <a:off x="3117240" y="1325520"/>
              <a:ext cx="405360" cy="80172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55" h="504">
                  <a:moveTo>
                    <a:pt x="122" y="0"/>
                  </a:moveTo>
                  <a:lnTo>
                    <a:pt x="254" y="103"/>
                  </a:lnTo>
                  <a:lnTo>
                    <a:pt x="254" y="104"/>
                  </a:lnTo>
                  <a:lnTo>
                    <a:pt x="254" y="112"/>
                  </a:lnTo>
                  <a:lnTo>
                    <a:pt x="254" y="116"/>
                  </a:lnTo>
                  <a:lnTo>
                    <a:pt x="255" y="124"/>
                  </a:lnTo>
                  <a:lnTo>
                    <a:pt x="255" y="132"/>
                  </a:lnTo>
                  <a:lnTo>
                    <a:pt x="255" y="141"/>
                  </a:lnTo>
                  <a:lnTo>
                    <a:pt x="255" y="144"/>
                  </a:lnTo>
                  <a:lnTo>
                    <a:pt x="255" y="148"/>
                  </a:lnTo>
                  <a:lnTo>
                    <a:pt x="255" y="154"/>
                  </a:lnTo>
                  <a:lnTo>
                    <a:pt x="255" y="159"/>
                  </a:lnTo>
                  <a:lnTo>
                    <a:pt x="255" y="164"/>
                  </a:lnTo>
                  <a:lnTo>
                    <a:pt x="255" y="170"/>
                  </a:lnTo>
                  <a:lnTo>
                    <a:pt x="255" y="176"/>
                  </a:lnTo>
                  <a:lnTo>
                    <a:pt x="255" y="182"/>
                  </a:lnTo>
                  <a:lnTo>
                    <a:pt x="254" y="188"/>
                  </a:lnTo>
                  <a:lnTo>
                    <a:pt x="254" y="194"/>
                  </a:lnTo>
                  <a:lnTo>
                    <a:pt x="254" y="200"/>
                  </a:lnTo>
                  <a:lnTo>
                    <a:pt x="254" y="208"/>
                  </a:lnTo>
                  <a:lnTo>
                    <a:pt x="254" y="214"/>
                  </a:lnTo>
                  <a:lnTo>
                    <a:pt x="254" y="221"/>
                  </a:lnTo>
                  <a:lnTo>
                    <a:pt x="252" y="229"/>
                  </a:lnTo>
                  <a:lnTo>
                    <a:pt x="252" y="236"/>
                  </a:lnTo>
                  <a:lnTo>
                    <a:pt x="251" y="243"/>
                  </a:lnTo>
                  <a:lnTo>
                    <a:pt x="251" y="250"/>
                  </a:lnTo>
                  <a:lnTo>
                    <a:pt x="248" y="258"/>
                  </a:lnTo>
                  <a:lnTo>
                    <a:pt x="248" y="265"/>
                  </a:lnTo>
                  <a:lnTo>
                    <a:pt x="246" y="274"/>
                  </a:lnTo>
                  <a:lnTo>
                    <a:pt x="246" y="282"/>
                  </a:lnTo>
                  <a:lnTo>
                    <a:pt x="245" y="290"/>
                  </a:lnTo>
                  <a:lnTo>
                    <a:pt x="243" y="299"/>
                  </a:lnTo>
                  <a:lnTo>
                    <a:pt x="242" y="306"/>
                  </a:lnTo>
                  <a:lnTo>
                    <a:pt x="240" y="315"/>
                  </a:lnTo>
                  <a:lnTo>
                    <a:pt x="237" y="323"/>
                  </a:lnTo>
                  <a:lnTo>
                    <a:pt x="237" y="331"/>
                  </a:lnTo>
                  <a:lnTo>
                    <a:pt x="234" y="340"/>
                  </a:lnTo>
                  <a:lnTo>
                    <a:pt x="232" y="349"/>
                  </a:lnTo>
                  <a:lnTo>
                    <a:pt x="231" y="357"/>
                  </a:lnTo>
                  <a:lnTo>
                    <a:pt x="228" y="366"/>
                  </a:lnTo>
                  <a:lnTo>
                    <a:pt x="225" y="375"/>
                  </a:lnTo>
                  <a:lnTo>
                    <a:pt x="222" y="382"/>
                  </a:lnTo>
                  <a:lnTo>
                    <a:pt x="219" y="390"/>
                  </a:lnTo>
                  <a:lnTo>
                    <a:pt x="217" y="399"/>
                  </a:lnTo>
                  <a:lnTo>
                    <a:pt x="213" y="408"/>
                  </a:lnTo>
                  <a:lnTo>
                    <a:pt x="210" y="417"/>
                  </a:lnTo>
                  <a:lnTo>
                    <a:pt x="207" y="425"/>
                  </a:lnTo>
                  <a:lnTo>
                    <a:pt x="204" y="434"/>
                  </a:lnTo>
                  <a:lnTo>
                    <a:pt x="199" y="442"/>
                  </a:lnTo>
                  <a:lnTo>
                    <a:pt x="196" y="451"/>
                  </a:lnTo>
                  <a:lnTo>
                    <a:pt x="191" y="460"/>
                  </a:lnTo>
                  <a:lnTo>
                    <a:pt x="187" y="469"/>
                  </a:lnTo>
                  <a:lnTo>
                    <a:pt x="182" y="477"/>
                  </a:lnTo>
                  <a:lnTo>
                    <a:pt x="178" y="486"/>
                  </a:lnTo>
                  <a:lnTo>
                    <a:pt x="173" y="495"/>
                  </a:lnTo>
                  <a:lnTo>
                    <a:pt x="170" y="504"/>
                  </a:lnTo>
                  <a:lnTo>
                    <a:pt x="0" y="473"/>
                  </a:lnTo>
                  <a:lnTo>
                    <a:pt x="8" y="440"/>
                  </a:lnTo>
                  <a:lnTo>
                    <a:pt x="147" y="484"/>
                  </a:lnTo>
                  <a:lnTo>
                    <a:pt x="149" y="481"/>
                  </a:lnTo>
                  <a:lnTo>
                    <a:pt x="152" y="475"/>
                  </a:lnTo>
                  <a:lnTo>
                    <a:pt x="153" y="469"/>
                  </a:lnTo>
                  <a:lnTo>
                    <a:pt x="156" y="463"/>
                  </a:lnTo>
                  <a:lnTo>
                    <a:pt x="159" y="457"/>
                  </a:lnTo>
                  <a:lnTo>
                    <a:pt x="164" y="449"/>
                  </a:lnTo>
                  <a:lnTo>
                    <a:pt x="169" y="440"/>
                  </a:lnTo>
                  <a:lnTo>
                    <a:pt x="173" y="431"/>
                  </a:lnTo>
                  <a:lnTo>
                    <a:pt x="175" y="426"/>
                  </a:lnTo>
                  <a:lnTo>
                    <a:pt x="176" y="420"/>
                  </a:lnTo>
                  <a:lnTo>
                    <a:pt x="179" y="414"/>
                  </a:lnTo>
                  <a:lnTo>
                    <a:pt x="182" y="411"/>
                  </a:lnTo>
                  <a:lnTo>
                    <a:pt x="184" y="404"/>
                  </a:lnTo>
                  <a:lnTo>
                    <a:pt x="185" y="398"/>
                  </a:lnTo>
                  <a:lnTo>
                    <a:pt x="187" y="391"/>
                  </a:lnTo>
                  <a:lnTo>
                    <a:pt x="190" y="385"/>
                  </a:lnTo>
                  <a:lnTo>
                    <a:pt x="191" y="379"/>
                  </a:lnTo>
                  <a:lnTo>
                    <a:pt x="194" y="373"/>
                  </a:lnTo>
                  <a:lnTo>
                    <a:pt x="197" y="367"/>
                  </a:lnTo>
                  <a:lnTo>
                    <a:pt x="201" y="361"/>
                  </a:lnTo>
                  <a:lnTo>
                    <a:pt x="202" y="353"/>
                  </a:lnTo>
                  <a:lnTo>
                    <a:pt x="204" y="347"/>
                  </a:lnTo>
                  <a:lnTo>
                    <a:pt x="205" y="340"/>
                  </a:lnTo>
                  <a:lnTo>
                    <a:pt x="208" y="332"/>
                  </a:lnTo>
                  <a:lnTo>
                    <a:pt x="210" y="325"/>
                  </a:lnTo>
                  <a:lnTo>
                    <a:pt x="211" y="317"/>
                  </a:lnTo>
                  <a:lnTo>
                    <a:pt x="213" y="311"/>
                  </a:lnTo>
                  <a:lnTo>
                    <a:pt x="216" y="303"/>
                  </a:lnTo>
                  <a:lnTo>
                    <a:pt x="217" y="294"/>
                  </a:lnTo>
                  <a:lnTo>
                    <a:pt x="219" y="288"/>
                  </a:lnTo>
                  <a:lnTo>
                    <a:pt x="219" y="279"/>
                  </a:lnTo>
                  <a:lnTo>
                    <a:pt x="222" y="271"/>
                  </a:lnTo>
                  <a:lnTo>
                    <a:pt x="222" y="264"/>
                  </a:lnTo>
                  <a:lnTo>
                    <a:pt x="223" y="256"/>
                  </a:lnTo>
                  <a:lnTo>
                    <a:pt x="223" y="249"/>
                  </a:lnTo>
                  <a:lnTo>
                    <a:pt x="226" y="241"/>
                  </a:lnTo>
                  <a:lnTo>
                    <a:pt x="226" y="233"/>
                  </a:lnTo>
                  <a:lnTo>
                    <a:pt x="226" y="224"/>
                  </a:lnTo>
                  <a:lnTo>
                    <a:pt x="226" y="217"/>
                  </a:lnTo>
                  <a:lnTo>
                    <a:pt x="226" y="209"/>
                  </a:lnTo>
                  <a:lnTo>
                    <a:pt x="226" y="200"/>
                  </a:lnTo>
                  <a:lnTo>
                    <a:pt x="226" y="192"/>
                  </a:lnTo>
                  <a:lnTo>
                    <a:pt x="226" y="183"/>
                  </a:lnTo>
                  <a:lnTo>
                    <a:pt x="226" y="176"/>
                  </a:lnTo>
                  <a:lnTo>
                    <a:pt x="223" y="168"/>
                  </a:lnTo>
                  <a:lnTo>
                    <a:pt x="223" y="159"/>
                  </a:lnTo>
                  <a:lnTo>
                    <a:pt x="222" y="151"/>
                  </a:lnTo>
                  <a:lnTo>
                    <a:pt x="220" y="142"/>
                  </a:lnTo>
                  <a:lnTo>
                    <a:pt x="219" y="135"/>
                  </a:lnTo>
                  <a:lnTo>
                    <a:pt x="217" y="127"/>
                  </a:lnTo>
                  <a:lnTo>
                    <a:pt x="214" y="120"/>
                  </a:lnTo>
                  <a:lnTo>
                    <a:pt x="213" y="112"/>
                  </a:lnTo>
                  <a:lnTo>
                    <a:pt x="120" y="25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8"/>
            <p:cNvSpPr/>
            <p:nvPr/>
          </p:nvSpPr>
          <p:spPr>
            <a:xfrm>
              <a:off x="3465360" y="1677240"/>
              <a:ext cx="111240" cy="3848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70" h="242">
                  <a:moveTo>
                    <a:pt x="56" y="0"/>
                  </a:moveTo>
                  <a:lnTo>
                    <a:pt x="70" y="22"/>
                  </a:lnTo>
                  <a:lnTo>
                    <a:pt x="70" y="23"/>
                  </a:lnTo>
                  <a:lnTo>
                    <a:pt x="70" y="26"/>
                  </a:lnTo>
                  <a:lnTo>
                    <a:pt x="70" y="32"/>
                  </a:lnTo>
                  <a:lnTo>
                    <a:pt x="70" y="43"/>
                  </a:lnTo>
                  <a:lnTo>
                    <a:pt x="68" y="46"/>
                  </a:lnTo>
                  <a:lnTo>
                    <a:pt x="68" y="50"/>
                  </a:lnTo>
                  <a:lnTo>
                    <a:pt x="68" y="57"/>
                  </a:lnTo>
                  <a:lnTo>
                    <a:pt x="68" y="64"/>
                  </a:lnTo>
                  <a:lnTo>
                    <a:pt x="67" y="69"/>
                  </a:lnTo>
                  <a:lnTo>
                    <a:pt x="65" y="76"/>
                  </a:lnTo>
                  <a:lnTo>
                    <a:pt x="65" y="84"/>
                  </a:lnTo>
                  <a:lnTo>
                    <a:pt x="65" y="91"/>
                  </a:lnTo>
                  <a:lnTo>
                    <a:pt x="64" y="99"/>
                  </a:lnTo>
                  <a:lnTo>
                    <a:pt x="62" y="108"/>
                  </a:lnTo>
                  <a:lnTo>
                    <a:pt x="61" y="116"/>
                  </a:lnTo>
                  <a:lnTo>
                    <a:pt x="59" y="123"/>
                  </a:lnTo>
                  <a:lnTo>
                    <a:pt x="57" y="132"/>
                  </a:lnTo>
                  <a:lnTo>
                    <a:pt x="56" y="140"/>
                  </a:lnTo>
                  <a:lnTo>
                    <a:pt x="53" y="149"/>
                  </a:lnTo>
                  <a:lnTo>
                    <a:pt x="51" y="158"/>
                  </a:lnTo>
                  <a:lnTo>
                    <a:pt x="47" y="166"/>
                  </a:lnTo>
                  <a:lnTo>
                    <a:pt x="45" y="177"/>
                  </a:lnTo>
                  <a:lnTo>
                    <a:pt x="42" y="184"/>
                  </a:lnTo>
                  <a:lnTo>
                    <a:pt x="39" y="193"/>
                  </a:lnTo>
                  <a:lnTo>
                    <a:pt x="36" y="201"/>
                  </a:lnTo>
                  <a:lnTo>
                    <a:pt x="32" y="210"/>
                  </a:lnTo>
                  <a:lnTo>
                    <a:pt x="29" y="219"/>
                  </a:lnTo>
                  <a:lnTo>
                    <a:pt x="26" y="228"/>
                  </a:lnTo>
                  <a:lnTo>
                    <a:pt x="0" y="242"/>
                  </a:lnTo>
                  <a:lnTo>
                    <a:pt x="0" y="239"/>
                  </a:lnTo>
                  <a:lnTo>
                    <a:pt x="1" y="237"/>
                  </a:lnTo>
                  <a:lnTo>
                    <a:pt x="4" y="233"/>
                  </a:lnTo>
                  <a:lnTo>
                    <a:pt x="9" y="227"/>
                  </a:lnTo>
                  <a:lnTo>
                    <a:pt x="10" y="222"/>
                  </a:lnTo>
                  <a:lnTo>
                    <a:pt x="12" y="218"/>
                  </a:lnTo>
                  <a:lnTo>
                    <a:pt x="15" y="213"/>
                  </a:lnTo>
                  <a:lnTo>
                    <a:pt x="18" y="208"/>
                  </a:lnTo>
                  <a:lnTo>
                    <a:pt x="21" y="202"/>
                  </a:lnTo>
                  <a:lnTo>
                    <a:pt x="23" y="196"/>
                  </a:lnTo>
                  <a:lnTo>
                    <a:pt x="26" y="190"/>
                  </a:lnTo>
                  <a:lnTo>
                    <a:pt x="29" y="184"/>
                  </a:lnTo>
                  <a:lnTo>
                    <a:pt x="30" y="178"/>
                  </a:lnTo>
                  <a:lnTo>
                    <a:pt x="33" y="170"/>
                  </a:lnTo>
                  <a:lnTo>
                    <a:pt x="35" y="163"/>
                  </a:lnTo>
                  <a:lnTo>
                    <a:pt x="38" y="154"/>
                  </a:lnTo>
                  <a:lnTo>
                    <a:pt x="39" y="145"/>
                  </a:lnTo>
                  <a:lnTo>
                    <a:pt x="42" y="137"/>
                  </a:lnTo>
                  <a:lnTo>
                    <a:pt x="44" y="128"/>
                  </a:lnTo>
                  <a:lnTo>
                    <a:pt x="47" y="119"/>
                  </a:lnTo>
                  <a:lnTo>
                    <a:pt x="47" y="113"/>
                  </a:lnTo>
                  <a:lnTo>
                    <a:pt x="47" y="108"/>
                  </a:lnTo>
                  <a:lnTo>
                    <a:pt x="47" y="102"/>
                  </a:lnTo>
                  <a:lnTo>
                    <a:pt x="48" y="98"/>
                  </a:lnTo>
                  <a:lnTo>
                    <a:pt x="48" y="91"/>
                  </a:lnTo>
                  <a:lnTo>
                    <a:pt x="50" y="87"/>
                  </a:lnTo>
                  <a:lnTo>
                    <a:pt x="50" y="81"/>
                  </a:lnTo>
                  <a:lnTo>
                    <a:pt x="51" y="76"/>
                  </a:lnTo>
                  <a:lnTo>
                    <a:pt x="51" y="69"/>
                  </a:lnTo>
                  <a:lnTo>
                    <a:pt x="51" y="64"/>
                  </a:lnTo>
                  <a:lnTo>
                    <a:pt x="51" y="58"/>
                  </a:lnTo>
                  <a:lnTo>
                    <a:pt x="51" y="52"/>
                  </a:lnTo>
                  <a:lnTo>
                    <a:pt x="51" y="46"/>
                  </a:lnTo>
                  <a:lnTo>
                    <a:pt x="51" y="40"/>
                  </a:lnTo>
                  <a:lnTo>
                    <a:pt x="51" y="34"/>
                  </a:lnTo>
                  <a:lnTo>
                    <a:pt x="51" y="29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9"/>
            <p:cNvSpPr/>
            <p:nvPr/>
          </p:nvSpPr>
          <p:spPr>
            <a:xfrm>
              <a:off x="3526200" y="1783800"/>
              <a:ext cx="101520" cy="265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64" h="167">
                  <a:moveTo>
                    <a:pt x="44" y="0"/>
                  </a:moveTo>
                  <a:lnTo>
                    <a:pt x="64" y="26"/>
                  </a:lnTo>
                  <a:lnTo>
                    <a:pt x="62" y="26"/>
                  </a:lnTo>
                  <a:lnTo>
                    <a:pt x="62" y="29"/>
                  </a:lnTo>
                  <a:lnTo>
                    <a:pt x="62" y="34"/>
                  </a:lnTo>
                  <a:lnTo>
                    <a:pt x="61" y="40"/>
                  </a:lnTo>
                  <a:lnTo>
                    <a:pt x="59" y="46"/>
                  </a:lnTo>
                  <a:lnTo>
                    <a:pt x="57" y="55"/>
                  </a:lnTo>
                  <a:lnTo>
                    <a:pt x="56" y="59"/>
                  </a:lnTo>
                  <a:lnTo>
                    <a:pt x="56" y="64"/>
                  </a:lnTo>
                  <a:lnTo>
                    <a:pt x="54" y="70"/>
                  </a:lnTo>
                  <a:lnTo>
                    <a:pt x="54" y="75"/>
                  </a:lnTo>
                  <a:lnTo>
                    <a:pt x="53" y="79"/>
                  </a:lnTo>
                  <a:lnTo>
                    <a:pt x="50" y="85"/>
                  </a:lnTo>
                  <a:lnTo>
                    <a:pt x="48" y="91"/>
                  </a:lnTo>
                  <a:lnTo>
                    <a:pt x="48" y="96"/>
                  </a:lnTo>
                  <a:lnTo>
                    <a:pt x="45" y="102"/>
                  </a:lnTo>
                  <a:lnTo>
                    <a:pt x="44" y="106"/>
                  </a:lnTo>
                  <a:lnTo>
                    <a:pt x="41" y="113"/>
                  </a:lnTo>
                  <a:lnTo>
                    <a:pt x="39" y="119"/>
                  </a:lnTo>
                  <a:lnTo>
                    <a:pt x="36" y="125"/>
                  </a:lnTo>
                  <a:lnTo>
                    <a:pt x="35" y="129"/>
                  </a:lnTo>
                  <a:lnTo>
                    <a:pt x="32" y="135"/>
                  </a:lnTo>
                  <a:lnTo>
                    <a:pt x="30" y="141"/>
                  </a:lnTo>
                  <a:lnTo>
                    <a:pt x="27" y="148"/>
                  </a:lnTo>
                  <a:lnTo>
                    <a:pt x="24" y="152"/>
                  </a:lnTo>
                  <a:lnTo>
                    <a:pt x="21" y="158"/>
                  </a:lnTo>
                  <a:lnTo>
                    <a:pt x="18" y="163"/>
                  </a:lnTo>
                  <a:lnTo>
                    <a:pt x="0" y="167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3" y="160"/>
                  </a:lnTo>
                  <a:lnTo>
                    <a:pt x="6" y="155"/>
                  </a:lnTo>
                  <a:lnTo>
                    <a:pt x="9" y="149"/>
                  </a:lnTo>
                  <a:lnTo>
                    <a:pt x="12" y="141"/>
                  </a:lnTo>
                  <a:lnTo>
                    <a:pt x="16" y="132"/>
                  </a:lnTo>
                  <a:lnTo>
                    <a:pt x="21" y="125"/>
                  </a:lnTo>
                  <a:lnTo>
                    <a:pt x="21" y="117"/>
                  </a:lnTo>
                  <a:lnTo>
                    <a:pt x="23" y="113"/>
                  </a:lnTo>
                  <a:lnTo>
                    <a:pt x="26" y="106"/>
                  </a:lnTo>
                  <a:lnTo>
                    <a:pt x="27" y="102"/>
                  </a:lnTo>
                  <a:lnTo>
                    <a:pt x="29" y="96"/>
                  </a:lnTo>
                  <a:lnTo>
                    <a:pt x="30" y="90"/>
                  </a:lnTo>
                  <a:lnTo>
                    <a:pt x="32" y="84"/>
                  </a:lnTo>
                  <a:lnTo>
                    <a:pt x="35" y="78"/>
                  </a:lnTo>
                  <a:lnTo>
                    <a:pt x="35" y="70"/>
                  </a:lnTo>
                  <a:lnTo>
                    <a:pt x="36" y="64"/>
                  </a:lnTo>
                  <a:lnTo>
                    <a:pt x="36" y="56"/>
                  </a:lnTo>
                  <a:lnTo>
                    <a:pt x="39" y="50"/>
                  </a:lnTo>
                  <a:lnTo>
                    <a:pt x="39" y="43"/>
                  </a:lnTo>
                  <a:lnTo>
                    <a:pt x="41" y="37"/>
                  </a:lnTo>
                  <a:lnTo>
                    <a:pt x="41" y="29"/>
                  </a:lnTo>
                  <a:lnTo>
                    <a:pt x="41" y="2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0"/>
            <p:cNvSpPr/>
            <p:nvPr/>
          </p:nvSpPr>
          <p:spPr>
            <a:xfrm>
              <a:off x="2176920" y="2359440"/>
              <a:ext cx="284400" cy="14472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9" h="91">
                  <a:moveTo>
                    <a:pt x="0" y="30"/>
                  </a:moveTo>
                  <a:lnTo>
                    <a:pt x="0" y="29"/>
                  </a:lnTo>
                  <a:lnTo>
                    <a:pt x="4" y="24"/>
                  </a:lnTo>
                  <a:lnTo>
                    <a:pt x="7" y="19"/>
                  </a:lnTo>
                  <a:lnTo>
                    <a:pt x="11" y="16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7"/>
                  </a:lnTo>
                  <a:lnTo>
                    <a:pt x="39" y="6"/>
                  </a:lnTo>
                  <a:lnTo>
                    <a:pt x="44" y="3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4" y="3"/>
                  </a:lnTo>
                  <a:lnTo>
                    <a:pt x="131" y="4"/>
                  </a:lnTo>
                  <a:lnTo>
                    <a:pt x="140" y="6"/>
                  </a:lnTo>
                  <a:lnTo>
                    <a:pt x="149" y="7"/>
                  </a:lnTo>
                  <a:lnTo>
                    <a:pt x="156" y="9"/>
                  </a:lnTo>
                  <a:lnTo>
                    <a:pt x="162" y="12"/>
                  </a:lnTo>
                  <a:lnTo>
                    <a:pt x="167" y="13"/>
                  </a:lnTo>
                  <a:lnTo>
                    <a:pt x="172" y="16"/>
                  </a:lnTo>
                  <a:lnTo>
                    <a:pt x="175" y="19"/>
                  </a:lnTo>
                  <a:lnTo>
                    <a:pt x="178" y="24"/>
                  </a:lnTo>
                  <a:lnTo>
                    <a:pt x="179" y="29"/>
                  </a:lnTo>
                  <a:lnTo>
                    <a:pt x="179" y="38"/>
                  </a:lnTo>
                  <a:lnTo>
                    <a:pt x="176" y="44"/>
                  </a:lnTo>
                  <a:lnTo>
                    <a:pt x="172" y="53"/>
                  </a:lnTo>
                  <a:lnTo>
                    <a:pt x="164" y="59"/>
                  </a:lnTo>
                  <a:lnTo>
                    <a:pt x="155" y="67"/>
                  </a:lnTo>
                  <a:lnTo>
                    <a:pt x="149" y="70"/>
                  </a:lnTo>
                  <a:lnTo>
                    <a:pt x="144" y="73"/>
                  </a:lnTo>
                  <a:lnTo>
                    <a:pt x="138" y="76"/>
                  </a:lnTo>
                  <a:lnTo>
                    <a:pt x="134" y="79"/>
                  </a:lnTo>
                  <a:lnTo>
                    <a:pt x="129" y="80"/>
                  </a:lnTo>
                  <a:lnTo>
                    <a:pt x="123" y="83"/>
                  </a:lnTo>
                  <a:lnTo>
                    <a:pt x="118" y="85"/>
                  </a:lnTo>
                  <a:lnTo>
                    <a:pt x="114" y="86"/>
                  </a:lnTo>
                  <a:lnTo>
                    <a:pt x="103" y="89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7" y="89"/>
                  </a:lnTo>
                  <a:lnTo>
                    <a:pt x="70" y="89"/>
                  </a:lnTo>
                  <a:lnTo>
                    <a:pt x="62" y="88"/>
                  </a:lnTo>
                  <a:lnTo>
                    <a:pt x="55" y="85"/>
                  </a:lnTo>
                  <a:lnTo>
                    <a:pt x="45" y="83"/>
                  </a:lnTo>
                  <a:lnTo>
                    <a:pt x="39" y="80"/>
                  </a:lnTo>
                  <a:lnTo>
                    <a:pt x="32" y="79"/>
                  </a:lnTo>
                  <a:lnTo>
                    <a:pt x="26" y="76"/>
                  </a:lnTo>
                  <a:lnTo>
                    <a:pt x="20" y="71"/>
                  </a:lnTo>
                  <a:lnTo>
                    <a:pt x="14" y="67"/>
                  </a:lnTo>
                  <a:lnTo>
                    <a:pt x="11" y="64"/>
                  </a:lnTo>
                  <a:lnTo>
                    <a:pt x="3" y="54"/>
                  </a:lnTo>
                  <a:lnTo>
                    <a:pt x="1" y="45"/>
                  </a:lnTo>
                  <a:lnTo>
                    <a:pt x="1" y="3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1"/>
            <p:cNvSpPr/>
            <p:nvPr/>
          </p:nvSpPr>
          <p:spPr>
            <a:xfrm>
              <a:off x="2116440" y="2383560"/>
              <a:ext cx="372240" cy="18288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34" h="115">
                  <a:moveTo>
                    <a:pt x="166" y="62"/>
                  </a:moveTo>
                  <a:lnTo>
                    <a:pt x="150" y="115"/>
                  </a:lnTo>
                  <a:lnTo>
                    <a:pt x="149" y="114"/>
                  </a:lnTo>
                  <a:lnTo>
                    <a:pt x="144" y="114"/>
                  </a:lnTo>
                  <a:lnTo>
                    <a:pt x="137" y="112"/>
                  </a:lnTo>
                  <a:lnTo>
                    <a:pt x="129" y="112"/>
                  </a:lnTo>
                  <a:lnTo>
                    <a:pt x="123" y="111"/>
                  </a:lnTo>
                  <a:lnTo>
                    <a:pt x="117" y="111"/>
                  </a:lnTo>
                  <a:lnTo>
                    <a:pt x="111" y="108"/>
                  </a:lnTo>
                  <a:lnTo>
                    <a:pt x="105" y="108"/>
                  </a:lnTo>
                  <a:lnTo>
                    <a:pt x="99" y="106"/>
                  </a:lnTo>
                  <a:lnTo>
                    <a:pt x="93" y="106"/>
                  </a:lnTo>
                  <a:lnTo>
                    <a:pt x="86" y="103"/>
                  </a:lnTo>
                  <a:lnTo>
                    <a:pt x="79" y="103"/>
                  </a:lnTo>
                  <a:lnTo>
                    <a:pt x="73" y="100"/>
                  </a:lnTo>
                  <a:lnTo>
                    <a:pt x="65" y="99"/>
                  </a:lnTo>
                  <a:lnTo>
                    <a:pt x="59" y="96"/>
                  </a:lnTo>
                  <a:lnTo>
                    <a:pt x="52" y="94"/>
                  </a:lnTo>
                  <a:lnTo>
                    <a:pt x="45" y="91"/>
                  </a:lnTo>
                  <a:lnTo>
                    <a:pt x="39" y="88"/>
                  </a:lnTo>
                  <a:lnTo>
                    <a:pt x="33" y="85"/>
                  </a:lnTo>
                  <a:lnTo>
                    <a:pt x="29" y="83"/>
                  </a:lnTo>
                  <a:lnTo>
                    <a:pt x="23" y="79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11" y="68"/>
                  </a:lnTo>
                  <a:lnTo>
                    <a:pt x="4" y="59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7" y="26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3" y="17"/>
                  </a:lnTo>
                  <a:lnTo>
                    <a:pt x="29" y="14"/>
                  </a:lnTo>
                  <a:lnTo>
                    <a:pt x="35" y="11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9" y="4"/>
                  </a:lnTo>
                  <a:lnTo>
                    <a:pt x="67" y="3"/>
                  </a:lnTo>
                  <a:lnTo>
                    <a:pt x="76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3"/>
                  </a:lnTo>
                  <a:lnTo>
                    <a:pt x="193" y="4"/>
                  </a:lnTo>
                  <a:lnTo>
                    <a:pt x="199" y="6"/>
                  </a:lnTo>
                  <a:lnTo>
                    <a:pt x="203" y="6"/>
                  </a:lnTo>
                  <a:lnTo>
                    <a:pt x="210" y="9"/>
                  </a:lnTo>
                  <a:lnTo>
                    <a:pt x="214" y="11"/>
                  </a:lnTo>
                  <a:lnTo>
                    <a:pt x="222" y="14"/>
                  </a:lnTo>
                  <a:lnTo>
                    <a:pt x="225" y="15"/>
                  </a:lnTo>
                  <a:lnTo>
                    <a:pt x="228" y="20"/>
                  </a:lnTo>
                  <a:lnTo>
                    <a:pt x="232" y="27"/>
                  </a:lnTo>
                  <a:lnTo>
                    <a:pt x="234" y="35"/>
                  </a:lnTo>
                  <a:lnTo>
                    <a:pt x="232" y="41"/>
                  </a:lnTo>
                  <a:lnTo>
                    <a:pt x="231" y="47"/>
                  </a:lnTo>
                  <a:lnTo>
                    <a:pt x="228" y="52"/>
                  </a:lnTo>
                  <a:lnTo>
                    <a:pt x="228" y="53"/>
                  </a:lnTo>
                  <a:lnTo>
                    <a:pt x="214" y="62"/>
                  </a:lnTo>
                  <a:lnTo>
                    <a:pt x="214" y="61"/>
                  </a:lnTo>
                  <a:lnTo>
                    <a:pt x="217" y="58"/>
                  </a:lnTo>
                  <a:lnTo>
                    <a:pt x="219" y="52"/>
                  </a:lnTo>
                  <a:lnTo>
                    <a:pt x="222" y="47"/>
                  </a:lnTo>
                  <a:lnTo>
                    <a:pt x="222" y="39"/>
                  </a:lnTo>
                  <a:lnTo>
                    <a:pt x="220" y="33"/>
                  </a:lnTo>
                  <a:lnTo>
                    <a:pt x="217" y="29"/>
                  </a:lnTo>
                  <a:lnTo>
                    <a:pt x="216" y="26"/>
                  </a:lnTo>
                  <a:lnTo>
                    <a:pt x="213" y="23"/>
                  </a:lnTo>
                  <a:lnTo>
                    <a:pt x="208" y="20"/>
                  </a:lnTo>
                  <a:lnTo>
                    <a:pt x="200" y="17"/>
                  </a:lnTo>
                  <a:lnTo>
                    <a:pt x="193" y="14"/>
                  </a:lnTo>
                  <a:lnTo>
                    <a:pt x="187" y="14"/>
                  </a:lnTo>
                  <a:lnTo>
                    <a:pt x="181" y="12"/>
                  </a:lnTo>
                  <a:lnTo>
                    <a:pt x="176" y="11"/>
                  </a:lnTo>
                  <a:lnTo>
                    <a:pt x="172" y="11"/>
                  </a:lnTo>
                  <a:lnTo>
                    <a:pt x="164" y="11"/>
                  </a:lnTo>
                  <a:lnTo>
                    <a:pt x="158" y="9"/>
                  </a:lnTo>
                  <a:lnTo>
                    <a:pt x="152" y="9"/>
                  </a:lnTo>
                  <a:lnTo>
                    <a:pt x="144" y="9"/>
                  </a:lnTo>
                  <a:lnTo>
                    <a:pt x="138" y="9"/>
                  </a:lnTo>
                  <a:lnTo>
                    <a:pt x="131" y="9"/>
                  </a:lnTo>
                  <a:lnTo>
                    <a:pt x="124" y="9"/>
                  </a:lnTo>
                  <a:lnTo>
                    <a:pt x="118" y="11"/>
                  </a:lnTo>
                  <a:lnTo>
                    <a:pt x="111" y="11"/>
                  </a:lnTo>
                  <a:lnTo>
                    <a:pt x="105" y="11"/>
                  </a:lnTo>
                  <a:lnTo>
                    <a:pt x="99" y="11"/>
                  </a:lnTo>
                  <a:lnTo>
                    <a:pt x="93" y="14"/>
                  </a:lnTo>
                  <a:lnTo>
                    <a:pt x="88" y="14"/>
                  </a:lnTo>
                  <a:lnTo>
                    <a:pt x="82" y="15"/>
                  </a:lnTo>
                  <a:lnTo>
                    <a:pt x="77" y="17"/>
                  </a:lnTo>
                  <a:lnTo>
                    <a:pt x="74" y="20"/>
                  </a:lnTo>
                  <a:lnTo>
                    <a:pt x="65" y="23"/>
                  </a:lnTo>
                  <a:lnTo>
                    <a:pt x="61" y="27"/>
                  </a:lnTo>
                  <a:lnTo>
                    <a:pt x="59" y="33"/>
                  </a:lnTo>
                  <a:lnTo>
                    <a:pt x="61" y="41"/>
                  </a:lnTo>
                  <a:lnTo>
                    <a:pt x="62" y="47"/>
                  </a:lnTo>
                  <a:lnTo>
                    <a:pt x="68" y="52"/>
                  </a:lnTo>
                  <a:lnTo>
                    <a:pt x="74" y="56"/>
                  </a:lnTo>
                  <a:lnTo>
                    <a:pt x="82" y="59"/>
                  </a:lnTo>
                  <a:lnTo>
                    <a:pt x="90" y="61"/>
                  </a:lnTo>
                  <a:lnTo>
                    <a:pt x="99" y="62"/>
                  </a:lnTo>
                  <a:lnTo>
                    <a:pt x="108" y="64"/>
                  </a:lnTo>
                  <a:lnTo>
                    <a:pt x="117" y="65"/>
                  </a:lnTo>
                  <a:lnTo>
                    <a:pt x="126" y="65"/>
                  </a:lnTo>
                  <a:lnTo>
                    <a:pt x="135" y="65"/>
                  </a:lnTo>
                  <a:lnTo>
                    <a:pt x="143" y="64"/>
                  </a:lnTo>
                  <a:lnTo>
                    <a:pt x="150" y="64"/>
                  </a:lnTo>
                  <a:lnTo>
                    <a:pt x="155" y="62"/>
                  </a:lnTo>
                  <a:lnTo>
                    <a:pt x="161" y="62"/>
                  </a:lnTo>
                  <a:lnTo>
                    <a:pt x="162" y="62"/>
                  </a:lnTo>
                  <a:lnTo>
                    <a:pt x="166" y="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2"/>
            <p:cNvSpPr/>
            <p:nvPr/>
          </p:nvSpPr>
          <p:spPr>
            <a:xfrm>
              <a:off x="2385360" y="2482200"/>
              <a:ext cx="93600" cy="792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9" h="50">
                  <a:moveTo>
                    <a:pt x="0" y="28"/>
                  </a:moveTo>
                  <a:lnTo>
                    <a:pt x="59" y="0"/>
                  </a:lnTo>
                  <a:lnTo>
                    <a:pt x="59" y="12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3"/>
            <p:cNvSpPr/>
            <p:nvPr/>
          </p:nvSpPr>
          <p:spPr>
            <a:xfrm>
              <a:off x="2329560" y="2412360"/>
              <a:ext cx="108000" cy="27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8" h="17">
                  <a:moveTo>
                    <a:pt x="0" y="12"/>
                  </a:moveTo>
                  <a:lnTo>
                    <a:pt x="54" y="0"/>
                  </a:lnTo>
                  <a:lnTo>
                    <a:pt x="68" y="2"/>
                  </a:lnTo>
                  <a:lnTo>
                    <a:pt x="19" y="17"/>
                  </a:lnTo>
                  <a:lnTo>
                    <a:pt x="1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テキスト ボックス 64"/>
          <p:cNvSpPr/>
          <p:nvPr/>
        </p:nvSpPr>
        <p:spPr>
          <a:xfrm>
            <a:off x="684360" y="4869000"/>
            <a:ext cx="806436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つくえの　うえに　ほん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　　パソコンが　あり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4" descr="C:\Users\PC-USER\AppData\Local\Microsoft\Windows\Temporary Internet Files\Content.IE5\ND2LU2LZ\MC900290138[1].wmf"/>
          <p:cNvPicPr/>
          <p:nvPr/>
        </p:nvPicPr>
        <p:blipFill>
          <a:blip r:embed="rId1"/>
          <a:stretch/>
        </p:blipFill>
        <p:spPr>
          <a:xfrm rot="21243600">
            <a:off x="3563640" y="1844640"/>
            <a:ext cx="1079280" cy="595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5" descr="C:\Users\PC-USER\AppData\Local\Microsoft\Windows\Temporary Internet Files\Content.IE5\ND2LU2LZ\MC900416400[1].wmf"/>
          <p:cNvPicPr/>
          <p:nvPr/>
        </p:nvPicPr>
        <p:blipFill>
          <a:blip r:embed="rId2"/>
          <a:stretch/>
        </p:blipFill>
        <p:spPr>
          <a:xfrm rot="1113000">
            <a:off x="1042560" y="2198520"/>
            <a:ext cx="917640" cy="2937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7" descr="C:\Users\PC-USER\AppData\Local\Microsoft\Windows\Temporary Internet Files\Content.IE5\W6HO5GSU\MC900250821[1].wmf"/>
          <p:cNvPicPr/>
          <p:nvPr/>
        </p:nvPicPr>
        <p:blipFill>
          <a:blip r:embed="rId3"/>
          <a:stretch/>
        </p:blipFill>
        <p:spPr>
          <a:xfrm>
            <a:off x="3924360" y="1628640"/>
            <a:ext cx="431640" cy="689040"/>
          </a:xfrm>
          <a:prstGeom prst="rect">
            <a:avLst/>
          </a:prstGeom>
          <a:ln w="0">
            <a:noFill/>
          </a:ln>
        </p:spPr>
      </p:pic>
      <p:sp>
        <p:nvSpPr>
          <p:cNvPr id="465" name="テキスト ボックス 70"/>
          <p:cNvSpPr/>
          <p:nvPr/>
        </p:nvSpPr>
        <p:spPr>
          <a:xfrm>
            <a:off x="4067280" y="4869000"/>
            <a:ext cx="50472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3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3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9A2D-0884-4F95-BA3C-760B06A0C2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C:\Users\PC-USER\AppData\Local\Microsoft\Windows\Temporary Internet Files\Content.IE5\ND2LU2LZ\MC900233103[1].wmf"/>
          <p:cNvPicPr/>
          <p:nvPr/>
        </p:nvPicPr>
        <p:blipFill>
          <a:blip r:embed="rId1"/>
          <a:stretch/>
        </p:blipFill>
        <p:spPr>
          <a:xfrm>
            <a:off x="395280" y="836640"/>
            <a:ext cx="3633840" cy="2376360"/>
          </a:xfrm>
          <a:prstGeom prst="rect">
            <a:avLst/>
          </a:prstGeom>
          <a:ln w="0">
            <a:noFill/>
          </a:ln>
        </p:spPr>
      </p:pic>
      <p:sp>
        <p:nvSpPr>
          <p:cNvPr id="468" name="テキスト ボックス 5"/>
          <p:cNvSpPr/>
          <p:nvPr/>
        </p:nvSpPr>
        <p:spPr>
          <a:xfrm>
            <a:off x="395280" y="83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C:\Users\PC-USER\AppData\Local\Microsoft\Windows\Temporary Internet Files\Content.IE5\ACGZRYRC\MC900089874[1].wmf"/>
          <p:cNvPicPr/>
          <p:nvPr/>
        </p:nvPicPr>
        <p:blipFill>
          <a:blip r:embed="rId2"/>
          <a:stretch/>
        </p:blipFill>
        <p:spPr>
          <a:xfrm>
            <a:off x="5435640" y="620640"/>
            <a:ext cx="2736720" cy="2700360"/>
          </a:xfrm>
          <a:prstGeom prst="rect">
            <a:avLst/>
          </a:prstGeom>
          <a:ln w="0">
            <a:noFill/>
          </a:ln>
        </p:spPr>
      </p:pic>
      <p:sp>
        <p:nvSpPr>
          <p:cNvPr id="470" name="テキスト ボックス 15"/>
          <p:cNvSpPr/>
          <p:nvPr/>
        </p:nvSpPr>
        <p:spPr>
          <a:xfrm>
            <a:off x="5435640" y="620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5" descr="C:\Users\PC-USER\AppData\Local\Microsoft\Windows\Temporary Internet Files\Content.IE5\USO3M4I1\MC900235447[1].wmf"/>
          <p:cNvPicPr/>
          <p:nvPr/>
        </p:nvPicPr>
        <p:blipFill>
          <a:blip r:embed="rId3"/>
          <a:stretch/>
        </p:blipFill>
        <p:spPr>
          <a:xfrm>
            <a:off x="395280" y="4149720"/>
            <a:ext cx="3714840" cy="180036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9"/>
          <p:cNvSpPr/>
          <p:nvPr/>
        </p:nvSpPr>
        <p:spPr>
          <a:xfrm>
            <a:off x="3952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9" descr="C:\Users\PC-USER\AppData\Local\Microsoft\Windows\Temporary Internet Files\Content.IE5\T6GJ7IO0\MC900222558[1].wmf"/>
          <p:cNvPicPr/>
          <p:nvPr/>
        </p:nvPicPr>
        <p:blipFill>
          <a:blip r:embed="rId4"/>
          <a:stretch/>
        </p:blipFill>
        <p:spPr>
          <a:xfrm>
            <a:off x="5580000" y="3860640"/>
            <a:ext cx="2448000" cy="2098800"/>
          </a:xfrm>
          <a:prstGeom prst="rect">
            <a:avLst/>
          </a:prstGeom>
          <a:ln w="0">
            <a:noFill/>
          </a:ln>
        </p:spPr>
      </p:pic>
      <p:sp>
        <p:nvSpPr>
          <p:cNvPr id="474" name="テキスト ボックス 23"/>
          <p:cNvSpPr/>
          <p:nvPr/>
        </p:nvSpPr>
        <p:spPr>
          <a:xfrm>
            <a:off x="521964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テキスト ボックス 11"/>
          <p:cNvSpPr/>
          <p:nvPr/>
        </p:nvSpPr>
        <p:spPr>
          <a:xfrm>
            <a:off x="468360" y="2602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6FFE-93A2-400A-984C-6B5C0DF3C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グループ化 263"/>
          <p:cNvGrpSpPr/>
          <p:nvPr/>
        </p:nvGrpSpPr>
        <p:grpSpPr>
          <a:xfrm>
            <a:off x="539640" y="765000"/>
            <a:ext cx="1728720" cy="2016360"/>
            <a:chOff x="539640" y="765000"/>
            <a:chExt cx="1728720" cy="2016360"/>
          </a:xfrm>
        </p:grpSpPr>
        <p:grpSp>
          <p:nvGrpSpPr>
            <p:cNvPr id="478" name="Group 118"/>
            <p:cNvGrpSpPr/>
            <p:nvPr/>
          </p:nvGrpSpPr>
          <p:grpSpPr>
            <a:xfrm>
              <a:off x="539640" y="765000"/>
              <a:ext cx="1728720" cy="2016360"/>
              <a:chOff x="539640" y="765000"/>
              <a:chExt cx="1728720" cy="2016360"/>
            </a:xfrm>
          </p:grpSpPr>
          <p:sp>
            <p:nvSpPr>
              <p:cNvPr id="479" name="AutoShape 117"/>
              <p:cNvSpPr/>
              <p:nvPr/>
            </p:nvSpPr>
            <p:spPr>
              <a:xfrm>
                <a:off x="539640" y="765000"/>
                <a:ext cx="1728720" cy="20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0"/>
              <p:cNvSpPr/>
              <p:nvPr/>
            </p:nvSpPr>
            <p:spPr>
              <a:xfrm>
                <a:off x="713160" y="794520"/>
                <a:ext cx="1423080" cy="1868040"/>
              </a:xfrm>
              <a:custGeom>
                <a:avLst/>
                <a:gdLst/>
                <a:ahLst/>
                <a:rect l="l" t="t" r="r" b="b"/>
                <a:pathLst>
                  <a:path w="1970" h="2522">
                    <a:moveTo>
                      <a:pt x="18" y="356"/>
                    </a:moveTo>
                    <a:lnTo>
                      <a:pt x="171" y="253"/>
                    </a:lnTo>
                    <a:lnTo>
                      <a:pt x="167" y="219"/>
                    </a:lnTo>
                    <a:lnTo>
                      <a:pt x="352" y="141"/>
                    </a:lnTo>
                    <a:lnTo>
                      <a:pt x="422" y="152"/>
                    </a:lnTo>
                    <a:lnTo>
                      <a:pt x="442" y="200"/>
                    </a:lnTo>
                    <a:lnTo>
                      <a:pt x="488" y="198"/>
                    </a:lnTo>
                    <a:lnTo>
                      <a:pt x="1179" y="196"/>
                    </a:lnTo>
                    <a:lnTo>
                      <a:pt x="1195" y="172"/>
                    </a:lnTo>
                    <a:lnTo>
                      <a:pt x="1401" y="161"/>
                    </a:lnTo>
                    <a:lnTo>
                      <a:pt x="1589" y="42"/>
                    </a:lnTo>
                    <a:lnTo>
                      <a:pt x="1695" y="41"/>
                    </a:lnTo>
                    <a:lnTo>
                      <a:pt x="1785" y="0"/>
                    </a:lnTo>
                    <a:lnTo>
                      <a:pt x="1906" y="14"/>
                    </a:lnTo>
                    <a:lnTo>
                      <a:pt x="1914" y="635"/>
                    </a:lnTo>
                    <a:lnTo>
                      <a:pt x="1954" y="721"/>
                    </a:lnTo>
                    <a:lnTo>
                      <a:pt x="1970" y="865"/>
                    </a:lnTo>
                    <a:lnTo>
                      <a:pt x="1966" y="1006"/>
                    </a:lnTo>
                    <a:lnTo>
                      <a:pt x="1721" y="2372"/>
                    </a:lnTo>
                    <a:lnTo>
                      <a:pt x="1552" y="2322"/>
                    </a:lnTo>
                    <a:lnTo>
                      <a:pt x="1533" y="2345"/>
                    </a:lnTo>
                    <a:lnTo>
                      <a:pt x="1555" y="2386"/>
                    </a:lnTo>
                    <a:lnTo>
                      <a:pt x="1552" y="2510"/>
                    </a:lnTo>
                    <a:lnTo>
                      <a:pt x="271" y="2522"/>
                    </a:lnTo>
                    <a:lnTo>
                      <a:pt x="23" y="2415"/>
                    </a:lnTo>
                    <a:lnTo>
                      <a:pt x="10" y="2273"/>
                    </a:lnTo>
                    <a:lnTo>
                      <a:pt x="30" y="2225"/>
                    </a:lnTo>
                    <a:lnTo>
                      <a:pt x="0" y="2141"/>
                    </a:lnTo>
                    <a:lnTo>
                      <a:pt x="18" y="384"/>
                    </a:lnTo>
                    <a:lnTo>
                      <a:pt x="18" y="356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21"/>
              <p:cNvSpPr/>
              <p:nvPr/>
            </p:nvSpPr>
            <p:spPr>
              <a:xfrm>
                <a:off x="717120" y="800280"/>
                <a:ext cx="1414800" cy="1855800"/>
              </a:xfrm>
              <a:custGeom>
                <a:avLst/>
                <a:gdLst>
                  <a:gd name="textAreaLeft" fmla="*/ 0 w 1414800"/>
                  <a:gd name="textAreaRight" fmla="*/ 1415160 w 1414800"/>
                  <a:gd name="textAreaTop" fmla="*/ 0 h 1855800"/>
                  <a:gd name="textAreaBottom" fmla="*/ 1856160 h 1855800"/>
                </a:gdLst>
                <a:ahLst/>
                <a:rect l="textAreaLeft" t="textAreaTop" r="textAreaRight" b="textAreaBottom"/>
                <a:pathLst>
                  <a:path w="1956" h="2505">
                    <a:moveTo>
                      <a:pt x="16" y="350"/>
                    </a:moveTo>
                    <a:lnTo>
                      <a:pt x="35" y="338"/>
                    </a:lnTo>
                    <a:lnTo>
                      <a:pt x="54" y="324"/>
                    </a:lnTo>
                    <a:lnTo>
                      <a:pt x="74" y="312"/>
                    </a:lnTo>
                    <a:lnTo>
                      <a:pt x="93" y="298"/>
                    </a:lnTo>
                    <a:lnTo>
                      <a:pt x="112" y="286"/>
                    </a:lnTo>
                    <a:lnTo>
                      <a:pt x="131" y="273"/>
                    </a:lnTo>
                    <a:lnTo>
                      <a:pt x="150" y="261"/>
                    </a:lnTo>
                    <a:lnTo>
                      <a:pt x="169" y="247"/>
                    </a:lnTo>
                    <a:lnTo>
                      <a:pt x="168" y="239"/>
                    </a:lnTo>
                    <a:lnTo>
                      <a:pt x="168" y="231"/>
                    </a:lnTo>
                    <a:lnTo>
                      <a:pt x="166" y="223"/>
                    </a:lnTo>
                    <a:lnTo>
                      <a:pt x="165" y="213"/>
                    </a:lnTo>
                    <a:lnTo>
                      <a:pt x="187" y="204"/>
                    </a:lnTo>
                    <a:lnTo>
                      <a:pt x="210" y="194"/>
                    </a:lnTo>
                    <a:lnTo>
                      <a:pt x="231" y="185"/>
                    </a:lnTo>
                    <a:lnTo>
                      <a:pt x="253" y="174"/>
                    </a:lnTo>
                    <a:lnTo>
                      <a:pt x="276" y="165"/>
                    </a:lnTo>
                    <a:lnTo>
                      <a:pt x="297" y="155"/>
                    </a:lnTo>
                    <a:lnTo>
                      <a:pt x="319" y="146"/>
                    </a:lnTo>
                    <a:lnTo>
                      <a:pt x="341" y="136"/>
                    </a:lnTo>
                    <a:lnTo>
                      <a:pt x="350" y="138"/>
                    </a:lnTo>
                    <a:lnTo>
                      <a:pt x="358" y="139"/>
                    </a:lnTo>
                    <a:lnTo>
                      <a:pt x="368" y="140"/>
                    </a:lnTo>
                    <a:lnTo>
                      <a:pt x="377" y="142"/>
                    </a:lnTo>
                    <a:lnTo>
                      <a:pt x="385" y="144"/>
                    </a:lnTo>
                    <a:lnTo>
                      <a:pt x="395" y="146"/>
                    </a:lnTo>
                    <a:lnTo>
                      <a:pt x="403" y="147"/>
                    </a:lnTo>
                    <a:lnTo>
                      <a:pt x="412" y="148"/>
                    </a:lnTo>
                    <a:lnTo>
                      <a:pt x="416" y="159"/>
                    </a:lnTo>
                    <a:lnTo>
                      <a:pt x="422" y="170"/>
                    </a:lnTo>
                    <a:lnTo>
                      <a:pt x="426" y="182"/>
                    </a:lnTo>
                    <a:lnTo>
                      <a:pt x="431" y="194"/>
                    </a:lnTo>
                    <a:lnTo>
                      <a:pt x="438" y="194"/>
                    </a:lnTo>
                    <a:lnTo>
                      <a:pt x="443" y="193"/>
                    </a:lnTo>
                    <a:lnTo>
                      <a:pt x="450" y="193"/>
                    </a:lnTo>
                    <a:lnTo>
                      <a:pt x="456" y="193"/>
                    </a:lnTo>
                    <a:lnTo>
                      <a:pt x="462" y="193"/>
                    </a:lnTo>
                    <a:lnTo>
                      <a:pt x="468" y="193"/>
                    </a:lnTo>
                    <a:lnTo>
                      <a:pt x="475" y="192"/>
                    </a:lnTo>
                    <a:lnTo>
                      <a:pt x="480" y="192"/>
                    </a:lnTo>
                    <a:lnTo>
                      <a:pt x="523" y="192"/>
                    </a:lnTo>
                    <a:lnTo>
                      <a:pt x="568" y="192"/>
                    </a:lnTo>
                    <a:lnTo>
                      <a:pt x="611" y="192"/>
                    </a:lnTo>
                    <a:lnTo>
                      <a:pt x="654" y="193"/>
                    </a:lnTo>
                    <a:lnTo>
                      <a:pt x="698" y="193"/>
                    </a:lnTo>
                    <a:lnTo>
                      <a:pt x="742" y="193"/>
                    </a:lnTo>
                    <a:lnTo>
                      <a:pt x="785" y="193"/>
                    </a:lnTo>
                    <a:lnTo>
                      <a:pt x="830" y="193"/>
                    </a:lnTo>
                    <a:lnTo>
                      <a:pt x="873" y="193"/>
                    </a:lnTo>
                    <a:lnTo>
                      <a:pt x="917" y="193"/>
                    </a:lnTo>
                    <a:lnTo>
                      <a:pt x="961" y="193"/>
                    </a:lnTo>
                    <a:lnTo>
                      <a:pt x="1004" y="193"/>
                    </a:lnTo>
                    <a:lnTo>
                      <a:pt x="1048" y="194"/>
                    </a:lnTo>
                    <a:lnTo>
                      <a:pt x="1091" y="194"/>
                    </a:lnTo>
                    <a:lnTo>
                      <a:pt x="1136" y="194"/>
                    </a:lnTo>
                    <a:lnTo>
                      <a:pt x="1179" y="194"/>
                    </a:lnTo>
                    <a:lnTo>
                      <a:pt x="1183" y="188"/>
                    </a:lnTo>
                    <a:lnTo>
                      <a:pt x="1187" y="182"/>
                    </a:lnTo>
                    <a:lnTo>
                      <a:pt x="1191" y="175"/>
                    </a:lnTo>
                    <a:lnTo>
                      <a:pt x="1196" y="170"/>
                    </a:lnTo>
                    <a:lnTo>
                      <a:pt x="1221" y="169"/>
                    </a:lnTo>
                    <a:lnTo>
                      <a:pt x="1245" y="167"/>
                    </a:lnTo>
                    <a:lnTo>
                      <a:pt x="1271" y="166"/>
                    </a:lnTo>
                    <a:lnTo>
                      <a:pt x="1295" y="165"/>
                    </a:lnTo>
                    <a:lnTo>
                      <a:pt x="1319" y="163"/>
                    </a:lnTo>
                    <a:lnTo>
                      <a:pt x="1345" y="162"/>
                    </a:lnTo>
                    <a:lnTo>
                      <a:pt x="1369" y="160"/>
                    </a:lnTo>
                    <a:lnTo>
                      <a:pt x="1394" y="159"/>
                    </a:lnTo>
                    <a:lnTo>
                      <a:pt x="1418" y="144"/>
                    </a:lnTo>
                    <a:lnTo>
                      <a:pt x="1441" y="129"/>
                    </a:lnTo>
                    <a:lnTo>
                      <a:pt x="1465" y="115"/>
                    </a:lnTo>
                    <a:lnTo>
                      <a:pt x="1490" y="100"/>
                    </a:lnTo>
                    <a:lnTo>
                      <a:pt x="1513" y="85"/>
                    </a:lnTo>
                    <a:lnTo>
                      <a:pt x="1537" y="69"/>
                    </a:lnTo>
                    <a:lnTo>
                      <a:pt x="1560" y="54"/>
                    </a:lnTo>
                    <a:lnTo>
                      <a:pt x="1584" y="39"/>
                    </a:lnTo>
                    <a:lnTo>
                      <a:pt x="1598" y="39"/>
                    </a:lnTo>
                    <a:lnTo>
                      <a:pt x="1610" y="39"/>
                    </a:lnTo>
                    <a:lnTo>
                      <a:pt x="1624" y="39"/>
                    </a:lnTo>
                    <a:lnTo>
                      <a:pt x="1637" y="39"/>
                    </a:lnTo>
                    <a:lnTo>
                      <a:pt x="1651" y="39"/>
                    </a:lnTo>
                    <a:lnTo>
                      <a:pt x="1663" y="39"/>
                    </a:lnTo>
                    <a:lnTo>
                      <a:pt x="1676" y="39"/>
                    </a:lnTo>
                    <a:lnTo>
                      <a:pt x="1688" y="39"/>
                    </a:lnTo>
                    <a:lnTo>
                      <a:pt x="1699" y="33"/>
                    </a:lnTo>
                    <a:lnTo>
                      <a:pt x="1710" y="29"/>
                    </a:lnTo>
                    <a:lnTo>
                      <a:pt x="1721" y="24"/>
                    </a:lnTo>
                    <a:lnTo>
                      <a:pt x="1733" y="19"/>
                    </a:lnTo>
                    <a:lnTo>
                      <a:pt x="1744" y="15"/>
                    </a:lnTo>
                    <a:lnTo>
                      <a:pt x="1755" y="9"/>
                    </a:lnTo>
                    <a:lnTo>
                      <a:pt x="1765" y="5"/>
                    </a:lnTo>
                    <a:lnTo>
                      <a:pt x="1776" y="0"/>
                    </a:lnTo>
                    <a:lnTo>
                      <a:pt x="1790" y="1"/>
                    </a:lnTo>
                    <a:lnTo>
                      <a:pt x="1805" y="2"/>
                    </a:lnTo>
                    <a:lnTo>
                      <a:pt x="1818" y="4"/>
                    </a:lnTo>
                    <a:lnTo>
                      <a:pt x="1833" y="5"/>
                    </a:lnTo>
                    <a:lnTo>
                      <a:pt x="1848" y="8"/>
                    </a:lnTo>
                    <a:lnTo>
                      <a:pt x="1864" y="9"/>
                    </a:lnTo>
                    <a:lnTo>
                      <a:pt x="1879" y="10"/>
                    </a:lnTo>
                    <a:lnTo>
                      <a:pt x="1894" y="12"/>
                    </a:lnTo>
                    <a:lnTo>
                      <a:pt x="1895" y="167"/>
                    </a:lnTo>
                    <a:lnTo>
                      <a:pt x="1898" y="323"/>
                    </a:lnTo>
                    <a:lnTo>
                      <a:pt x="1899" y="478"/>
                    </a:lnTo>
                    <a:lnTo>
                      <a:pt x="1901" y="634"/>
                    </a:lnTo>
                    <a:lnTo>
                      <a:pt x="1910" y="655"/>
                    </a:lnTo>
                    <a:lnTo>
                      <a:pt x="1921" y="675"/>
                    </a:lnTo>
                    <a:lnTo>
                      <a:pt x="1930" y="697"/>
                    </a:lnTo>
                    <a:lnTo>
                      <a:pt x="1940" y="719"/>
                    </a:lnTo>
                    <a:lnTo>
                      <a:pt x="1944" y="755"/>
                    </a:lnTo>
                    <a:lnTo>
                      <a:pt x="1948" y="790"/>
                    </a:lnTo>
                    <a:lnTo>
                      <a:pt x="1952" y="827"/>
                    </a:lnTo>
                    <a:lnTo>
                      <a:pt x="1956" y="863"/>
                    </a:lnTo>
                    <a:lnTo>
                      <a:pt x="1955" y="905"/>
                    </a:lnTo>
                    <a:lnTo>
                      <a:pt x="1955" y="946"/>
                    </a:lnTo>
                    <a:lnTo>
                      <a:pt x="1953" y="988"/>
                    </a:lnTo>
                    <a:lnTo>
                      <a:pt x="1952" y="1028"/>
                    </a:lnTo>
                    <a:lnTo>
                      <a:pt x="1937" y="1111"/>
                    </a:lnTo>
                    <a:lnTo>
                      <a:pt x="1922" y="1194"/>
                    </a:lnTo>
                    <a:lnTo>
                      <a:pt x="1907" y="1277"/>
                    </a:lnTo>
                    <a:lnTo>
                      <a:pt x="1893" y="1359"/>
                    </a:lnTo>
                    <a:lnTo>
                      <a:pt x="1878" y="1442"/>
                    </a:lnTo>
                    <a:lnTo>
                      <a:pt x="1864" y="1526"/>
                    </a:lnTo>
                    <a:lnTo>
                      <a:pt x="1849" y="1608"/>
                    </a:lnTo>
                    <a:lnTo>
                      <a:pt x="1834" y="1690"/>
                    </a:lnTo>
                    <a:lnTo>
                      <a:pt x="1820" y="1773"/>
                    </a:lnTo>
                    <a:lnTo>
                      <a:pt x="1805" y="1857"/>
                    </a:lnTo>
                    <a:lnTo>
                      <a:pt x="1791" y="1939"/>
                    </a:lnTo>
                    <a:lnTo>
                      <a:pt x="1776" y="2022"/>
                    </a:lnTo>
                    <a:lnTo>
                      <a:pt x="1761" y="2105"/>
                    </a:lnTo>
                    <a:lnTo>
                      <a:pt x="1747" y="2188"/>
                    </a:lnTo>
                    <a:lnTo>
                      <a:pt x="1732" y="2272"/>
                    </a:lnTo>
                    <a:lnTo>
                      <a:pt x="1717" y="2354"/>
                    </a:lnTo>
                    <a:lnTo>
                      <a:pt x="1695" y="2347"/>
                    </a:lnTo>
                    <a:lnTo>
                      <a:pt x="1672" y="2342"/>
                    </a:lnTo>
                    <a:lnTo>
                      <a:pt x="1651" y="2335"/>
                    </a:lnTo>
                    <a:lnTo>
                      <a:pt x="1628" y="2330"/>
                    </a:lnTo>
                    <a:lnTo>
                      <a:pt x="1606" y="2323"/>
                    </a:lnTo>
                    <a:lnTo>
                      <a:pt x="1583" y="2318"/>
                    </a:lnTo>
                    <a:lnTo>
                      <a:pt x="1561" y="2311"/>
                    </a:lnTo>
                    <a:lnTo>
                      <a:pt x="1538" y="2305"/>
                    </a:lnTo>
                    <a:lnTo>
                      <a:pt x="1534" y="2311"/>
                    </a:lnTo>
                    <a:lnTo>
                      <a:pt x="1529" y="2316"/>
                    </a:lnTo>
                    <a:lnTo>
                      <a:pt x="1525" y="2323"/>
                    </a:lnTo>
                    <a:lnTo>
                      <a:pt x="1519" y="2328"/>
                    </a:lnTo>
                    <a:lnTo>
                      <a:pt x="1525" y="2338"/>
                    </a:lnTo>
                    <a:lnTo>
                      <a:pt x="1530" y="2349"/>
                    </a:lnTo>
                    <a:lnTo>
                      <a:pt x="1536" y="2358"/>
                    </a:lnTo>
                    <a:lnTo>
                      <a:pt x="1541" y="2368"/>
                    </a:lnTo>
                    <a:lnTo>
                      <a:pt x="1540" y="2399"/>
                    </a:lnTo>
                    <a:lnTo>
                      <a:pt x="1540" y="2431"/>
                    </a:lnTo>
                    <a:lnTo>
                      <a:pt x="1540" y="2464"/>
                    </a:lnTo>
                    <a:lnTo>
                      <a:pt x="1538" y="2495"/>
                    </a:lnTo>
                    <a:lnTo>
                      <a:pt x="1499" y="2495"/>
                    </a:lnTo>
                    <a:lnTo>
                      <a:pt x="1459" y="2495"/>
                    </a:lnTo>
                    <a:lnTo>
                      <a:pt x="1419" y="2496"/>
                    </a:lnTo>
                    <a:lnTo>
                      <a:pt x="1380" y="2496"/>
                    </a:lnTo>
                    <a:lnTo>
                      <a:pt x="1341" y="2496"/>
                    </a:lnTo>
                    <a:lnTo>
                      <a:pt x="1300" y="2496"/>
                    </a:lnTo>
                    <a:lnTo>
                      <a:pt x="1261" y="2496"/>
                    </a:lnTo>
                    <a:lnTo>
                      <a:pt x="1222" y="2497"/>
                    </a:lnTo>
                    <a:lnTo>
                      <a:pt x="1183" y="2497"/>
                    </a:lnTo>
                    <a:lnTo>
                      <a:pt x="1142" y="2497"/>
                    </a:lnTo>
                    <a:lnTo>
                      <a:pt x="1103" y="2497"/>
                    </a:lnTo>
                    <a:lnTo>
                      <a:pt x="1064" y="2499"/>
                    </a:lnTo>
                    <a:lnTo>
                      <a:pt x="1023" y="2499"/>
                    </a:lnTo>
                    <a:lnTo>
                      <a:pt x="984" y="2499"/>
                    </a:lnTo>
                    <a:lnTo>
                      <a:pt x="945" y="2499"/>
                    </a:lnTo>
                    <a:lnTo>
                      <a:pt x="904" y="2500"/>
                    </a:lnTo>
                    <a:lnTo>
                      <a:pt x="865" y="2500"/>
                    </a:lnTo>
                    <a:lnTo>
                      <a:pt x="826" y="2500"/>
                    </a:lnTo>
                    <a:lnTo>
                      <a:pt x="785" y="2500"/>
                    </a:lnTo>
                    <a:lnTo>
                      <a:pt x="746" y="2501"/>
                    </a:lnTo>
                    <a:lnTo>
                      <a:pt x="707" y="2501"/>
                    </a:lnTo>
                    <a:lnTo>
                      <a:pt x="666" y="2501"/>
                    </a:lnTo>
                    <a:lnTo>
                      <a:pt x="627" y="2501"/>
                    </a:lnTo>
                    <a:lnTo>
                      <a:pt x="588" y="2503"/>
                    </a:lnTo>
                    <a:lnTo>
                      <a:pt x="548" y="2503"/>
                    </a:lnTo>
                    <a:lnTo>
                      <a:pt x="508" y="2503"/>
                    </a:lnTo>
                    <a:lnTo>
                      <a:pt x="469" y="2504"/>
                    </a:lnTo>
                    <a:lnTo>
                      <a:pt x="429" y="2504"/>
                    </a:lnTo>
                    <a:lnTo>
                      <a:pt x="389" y="2504"/>
                    </a:lnTo>
                    <a:lnTo>
                      <a:pt x="350" y="2504"/>
                    </a:lnTo>
                    <a:lnTo>
                      <a:pt x="310" y="2505"/>
                    </a:lnTo>
                    <a:lnTo>
                      <a:pt x="270" y="2505"/>
                    </a:lnTo>
                    <a:lnTo>
                      <a:pt x="256" y="2499"/>
                    </a:lnTo>
                    <a:lnTo>
                      <a:pt x="239" y="2492"/>
                    </a:lnTo>
                    <a:lnTo>
                      <a:pt x="224" y="2485"/>
                    </a:lnTo>
                    <a:lnTo>
                      <a:pt x="208" y="2478"/>
                    </a:lnTo>
                    <a:lnTo>
                      <a:pt x="193" y="2472"/>
                    </a:lnTo>
                    <a:lnTo>
                      <a:pt x="177" y="2465"/>
                    </a:lnTo>
                    <a:lnTo>
                      <a:pt x="162" y="2458"/>
                    </a:lnTo>
                    <a:lnTo>
                      <a:pt x="146" y="2451"/>
                    </a:lnTo>
                    <a:lnTo>
                      <a:pt x="130" y="2446"/>
                    </a:lnTo>
                    <a:lnTo>
                      <a:pt x="115" y="2439"/>
                    </a:lnTo>
                    <a:lnTo>
                      <a:pt x="99" y="2432"/>
                    </a:lnTo>
                    <a:lnTo>
                      <a:pt x="84" y="2426"/>
                    </a:lnTo>
                    <a:lnTo>
                      <a:pt x="68" y="2419"/>
                    </a:lnTo>
                    <a:lnTo>
                      <a:pt x="53" y="2412"/>
                    </a:lnTo>
                    <a:lnTo>
                      <a:pt x="37" y="2405"/>
                    </a:lnTo>
                    <a:lnTo>
                      <a:pt x="22" y="2399"/>
                    </a:lnTo>
                    <a:lnTo>
                      <a:pt x="19" y="2365"/>
                    </a:lnTo>
                    <a:lnTo>
                      <a:pt x="16" y="2330"/>
                    </a:lnTo>
                    <a:lnTo>
                      <a:pt x="12" y="2296"/>
                    </a:lnTo>
                    <a:lnTo>
                      <a:pt x="9" y="2262"/>
                    </a:lnTo>
                    <a:lnTo>
                      <a:pt x="15" y="2250"/>
                    </a:lnTo>
                    <a:lnTo>
                      <a:pt x="20" y="2238"/>
                    </a:lnTo>
                    <a:lnTo>
                      <a:pt x="24" y="2227"/>
                    </a:lnTo>
                    <a:lnTo>
                      <a:pt x="30" y="2215"/>
                    </a:lnTo>
                    <a:lnTo>
                      <a:pt x="23" y="2196"/>
                    </a:lnTo>
                    <a:lnTo>
                      <a:pt x="15" y="2176"/>
                    </a:lnTo>
                    <a:lnTo>
                      <a:pt x="8" y="2155"/>
                    </a:lnTo>
                    <a:lnTo>
                      <a:pt x="0" y="2135"/>
                    </a:lnTo>
                    <a:lnTo>
                      <a:pt x="4" y="1696"/>
                    </a:lnTo>
                    <a:lnTo>
                      <a:pt x="8" y="1257"/>
                    </a:lnTo>
                    <a:lnTo>
                      <a:pt x="12" y="817"/>
                    </a:lnTo>
                    <a:lnTo>
                      <a:pt x="16" y="378"/>
                    </a:lnTo>
                    <a:lnTo>
                      <a:pt x="16" y="371"/>
                    </a:lnTo>
                    <a:lnTo>
                      <a:pt x="16" y="363"/>
                    </a:lnTo>
                    <a:lnTo>
                      <a:pt x="16" y="356"/>
                    </a:lnTo>
                    <a:lnTo>
                      <a:pt x="16" y="350"/>
                    </a:lnTo>
                    <a:close/>
                  </a:path>
                </a:pathLst>
              </a:custGeom>
              <a:solidFill>
                <a:srgbClr val="969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22"/>
              <p:cNvSpPr/>
              <p:nvPr/>
            </p:nvSpPr>
            <p:spPr>
              <a:xfrm>
                <a:off x="723240" y="807840"/>
                <a:ext cx="1404360" cy="1844280"/>
              </a:xfrm>
              <a:custGeom>
                <a:avLst/>
                <a:gdLst>
                  <a:gd name="textAreaLeft" fmla="*/ 0 w 1404360"/>
                  <a:gd name="textAreaRight" fmla="*/ 1404360 w 1404360"/>
                  <a:gd name="textAreaTop" fmla="*/ 0 h 1844280"/>
                  <a:gd name="textAreaBottom" fmla="*/ 1844640 h 1844280"/>
                </a:gdLst>
                <a:ahLst/>
                <a:rect l="textAreaLeft" t="textAreaTop" r="textAreaRight" b="textAreaBottom"/>
                <a:pathLst>
                  <a:path w="1941" h="2490">
                    <a:moveTo>
                      <a:pt x="14" y="345"/>
                    </a:moveTo>
                    <a:lnTo>
                      <a:pt x="33" y="333"/>
                    </a:lnTo>
                    <a:lnTo>
                      <a:pt x="53" y="319"/>
                    </a:lnTo>
                    <a:lnTo>
                      <a:pt x="72" y="307"/>
                    </a:lnTo>
                    <a:lnTo>
                      <a:pt x="91" y="293"/>
                    </a:lnTo>
                    <a:lnTo>
                      <a:pt x="110" y="281"/>
                    </a:lnTo>
                    <a:lnTo>
                      <a:pt x="130" y="269"/>
                    </a:lnTo>
                    <a:lnTo>
                      <a:pt x="149" y="256"/>
                    </a:lnTo>
                    <a:lnTo>
                      <a:pt x="168" y="243"/>
                    </a:lnTo>
                    <a:lnTo>
                      <a:pt x="166" y="234"/>
                    </a:lnTo>
                    <a:lnTo>
                      <a:pt x="166" y="226"/>
                    </a:lnTo>
                    <a:lnTo>
                      <a:pt x="165" y="218"/>
                    </a:lnTo>
                    <a:lnTo>
                      <a:pt x="164" y="210"/>
                    </a:lnTo>
                    <a:lnTo>
                      <a:pt x="184" y="200"/>
                    </a:lnTo>
                    <a:lnTo>
                      <a:pt x="206" y="191"/>
                    </a:lnTo>
                    <a:lnTo>
                      <a:pt x="226" y="181"/>
                    </a:lnTo>
                    <a:lnTo>
                      <a:pt x="248" y="170"/>
                    </a:lnTo>
                    <a:lnTo>
                      <a:pt x="268" y="161"/>
                    </a:lnTo>
                    <a:lnTo>
                      <a:pt x="288" y="151"/>
                    </a:lnTo>
                    <a:lnTo>
                      <a:pt x="310" y="142"/>
                    </a:lnTo>
                    <a:lnTo>
                      <a:pt x="330" y="133"/>
                    </a:lnTo>
                    <a:lnTo>
                      <a:pt x="338" y="134"/>
                    </a:lnTo>
                    <a:lnTo>
                      <a:pt x="348" y="135"/>
                    </a:lnTo>
                    <a:lnTo>
                      <a:pt x="356" y="137"/>
                    </a:lnTo>
                    <a:lnTo>
                      <a:pt x="365" y="138"/>
                    </a:lnTo>
                    <a:lnTo>
                      <a:pt x="375" y="141"/>
                    </a:lnTo>
                    <a:lnTo>
                      <a:pt x="383" y="142"/>
                    </a:lnTo>
                    <a:lnTo>
                      <a:pt x="392" y="143"/>
                    </a:lnTo>
                    <a:lnTo>
                      <a:pt x="400" y="145"/>
                    </a:lnTo>
                    <a:lnTo>
                      <a:pt x="406" y="156"/>
                    </a:lnTo>
                    <a:lnTo>
                      <a:pt x="410" y="166"/>
                    </a:lnTo>
                    <a:lnTo>
                      <a:pt x="414" y="179"/>
                    </a:lnTo>
                    <a:lnTo>
                      <a:pt x="419" y="189"/>
                    </a:lnTo>
                    <a:lnTo>
                      <a:pt x="426" y="189"/>
                    </a:lnTo>
                    <a:lnTo>
                      <a:pt x="431" y="188"/>
                    </a:lnTo>
                    <a:lnTo>
                      <a:pt x="438" y="188"/>
                    </a:lnTo>
                    <a:lnTo>
                      <a:pt x="445" y="188"/>
                    </a:lnTo>
                    <a:lnTo>
                      <a:pt x="450" y="188"/>
                    </a:lnTo>
                    <a:lnTo>
                      <a:pt x="457" y="188"/>
                    </a:lnTo>
                    <a:lnTo>
                      <a:pt x="462" y="188"/>
                    </a:lnTo>
                    <a:lnTo>
                      <a:pt x="469" y="188"/>
                    </a:lnTo>
                    <a:lnTo>
                      <a:pt x="514" y="188"/>
                    </a:lnTo>
                    <a:lnTo>
                      <a:pt x="558" y="188"/>
                    </a:lnTo>
                    <a:lnTo>
                      <a:pt x="602" y="189"/>
                    </a:lnTo>
                    <a:lnTo>
                      <a:pt x="646" y="189"/>
                    </a:lnTo>
                    <a:lnTo>
                      <a:pt x="691" y="189"/>
                    </a:lnTo>
                    <a:lnTo>
                      <a:pt x="736" y="189"/>
                    </a:lnTo>
                    <a:lnTo>
                      <a:pt x="780" y="189"/>
                    </a:lnTo>
                    <a:lnTo>
                      <a:pt x="823" y="189"/>
                    </a:lnTo>
                    <a:lnTo>
                      <a:pt x="868" y="191"/>
                    </a:lnTo>
                    <a:lnTo>
                      <a:pt x="913" y="191"/>
                    </a:lnTo>
                    <a:lnTo>
                      <a:pt x="957" y="191"/>
                    </a:lnTo>
                    <a:lnTo>
                      <a:pt x="1000" y="191"/>
                    </a:lnTo>
                    <a:lnTo>
                      <a:pt x="1045" y="191"/>
                    </a:lnTo>
                    <a:lnTo>
                      <a:pt x="1090" y="192"/>
                    </a:lnTo>
                    <a:lnTo>
                      <a:pt x="1133" y="192"/>
                    </a:lnTo>
                    <a:lnTo>
                      <a:pt x="1178" y="192"/>
                    </a:lnTo>
                    <a:lnTo>
                      <a:pt x="1183" y="187"/>
                    </a:lnTo>
                    <a:lnTo>
                      <a:pt x="1187" y="180"/>
                    </a:lnTo>
                    <a:lnTo>
                      <a:pt x="1191" y="174"/>
                    </a:lnTo>
                    <a:lnTo>
                      <a:pt x="1195" y="169"/>
                    </a:lnTo>
                    <a:lnTo>
                      <a:pt x="1219" y="168"/>
                    </a:lnTo>
                    <a:lnTo>
                      <a:pt x="1242" y="166"/>
                    </a:lnTo>
                    <a:lnTo>
                      <a:pt x="1267" y="165"/>
                    </a:lnTo>
                    <a:lnTo>
                      <a:pt x="1291" y="164"/>
                    </a:lnTo>
                    <a:lnTo>
                      <a:pt x="1314" y="162"/>
                    </a:lnTo>
                    <a:lnTo>
                      <a:pt x="1338" y="162"/>
                    </a:lnTo>
                    <a:lnTo>
                      <a:pt x="1361" y="161"/>
                    </a:lnTo>
                    <a:lnTo>
                      <a:pt x="1386" y="160"/>
                    </a:lnTo>
                    <a:lnTo>
                      <a:pt x="1410" y="145"/>
                    </a:lnTo>
                    <a:lnTo>
                      <a:pt x="1434" y="129"/>
                    </a:lnTo>
                    <a:lnTo>
                      <a:pt x="1459" y="114"/>
                    </a:lnTo>
                    <a:lnTo>
                      <a:pt x="1483" y="99"/>
                    </a:lnTo>
                    <a:lnTo>
                      <a:pt x="1507" y="84"/>
                    </a:lnTo>
                    <a:lnTo>
                      <a:pt x="1532" y="68"/>
                    </a:lnTo>
                    <a:lnTo>
                      <a:pt x="1556" y="53"/>
                    </a:lnTo>
                    <a:lnTo>
                      <a:pt x="1580" y="37"/>
                    </a:lnTo>
                    <a:lnTo>
                      <a:pt x="1593" y="37"/>
                    </a:lnTo>
                    <a:lnTo>
                      <a:pt x="1606" y="38"/>
                    </a:lnTo>
                    <a:lnTo>
                      <a:pt x="1618" y="38"/>
                    </a:lnTo>
                    <a:lnTo>
                      <a:pt x="1630" y="38"/>
                    </a:lnTo>
                    <a:lnTo>
                      <a:pt x="1644" y="38"/>
                    </a:lnTo>
                    <a:lnTo>
                      <a:pt x="1656" y="38"/>
                    </a:lnTo>
                    <a:lnTo>
                      <a:pt x="1668" y="38"/>
                    </a:lnTo>
                    <a:lnTo>
                      <a:pt x="1680" y="38"/>
                    </a:lnTo>
                    <a:lnTo>
                      <a:pt x="1691" y="34"/>
                    </a:lnTo>
                    <a:lnTo>
                      <a:pt x="1702" y="28"/>
                    </a:lnTo>
                    <a:lnTo>
                      <a:pt x="1713" y="24"/>
                    </a:lnTo>
                    <a:lnTo>
                      <a:pt x="1724" y="19"/>
                    </a:lnTo>
                    <a:lnTo>
                      <a:pt x="1735" y="14"/>
                    </a:lnTo>
                    <a:lnTo>
                      <a:pt x="1745" y="10"/>
                    </a:lnTo>
                    <a:lnTo>
                      <a:pt x="1756" y="4"/>
                    </a:lnTo>
                    <a:lnTo>
                      <a:pt x="1767" y="0"/>
                    </a:lnTo>
                    <a:lnTo>
                      <a:pt x="1780" y="1"/>
                    </a:lnTo>
                    <a:lnTo>
                      <a:pt x="1794" y="3"/>
                    </a:lnTo>
                    <a:lnTo>
                      <a:pt x="1808" y="4"/>
                    </a:lnTo>
                    <a:lnTo>
                      <a:pt x="1822" y="6"/>
                    </a:lnTo>
                    <a:lnTo>
                      <a:pt x="1837" y="7"/>
                    </a:lnTo>
                    <a:lnTo>
                      <a:pt x="1852" y="8"/>
                    </a:lnTo>
                    <a:lnTo>
                      <a:pt x="1867" y="10"/>
                    </a:lnTo>
                    <a:lnTo>
                      <a:pt x="1882" y="11"/>
                    </a:lnTo>
                    <a:lnTo>
                      <a:pt x="1883" y="166"/>
                    </a:lnTo>
                    <a:lnTo>
                      <a:pt x="1885" y="322"/>
                    </a:lnTo>
                    <a:lnTo>
                      <a:pt x="1885" y="477"/>
                    </a:lnTo>
                    <a:lnTo>
                      <a:pt x="1886" y="633"/>
                    </a:lnTo>
                    <a:lnTo>
                      <a:pt x="1895" y="653"/>
                    </a:lnTo>
                    <a:lnTo>
                      <a:pt x="1906" y="675"/>
                    </a:lnTo>
                    <a:lnTo>
                      <a:pt x="1916" y="696"/>
                    </a:lnTo>
                    <a:lnTo>
                      <a:pt x="1925" y="718"/>
                    </a:lnTo>
                    <a:lnTo>
                      <a:pt x="1929" y="754"/>
                    </a:lnTo>
                    <a:lnTo>
                      <a:pt x="1933" y="789"/>
                    </a:lnTo>
                    <a:lnTo>
                      <a:pt x="1937" y="826"/>
                    </a:lnTo>
                    <a:lnTo>
                      <a:pt x="1941" y="862"/>
                    </a:lnTo>
                    <a:lnTo>
                      <a:pt x="1940" y="910"/>
                    </a:lnTo>
                    <a:lnTo>
                      <a:pt x="1940" y="957"/>
                    </a:lnTo>
                    <a:lnTo>
                      <a:pt x="1940" y="1004"/>
                    </a:lnTo>
                    <a:lnTo>
                      <a:pt x="1939" y="1052"/>
                    </a:lnTo>
                    <a:lnTo>
                      <a:pt x="1924" y="1133"/>
                    </a:lnTo>
                    <a:lnTo>
                      <a:pt x="1910" y="1212"/>
                    </a:lnTo>
                    <a:lnTo>
                      <a:pt x="1895" y="1294"/>
                    </a:lnTo>
                    <a:lnTo>
                      <a:pt x="1882" y="1373"/>
                    </a:lnTo>
                    <a:lnTo>
                      <a:pt x="1867" y="1454"/>
                    </a:lnTo>
                    <a:lnTo>
                      <a:pt x="1853" y="1534"/>
                    </a:lnTo>
                    <a:lnTo>
                      <a:pt x="1839" y="1615"/>
                    </a:lnTo>
                    <a:lnTo>
                      <a:pt x="1825" y="1695"/>
                    </a:lnTo>
                    <a:lnTo>
                      <a:pt x="1810" y="1776"/>
                    </a:lnTo>
                    <a:lnTo>
                      <a:pt x="1795" y="1856"/>
                    </a:lnTo>
                    <a:lnTo>
                      <a:pt x="1782" y="1937"/>
                    </a:lnTo>
                    <a:lnTo>
                      <a:pt x="1767" y="2017"/>
                    </a:lnTo>
                    <a:lnTo>
                      <a:pt x="1753" y="2098"/>
                    </a:lnTo>
                    <a:lnTo>
                      <a:pt x="1739" y="2177"/>
                    </a:lnTo>
                    <a:lnTo>
                      <a:pt x="1725" y="2259"/>
                    </a:lnTo>
                    <a:lnTo>
                      <a:pt x="1710" y="2338"/>
                    </a:lnTo>
                    <a:lnTo>
                      <a:pt x="1687" y="2332"/>
                    </a:lnTo>
                    <a:lnTo>
                      <a:pt x="1664" y="2326"/>
                    </a:lnTo>
                    <a:lnTo>
                      <a:pt x="1640" y="2319"/>
                    </a:lnTo>
                    <a:lnTo>
                      <a:pt x="1617" y="2314"/>
                    </a:lnTo>
                    <a:lnTo>
                      <a:pt x="1594" y="2307"/>
                    </a:lnTo>
                    <a:lnTo>
                      <a:pt x="1571" y="2302"/>
                    </a:lnTo>
                    <a:lnTo>
                      <a:pt x="1548" y="2295"/>
                    </a:lnTo>
                    <a:lnTo>
                      <a:pt x="1525" y="2288"/>
                    </a:lnTo>
                    <a:lnTo>
                      <a:pt x="1520" y="2295"/>
                    </a:lnTo>
                    <a:lnTo>
                      <a:pt x="1514" y="2300"/>
                    </a:lnTo>
                    <a:lnTo>
                      <a:pt x="1509" y="2307"/>
                    </a:lnTo>
                    <a:lnTo>
                      <a:pt x="1503" y="2313"/>
                    </a:lnTo>
                    <a:lnTo>
                      <a:pt x="1509" y="2322"/>
                    </a:lnTo>
                    <a:lnTo>
                      <a:pt x="1516" y="2332"/>
                    </a:lnTo>
                    <a:lnTo>
                      <a:pt x="1521" y="2341"/>
                    </a:lnTo>
                    <a:lnTo>
                      <a:pt x="1526" y="2349"/>
                    </a:lnTo>
                    <a:lnTo>
                      <a:pt x="1526" y="2382"/>
                    </a:lnTo>
                    <a:lnTo>
                      <a:pt x="1526" y="2414"/>
                    </a:lnTo>
                    <a:lnTo>
                      <a:pt x="1525" y="2446"/>
                    </a:lnTo>
                    <a:lnTo>
                      <a:pt x="1525" y="2479"/>
                    </a:lnTo>
                    <a:lnTo>
                      <a:pt x="1486" y="2479"/>
                    </a:lnTo>
                    <a:lnTo>
                      <a:pt x="1447" y="2480"/>
                    </a:lnTo>
                    <a:lnTo>
                      <a:pt x="1407" y="2480"/>
                    </a:lnTo>
                    <a:lnTo>
                      <a:pt x="1368" y="2480"/>
                    </a:lnTo>
                    <a:lnTo>
                      <a:pt x="1329" y="2480"/>
                    </a:lnTo>
                    <a:lnTo>
                      <a:pt x="1290" y="2482"/>
                    </a:lnTo>
                    <a:lnTo>
                      <a:pt x="1251" y="2482"/>
                    </a:lnTo>
                    <a:lnTo>
                      <a:pt x="1211" y="2482"/>
                    </a:lnTo>
                    <a:lnTo>
                      <a:pt x="1172" y="2482"/>
                    </a:lnTo>
                    <a:lnTo>
                      <a:pt x="1133" y="2483"/>
                    </a:lnTo>
                    <a:lnTo>
                      <a:pt x="1094" y="2483"/>
                    </a:lnTo>
                    <a:lnTo>
                      <a:pt x="1055" y="2483"/>
                    </a:lnTo>
                    <a:lnTo>
                      <a:pt x="1015" y="2483"/>
                    </a:lnTo>
                    <a:lnTo>
                      <a:pt x="976" y="2484"/>
                    </a:lnTo>
                    <a:lnTo>
                      <a:pt x="937" y="2484"/>
                    </a:lnTo>
                    <a:lnTo>
                      <a:pt x="898" y="2484"/>
                    </a:lnTo>
                    <a:lnTo>
                      <a:pt x="859" y="2484"/>
                    </a:lnTo>
                    <a:lnTo>
                      <a:pt x="819" y="2484"/>
                    </a:lnTo>
                    <a:lnTo>
                      <a:pt x="780" y="2486"/>
                    </a:lnTo>
                    <a:lnTo>
                      <a:pt x="741" y="2486"/>
                    </a:lnTo>
                    <a:lnTo>
                      <a:pt x="702" y="2486"/>
                    </a:lnTo>
                    <a:lnTo>
                      <a:pt x="663" y="2486"/>
                    </a:lnTo>
                    <a:lnTo>
                      <a:pt x="623" y="2487"/>
                    </a:lnTo>
                    <a:lnTo>
                      <a:pt x="584" y="2487"/>
                    </a:lnTo>
                    <a:lnTo>
                      <a:pt x="545" y="2487"/>
                    </a:lnTo>
                    <a:lnTo>
                      <a:pt x="506" y="2487"/>
                    </a:lnTo>
                    <a:lnTo>
                      <a:pt x="467" y="2488"/>
                    </a:lnTo>
                    <a:lnTo>
                      <a:pt x="427" y="2488"/>
                    </a:lnTo>
                    <a:lnTo>
                      <a:pt x="388" y="2488"/>
                    </a:lnTo>
                    <a:lnTo>
                      <a:pt x="349" y="2488"/>
                    </a:lnTo>
                    <a:lnTo>
                      <a:pt x="310" y="2490"/>
                    </a:lnTo>
                    <a:lnTo>
                      <a:pt x="271" y="2490"/>
                    </a:lnTo>
                    <a:lnTo>
                      <a:pt x="254" y="2483"/>
                    </a:lnTo>
                    <a:lnTo>
                      <a:pt x="239" y="2476"/>
                    </a:lnTo>
                    <a:lnTo>
                      <a:pt x="223" y="2469"/>
                    </a:lnTo>
                    <a:lnTo>
                      <a:pt x="208" y="2463"/>
                    </a:lnTo>
                    <a:lnTo>
                      <a:pt x="192" y="2456"/>
                    </a:lnTo>
                    <a:lnTo>
                      <a:pt x="176" y="2449"/>
                    </a:lnTo>
                    <a:lnTo>
                      <a:pt x="161" y="2442"/>
                    </a:lnTo>
                    <a:lnTo>
                      <a:pt x="145" y="2436"/>
                    </a:lnTo>
                    <a:lnTo>
                      <a:pt x="129" y="2429"/>
                    </a:lnTo>
                    <a:lnTo>
                      <a:pt x="114" y="2422"/>
                    </a:lnTo>
                    <a:lnTo>
                      <a:pt x="97" y="2415"/>
                    </a:lnTo>
                    <a:lnTo>
                      <a:pt x="83" y="2409"/>
                    </a:lnTo>
                    <a:lnTo>
                      <a:pt x="66" y="2402"/>
                    </a:lnTo>
                    <a:lnTo>
                      <a:pt x="50" y="2395"/>
                    </a:lnTo>
                    <a:lnTo>
                      <a:pt x="35" y="2388"/>
                    </a:lnTo>
                    <a:lnTo>
                      <a:pt x="19" y="2382"/>
                    </a:lnTo>
                    <a:lnTo>
                      <a:pt x="16" y="2349"/>
                    </a:lnTo>
                    <a:lnTo>
                      <a:pt x="14" y="2315"/>
                    </a:lnTo>
                    <a:lnTo>
                      <a:pt x="11" y="2283"/>
                    </a:lnTo>
                    <a:lnTo>
                      <a:pt x="8" y="2250"/>
                    </a:lnTo>
                    <a:lnTo>
                      <a:pt x="14" y="2238"/>
                    </a:lnTo>
                    <a:lnTo>
                      <a:pt x="19" y="2227"/>
                    </a:lnTo>
                    <a:lnTo>
                      <a:pt x="23" y="2217"/>
                    </a:lnTo>
                    <a:lnTo>
                      <a:pt x="29" y="2206"/>
                    </a:lnTo>
                    <a:lnTo>
                      <a:pt x="22" y="2187"/>
                    </a:lnTo>
                    <a:lnTo>
                      <a:pt x="15" y="2168"/>
                    </a:lnTo>
                    <a:lnTo>
                      <a:pt x="7" y="2150"/>
                    </a:lnTo>
                    <a:lnTo>
                      <a:pt x="0" y="2131"/>
                    </a:lnTo>
                    <a:lnTo>
                      <a:pt x="3" y="1692"/>
                    </a:lnTo>
                    <a:lnTo>
                      <a:pt x="7" y="1252"/>
                    </a:lnTo>
                    <a:lnTo>
                      <a:pt x="11" y="812"/>
                    </a:lnTo>
                    <a:lnTo>
                      <a:pt x="14" y="373"/>
                    </a:lnTo>
                    <a:lnTo>
                      <a:pt x="14" y="366"/>
                    </a:lnTo>
                    <a:lnTo>
                      <a:pt x="14" y="358"/>
                    </a:lnTo>
                    <a:lnTo>
                      <a:pt x="14" y="352"/>
                    </a:lnTo>
                    <a:lnTo>
                      <a:pt x="14" y="345"/>
                    </a:lnTo>
                    <a:close/>
                  </a:path>
                </a:pathLst>
              </a:custGeom>
              <a:solidFill>
                <a:srgbClr val="a3a3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23"/>
              <p:cNvSpPr/>
              <p:nvPr/>
            </p:nvSpPr>
            <p:spPr>
              <a:xfrm>
                <a:off x="727560" y="815040"/>
                <a:ext cx="1394280" cy="1830600"/>
              </a:xfrm>
              <a:custGeom>
                <a:avLst/>
                <a:gdLst>
                  <a:gd name="textAreaLeft" fmla="*/ 0 w 1394280"/>
                  <a:gd name="textAreaRight" fmla="*/ 1394640 w 1394280"/>
                  <a:gd name="textAreaTop" fmla="*/ 0 h 1830600"/>
                  <a:gd name="textAreaBottom" fmla="*/ 1830960 h 1830600"/>
                </a:gdLst>
                <a:ahLst/>
                <a:rect l="textAreaLeft" t="textAreaTop" r="textAreaRight" b="textAreaBottom"/>
                <a:pathLst>
                  <a:path w="1928" h="2473">
                    <a:moveTo>
                      <a:pt x="13" y="339"/>
                    </a:moveTo>
                    <a:lnTo>
                      <a:pt x="32" y="327"/>
                    </a:lnTo>
                    <a:lnTo>
                      <a:pt x="51" y="313"/>
                    </a:lnTo>
                    <a:lnTo>
                      <a:pt x="72" y="301"/>
                    </a:lnTo>
                    <a:lnTo>
                      <a:pt x="90" y="287"/>
                    </a:lnTo>
                    <a:lnTo>
                      <a:pt x="109" y="275"/>
                    </a:lnTo>
                    <a:lnTo>
                      <a:pt x="128" y="263"/>
                    </a:lnTo>
                    <a:lnTo>
                      <a:pt x="147" y="250"/>
                    </a:lnTo>
                    <a:lnTo>
                      <a:pt x="166" y="237"/>
                    </a:lnTo>
                    <a:lnTo>
                      <a:pt x="165" y="229"/>
                    </a:lnTo>
                    <a:lnTo>
                      <a:pt x="165" y="220"/>
                    </a:lnTo>
                    <a:lnTo>
                      <a:pt x="163" y="212"/>
                    </a:lnTo>
                    <a:lnTo>
                      <a:pt x="162" y="202"/>
                    </a:lnTo>
                    <a:lnTo>
                      <a:pt x="182" y="193"/>
                    </a:lnTo>
                    <a:lnTo>
                      <a:pt x="201" y="183"/>
                    </a:lnTo>
                    <a:lnTo>
                      <a:pt x="222" y="175"/>
                    </a:lnTo>
                    <a:lnTo>
                      <a:pt x="242" y="166"/>
                    </a:lnTo>
                    <a:lnTo>
                      <a:pt x="261" y="156"/>
                    </a:lnTo>
                    <a:lnTo>
                      <a:pt x="281" y="147"/>
                    </a:lnTo>
                    <a:lnTo>
                      <a:pt x="300" y="139"/>
                    </a:lnTo>
                    <a:lnTo>
                      <a:pt x="320" y="129"/>
                    </a:lnTo>
                    <a:lnTo>
                      <a:pt x="328" y="131"/>
                    </a:lnTo>
                    <a:lnTo>
                      <a:pt x="338" y="132"/>
                    </a:lnTo>
                    <a:lnTo>
                      <a:pt x="346" y="133"/>
                    </a:lnTo>
                    <a:lnTo>
                      <a:pt x="355" y="135"/>
                    </a:lnTo>
                    <a:lnTo>
                      <a:pt x="364" y="136"/>
                    </a:lnTo>
                    <a:lnTo>
                      <a:pt x="373" y="137"/>
                    </a:lnTo>
                    <a:lnTo>
                      <a:pt x="381" y="139"/>
                    </a:lnTo>
                    <a:lnTo>
                      <a:pt x="391" y="140"/>
                    </a:lnTo>
                    <a:lnTo>
                      <a:pt x="395" y="151"/>
                    </a:lnTo>
                    <a:lnTo>
                      <a:pt x="399" y="162"/>
                    </a:lnTo>
                    <a:lnTo>
                      <a:pt x="403" y="173"/>
                    </a:lnTo>
                    <a:lnTo>
                      <a:pt x="408" y="183"/>
                    </a:lnTo>
                    <a:lnTo>
                      <a:pt x="415" y="183"/>
                    </a:lnTo>
                    <a:lnTo>
                      <a:pt x="422" y="183"/>
                    </a:lnTo>
                    <a:lnTo>
                      <a:pt x="428" y="183"/>
                    </a:lnTo>
                    <a:lnTo>
                      <a:pt x="435" y="182"/>
                    </a:lnTo>
                    <a:lnTo>
                      <a:pt x="441" y="182"/>
                    </a:lnTo>
                    <a:lnTo>
                      <a:pt x="447" y="182"/>
                    </a:lnTo>
                    <a:lnTo>
                      <a:pt x="454" y="182"/>
                    </a:lnTo>
                    <a:lnTo>
                      <a:pt x="461" y="182"/>
                    </a:lnTo>
                    <a:lnTo>
                      <a:pt x="505" y="182"/>
                    </a:lnTo>
                    <a:lnTo>
                      <a:pt x="550" y="183"/>
                    </a:lnTo>
                    <a:lnTo>
                      <a:pt x="596" y="183"/>
                    </a:lnTo>
                    <a:lnTo>
                      <a:pt x="641" y="183"/>
                    </a:lnTo>
                    <a:lnTo>
                      <a:pt x="685" y="185"/>
                    </a:lnTo>
                    <a:lnTo>
                      <a:pt x="730" y="185"/>
                    </a:lnTo>
                    <a:lnTo>
                      <a:pt x="774" y="186"/>
                    </a:lnTo>
                    <a:lnTo>
                      <a:pt x="820" y="186"/>
                    </a:lnTo>
                    <a:lnTo>
                      <a:pt x="865" y="186"/>
                    </a:lnTo>
                    <a:lnTo>
                      <a:pt x="910" y="187"/>
                    </a:lnTo>
                    <a:lnTo>
                      <a:pt x="954" y="187"/>
                    </a:lnTo>
                    <a:lnTo>
                      <a:pt x="999" y="187"/>
                    </a:lnTo>
                    <a:lnTo>
                      <a:pt x="1043" y="189"/>
                    </a:lnTo>
                    <a:lnTo>
                      <a:pt x="1089" y="189"/>
                    </a:lnTo>
                    <a:lnTo>
                      <a:pt x="1134" y="190"/>
                    </a:lnTo>
                    <a:lnTo>
                      <a:pt x="1179" y="190"/>
                    </a:lnTo>
                    <a:lnTo>
                      <a:pt x="1183" y="183"/>
                    </a:lnTo>
                    <a:lnTo>
                      <a:pt x="1187" y="178"/>
                    </a:lnTo>
                    <a:lnTo>
                      <a:pt x="1191" y="171"/>
                    </a:lnTo>
                    <a:lnTo>
                      <a:pt x="1195" y="166"/>
                    </a:lnTo>
                    <a:lnTo>
                      <a:pt x="1218" y="164"/>
                    </a:lnTo>
                    <a:lnTo>
                      <a:pt x="1241" y="163"/>
                    </a:lnTo>
                    <a:lnTo>
                      <a:pt x="1264" y="163"/>
                    </a:lnTo>
                    <a:lnTo>
                      <a:pt x="1287" y="162"/>
                    </a:lnTo>
                    <a:lnTo>
                      <a:pt x="1310" y="160"/>
                    </a:lnTo>
                    <a:lnTo>
                      <a:pt x="1333" y="159"/>
                    </a:lnTo>
                    <a:lnTo>
                      <a:pt x="1356" y="159"/>
                    </a:lnTo>
                    <a:lnTo>
                      <a:pt x="1379" y="158"/>
                    </a:lnTo>
                    <a:lnTo>
                      <a:pt x="1403" y="143"/>
                    </a:lnTo>
                    <a:lnTo>
                      <a:pt x="1429" y="127"/>
                    </a:lnTo>
                    <a:lnTo>
                      <a:pt x="1453" y="112"/>
                    </a:lnTo>
                    <a:lnTo>
                      <a:pt x="1479" y="96"/>
                    </a:lnTo>
                    <a:lnTo>
                      <a:pt x="1503" y="81"/>
                    </a:lnTo>
                    <a:lnTo>
                      <a:pt x="1527" y="64"/>
                    </a:lnTo>
                    <a:lnTo>
                      <a:pt x="1553" y="50"/>
                    </a:lnTo>
                    <a:lnTo>
                      <a:pt x="1577" y="33"/>
                    </a:lnTo>
                    <a:lnTo>
                      <a:pt x="1590" y="33"/>
                    </a:lnTo>
                    <a:lnTo>
                      <a:pt x="1602" y="33"/>
                    </a:lnTo>
                    <a:lnTo>
                      <a:pt x="1614" y="33"/>
                    </a:lnTo>
                    <a:lnTo>
                      <a:pt x="1626" y="33"/>
                    </a:lnTo>
                    <a:lnTo>
                      <a:pt x="1638" y="33"/>
                    </a:lnTo>
                    <a:lnTo>
                      <a:pt x="1650" y="35"/>
                    </a:lnTo>
                    <a:lnTo>
                      <a:pt x="1661" y="35"/>
                    </a:lnTo>
                    <a:lnTo>
                      <a:pt x="1673" y="36"/>
                    </a:lnTo>
                    <a:lnTo>
                      <a:pt x="1684" y="32"/>
                    </a:lnTo>
                    <a:lnTo>
                      <a:pt x="1695" y="27"/>
                    </a:lnTo>
                    <a:lnTo>
                      <a:pt x="1706" y="23"/>
                    </a:lnTo>
                    <a:lnTo>
                      <a:pt x="1717" y="17"/>
                    </a:lnTo>
                    <a:lnTo>
                      <a:pt x="1726" y="13"/>
                    </a:lnTo>
                    <a:lnTo>
                      <a:pt x="1737" y="9"/>
                    </a:lnTo>
                    <a:lnTo>
                      <a:pt x="1748" y="4"/>
                    </a:lnTo>
                    <a:lnTo>
                      <a:pt x="1759" y="0"/>
                    </a:lnTo>
                    <a:lnTo>
                      <a:pt x="1772" y="1"/>
                    </a:lnTo>
                    <a:lnTo>
                      <a:pt x="1784" y="2"/>
                    </a:lnTo>
                    <a:lnTo>
                      <a:pt x="1798" y="2"/>
                    </a:lnTo>
                    <a:lnTo>
                      <a:pt x="1811" y="4"/>
                    </a:lnTo>
                    <a:lnTo>
                      <a:pt x="1825" y="5"/>
                    </a:lnTo>
                    <a:lnTo>
                      <a:pt x="1840" y="6"/>
                    </a:lnTo>
                    <a:lnTo>
                      <a:pt x="1853" y="8"/>
                    </a:lnTo>
                    <a:lnTo>
                      <a:pt x="1867" y="9"/>
                    </a:lnTo>
                    <a:lnTo>
                      <a:pt x="1868" y="164"/>
                    </a:lnTo>
                    <a:lnTo>
                      <a:pt x="1869" y="320"/>
                    </a:lnTo>
                    <a:lnTo>
                      <a:pt x="1871" y="475"/>
                    </a:lnTo>
                    <a:lnTo>
                      <a:pt x="1872" y="631"/>
                    </a:lnTo>
                    <a:lnTo>
                      <a:pt x="1882" y="652"/>
                    </a:lnTo>
                    <a:lnTo>
                      <a:pt x="1892" y="673"/>
                    </a:lnTo>
                    <a:lnTo>
                      <a:pt x="1902" y="694"/>
                    </a:lnTo>
                    <a:lnTo>
                      <a:pt x="1911" y="716"/>
                    </a:lnTo>
                    <a:lnTo>
                      <a:pt x="1915" y="752"/>
                    </a:lnTo>
                    <a:lnTo>
                      <a:pt x="1919" y="788"/>
                    </a:lnTo>
                    <a:lnTo>
                      <a:pt x="1924" y="824"/>
                    </a:lnTo>
                    <a:lnTo>
                      <a:pt x="1928" y="861"/>
                    </a:lnTo>
                    <a:lnTo>
                      <a:pt x="1928" y="913"/>
                    </a:lnTo>
                    <a:lnTo>
                      <a:pt x="1926" y="967"/>
                    </a:lnTo>
                    <a:lnTo>
                      <a:pt x="1926" y="1021"/>
                    </a:lnTo>
                    <a:lnTo>
                      <a:pt x="1925" y="1075"/>
                    </a:lnTo>
                    <a:lnTo>
                      <a:pt x="1911" y="1154"/>
                    </a:lnTo>
                    <a:lnTo>
                      <a:pt x="1896" y="1231"/>
                    </a:lnTo>
                    <a:lnTo>
                      <a:pt x="1883" y="1309"/>
                    </a:lnTo>
                    <a:lnTo>
                      <a:pt x="1869" y="1388"/>
                    </a:lnTo>
                    <a:lnTo>
                      <a:pt x="1856" y="1465"/>
                    </a:lnTo>
                    <a:lnTo>
                      <a:pt x="1842" y="1543"/>
                    </a:lnTo>
                    <a:lnTo>
                      <a:pt x="1829" y="1621"/>
                    </a:lnTo>
                    <a:lnTo>
                      <a:pt x="1815" y="1698"/>
                    </a:lnTo>
                    <a:lnTo>
                      <a:pt x="1801" y="1777"/>
                    </a:lnTo>
                    <a:lnTo>
                      <a:pt x="1787" y="1855"/>
                    </a:lnTo>
                    <a:lnTo>
                      <a:pt x="1773" y="1932"/>
                    </a:lnTo>
                    <a:lnTo>
                      <a:pt x="1760" y="2011"/>
                    </a:lnTo>
                    <a:lnTo>
                      <a:pt x="1746" y="2088"/>
                    </a:lnTo>
                    <a:lnTo>
                      <a:pt x="1733" y="2166"/>
                    </a:lnTo>
                    <a:lnTo>
                      <a:pt x="1718" y="2243"/>
                    </a:lnTo>
                    <a:lnTo>
                      <a:pt x="1705" y="2322"/>
                    </a:lnTo>
                    <a:lnTo>
                      <a:pt x="1680" y="2315"/>
                    </a:lnTo>
                    <a:lnTo>
                      <a:pt x="1656" y="2309"/>
                    </a:lnTo>
                    <a:lnTo>
                      <a:pt x="1632" y="2303"/>
                    </a:lnTo>
                    <a:lnTo>
                      <a:pt x="1607" y="2297"/>
                    </a:lnTo>
                    <a:lnTo>
                      <a:pt x="1583" y="2290"/>
                    </a:lnTo>
                    <a:lnTo>
                      <a:pt x="1559" y="2285"/>
                    </a:lnTo>
                    <a:lnTo>
                      <a:pt x="1536" y="2278"/>
                    </a:lnTo>
                    <a:lnTo>
                      <a:pt x="1511" y="2273"/>
                    </a:lnTo>
                    <a:lnTo>
                      <a:pt x="1506" y="2278"/>
                    </a:lnTo>
                    <a:lnTo>
                      <a:pt x="1500" y="2285"/>
                    </a:lnTo>
                    <a:lnTo>
                      <a:pt x="1495" y="2290"/>
                    </a:lnTo>
                    <a:lnTo>
                      <a:pt x="1490" y="2297"/>
                    </a:lnTo>
                    <a:lnTo>
                      <a:pt x="1495" y="2307"/>
                    </a:lnTo>
                    <a:lnTo>
                      <a:pt x="1502" y="2315"/>
                    </a:lnTo>
                    <a:lnTo>
                      <a:pt x="1507" y="2324"/>
                    </a:lnTo>
                    <a:lnTo>
                      <a:pt x="1513" y="2334"/>
                    </a:lnTo>
                    <a:lnTo>
                      <a:pt x="1513" y="2365"/>
                    </a:lnTo>
                    <a:lnTo>
                      <a:pt x="1513" y="2397"/>
                    </a:lnTo>
                    <a:lnTo>
                      <a:pt x="1511" y="2430"/>
                    </a:lnTo>
                    <a:lnTo>
                      <a:pt x="1511" y="2462"/>
                    </a:lnTo>
                    <a:lnTo>
                      <a:pt x="1472" y="2462"/>
                    </a:lnTo>
                    <a:lnTo>
                      <a:pt x="1434" y="2463"/>
                    </a:lnTo>
                    <a:lnTo>
                      <a:pt x="1395" y="2463"/>
                    </a:lnTo>
                    <a:lnTo>
                      <a:pt x="1356" y="2463"/>
                    </a:lnTo>
                    <a:lnTo>
                      <a:pt x="1318" y="2463"/>
                    </a:lnTo>
                    <a:lnTo>
                      <a:pt x="1279" y="2465"/>
                    </a:lnTo>
                    <a:lnTo>
                      <a:pt x="1240" y="2465"/>
                    </a:lnTo>
                    <a:lnTo>
                      <a:pt x="1202" y="2465"/>
                    </a:lnTo>
                    <a:lnTo>
                      <a:pt x="1162" y="2465"/>
                    </a:lnTo>
                    <a:lnTo>
                      <a:pt x="1123" y="2466"/>
                    </a:lnTo>
                    <a:lnTo>
                      <a:pt x="1084" y="2466"/>
                    </a:lnTo>
                    <a:lnTo>
                      <a:pt x="1046" y="2466"/>
                    </a:lnTo>
                    <a:lnTo>
                      <a:pt x="1007" y="2466"/>
                    </a:lnTo>
                    <a:lnTo>
                      <a:pt x="968" y="2467"/>
                    </a:lnTo>
                    <a:lnTo>
                      <a:pt x="930" y="2467"/>
                    </a:lnTo>
                    <a:lnTo>
                      <a:pt x="891" y="2467"/>
                    </a:lnTo>
                    <a:lnTo>
                      <a:pt x="852" y="2467"/>
                    </a:lnTo>
                    <a:lnTo>
                      <a:pt x="814" y="2467"/>
                    </a:lnTo>
                    <a:lnTo>
                      <a:pt x="774" y="2469"/>
                    </a:lnTo>
                    <a:lnTo>
                      <a:pt x="735" y="2469"/>
                    </a:lnTo>
                    <a:lnTo>
                      <a:pt x="697" y="2469"/>
                    </a:lnTo>
                    <a:lnTo>
                      <a:pt x="658" y="2469"/>
                    </a:lnTo>
                    <a:lnTo>
                      <a:pt x="619" y="2470"/>
                    </a:lnTo>
                    <a:lnTo>
                      <a:pt x="581" y="2470"/>
                    </a:lnTo>
                    <a:lnTo>
                      <a:pt x="542" y="2470"/>
                    </a:lnTo>
                    <a:lnTo>
                      <a:pt x="503" y="2470"/>
                    </a:lnTo>
                    <a:lnTo>
                      <a:pt x="464" y="2472"/>
                    </a:lnTo>
                    <a:lnTo>
                      <a:pt x="426" y="2472"/>
                    </a:lnTo>
                    <a:lnTo>
                      <a:pt x="387" y="2472"/>
                    </a:lnTo>
                    <a:lnTo>
                      <a:pt x="347" y="2472"/>
                    </a:lnTo>
                    <a:lnTo>
                      <a:pt x="309" y="2473"/>
                    </a:lnTo>
                    <a:lnTo>
                      <a:pt x="270" y="2473"/>
                    </a:lnTo>
                    <a:lnTo>
                      <a:pt x="254" y="2466"/>
                    </a:lnTo>
                    <a:lnTo>
                      <a:pt x="239" y="2459"/>
                    </a:lnTo>
                    <a:lnTo>
                      <a:pt x="223" y="2453"/>
                    </a:lnTo>
                    <a:lnTo>
                      <a:pt x="207" y="2446"/>
                    </a:lnTo>
                    <a:lnTo>
                      <a:pt x="192" y="2439"/>
                    </a:lnTo>
                    <a:lnTo>
                      <a:pt x="176" y="2432"/>
                    </a:lnTo>
                    <a:lnTo>
                      <a:pt x="161" y="2426"/>
                    </a:lnTo>
                    <a:lnTo>
                      <a:pt x="145" y="2419"/>
                    </a:lnTo>
                    <a:lnTo>
                      <a:pt x="128" y="2412"/>
                    </a:lnTo>
                    <a:lnTo>
                      <a:pt x="113" y="2405"/>
                    </a:lnTo>
                    <a:lnTo>
                      <a:pt x="97" y="2399"/>
                    </a:lnTo>
                    <a:lnTo>
                      <a:pt x="81" y="2392"/>
                    </a:lnTo>
                    <a:lnTo>
                      <a:pt x="65" y="2385"/>
                    </a:lnTo>
                    <a:lnTo>
                      <a:pt x="50" y="2378"/>
                    </a:lnTo>
                    <a:lnTo>
                      <a:pt x="34" y="2372"/>
                    </a:lnTo>
                    <a:lnTo>
                      <a:pt x="17" y="2365"/>
                    </a:lnTo>
                    <a:lnTo>
                      <a:pt x="15" y="2332"/>
                    </a:lnTo>
                    <a:lnTo>
                      <a:pt x="13" y="2300"/>
                    </a:lnTo>
                    <a:lnTo>
                      <a:pt x="11" y="2269"/>
                    </a:lnTo>
                    <a:lnTo>
                      <a:pt x="8" y="2238"/>
                    </a:lnTo>
                    <a:lnTo>
                      <a:pt x="13" y="2227"/>
                    </a:lnTo>
                    <a:lnTo>
                      <a:pt x="17" y="2216"/>
                    </a:lnTo>
                    <a:lnTo>
                      <a:pt x="22" y="2207"/>
                    </a:lnTo>
                    <a:lnTo>
                      <a:pt x="27" y="2196"/>
                    </a:lnTo>
                    <a:lnTo>
                      <a:pt x="20" y="2178"/>
                    </a:lnTo>
                    <a:lnTo>
                      <a:pt x="13" y="2161"/>
                    </a:lnTo>
                    <a:lnTo>
                      <a:pt x="7" y="2143"/>
                    </a:lnTo>
                    <a:lnTo>
                      <a:pt x="0" y="2126"/>
                    </a:lnTo>
                    <a:lnTo>
                      <a:pt x="3" y="1686"/>
                    </a:lnTo>
                    <a:lnTo>
                      <a:pt x="7" y="1247"/>
                    </a:lnTo>
                    <a:lnTo>
                      <a:pt x="9" y="806"/>
                    </a:lnTo>
                    <a:lnTo>
                      <a:pt x="12" y="367"/>
                    </a:lnTo>
                    <a:lnTo>
                      <a:pt x="13" y="360"/>
                    </a:lnTo>
                    <a:lnTo>
                      <a:pt x="13" y="352"/>
                    </a:lnTo>
                    <a:lnTo>
                      <a:pt x="13" y="346"/>
                    </a:lnTo>
                    <a:lnTo>
                      <a:pt x="13" y="339"/>
                    </a:lnTo>
                    <a:close/>
                  </a:path>
                </a:pathLst>
              </a:custGeom>
              <a:solidFill>
                <a:srgbClr val="afa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24"/>
              <p:cNvSpPr/>
              <p:nvPr/>
            </p:nvSpPr>
            <p:spPr>
              <a:xfrm>
                <a:off x="734760" y="822600"/>
                <a:ext cx="1382760" cy="1819080"/>
              </a:xfrm>
              <a:custGeom>
                <a:avLst/>
                <a:gdLst>
                  <a:gd name="textAreaLeft" fmla="*/ 0 w 1382760"/>
                  <a:gd name="textAreaRight" fmla="*/ 1382760 w 1382760"/>
                  <a:gd name="textAreaTop" fmla="*/ 0 h 1819080"/>
                  <a:gd name="textAreaBottom" fmla="*/ 1819440 h 1819080"/>
                </a:gdLst>
                <a:ahLst/>
                <a:rect l="textAreaLeft" t="textAreaTop" r="textAreaRight" b="textAreaBottom"/>
                <a:pathLst>
                  <a:path w="1913" h="2457">
                    <a:moveTo>
                      <a:pt x="11" y="334"/>
                    </a:moveTo>
                    <a:lnTo>
                      <a:pt x="30" y="322"/>
                    </a:lnTo>
                    <a:lnTo>
                      <a:pt x="50" y="308"/>
                    </a:lnTo>
                    <a:lnTo>
                      <a:pt x="69" y="296"/>
                    </a:lnTo>
                    <a:lnTo>
                      <a:pt x="88" y="283"/>
                    </a:lnTo>
                    <a:lnTo>
                      <a:pt x="107" y="270"/>
                    </a:lnTo>
                    <a:lnTo>
                      <a:pt x="127" y="258"/>
                    </a:lnTo>
                    <a:lnTo>
                      <a:pt x="146" y="245"/>
                    </a:lnTo>
                    <a:lnTo>
                      <a:pt x="165" y="233"/>
                    </a:lnTo>
                    <a:lnTo>
                      <a:pt x="164" y="224"/>
                    </a:lnTo>
                    <a:lnTo>
                      <a:pt x="164" y="216"/>
                    </a:lnTo>
                    <a:lnTo>
                      <a:pt x="162" y="208"/>
                    </a:lnTo>
                    <a:lnTo>
                      <a:pt x="161" y="199"/>
                    </a:lnTo>
                    <a:lnTo>
                      <a:pt x="180" y="189"/>
                    </a:lnTo>
                    <a:lnTo>
                      <a:pt x="197" y="180"/>
                    </a:lnTo>
                    <a:lnTo>
                      <a:pt x="216" y="172"/>
                    </a:lnTo>
                    <a:lnTo>
                      <a:pt x="235" y="162"/>
                    </a:lnTo>
                    <a:lnTo>
                      <a:pt x="253" y="153"/>
                    </a:lnTo>
                    <a:lnTo>
                      <a:pt x="272" y="143"/>
                    </a:lnTo>
                    <a:lnTo>
                      <a:pt x="289" y="135"/>
                    </a:lnTo>
                    <a:lnTo>
                      <a:pt x="308" y="126"/>
                    </a:lnTo>
                    <a:lnTo>
                      <a:pt x="318" y="127"/>
                    </a:lnTo>
                    <a:lnTo>
                      <a:pt x="326" y="128"/>
                    </a:lnTo>
                    <a:lnTo>
                      <a:pt x="335" y="130"/>
                    </a:lnTo>
                    <a:lnTo>
                      <a:pt x="343" y="131"/>
                    </a:lnTo>
                    <a:lnTo>
                      <a:pt x="353" y="134"/>
                    </a:lnTo>
                    <a:lnTo>
                      <a:pt x="361" y="135"/>
                    </a:lnTo>
                    <a:lnTo>
                      <a:pt x="370" y="137"/>
                    </a:lnTo>
                    <a:lnTo>
                      <a:pt x="379" y="138"/>
                    </a:lnTo>
                    <a:lnTo>
                      <a:pt x="383" y="147"/>
                    </a:lnTo>
                    <a:lnTo>
                      <a:pt x="388" y="158"/>
                    </a:lnTo>
                    <a:lnTo>
                      <a:pt x="392" y="168"/>
                    </a:lnTo>
                    <a:lnTo>
                      <a:pt x="396" y="178"/>
                    </a:lnTo>
                    <a:lnTo>
                      <a:pt x="403" y="178"/>
                    </a:lnTo>
                    <a:lnTo>
                      <a:pt x="410" y="178"/>
                    </a:lnTo>
                    <a:lnTo>
                      <a:pt x="416" y="178"/>
                    </a:lnTo>
                    <a:lnTo>
                      <a:pt x="423" y="178"/>
                    </a:lnTo>
                    <a:lnTo>
                      <a:pt x="430" y="178"/>
                    </a:lnTo>
                    <a:lnTo>
                      <a:pt x="437" y="178"/>
                    </a:lnTo>
                    <a:lnTo>
                      <a:pt x="443" y="177"/>
                    </a:lnTo>
                    <a:lnTo>
                      <a:pt x="450" y="177"/>
                    </a:lnTo>
                    <a:lnTo>
                      <a:pt x="496" y="178"/>
                    </a:lnTo>
                    <a:lnTo>
                      <a:pt x="541" y="178"/>
                    </a:lnTo>
                    <a:lnTo>
                      <a:pt x="587" y="180"/>
                    </a:lnTo>
                    <a:lnTo>
                      <a:pt x="631" y="180"/>
                    </a:lnTo>
                    <a:lnTo>
                      <a:pt x="677" y="181"/>
                    </a:lnTo>
                    <a:lnTo>
                      <a:pt x="723" y="181"/>
                    </a:lnTo>
                    <a:lnTo>
                      <a:pt x="768" y="182"/>
                    </a:lnTo>
                    <a:lnTo>
                      <a:pt x="814" y="182"/>
                    </a:lnTo>
                    <a:lnTo>
                      <a:pt x="860" y="182"/>
                    </a:lnTo>
                    <a:lnTo>
                      <a:pt x="904" y="184"/>
                    </a:lnTo>
                    <a:lnTo>
                      <a:pt x="950" y="184"/>
                    </a:lnTo>
                    <a:lnTo>
                      <a:pt x="996" y="185"/>
                    </a:lnTo>
                    <a:lnTo>
                      <a:pt x="1041" y="185"/>
                    </a:lnTo>
                    <a:lnTo>
                      <a:pt x="1087" y="187"/>
                    </a:lnTo>
                    <a:lnTo>
                      <a:pt x="1131" y="187"/>
                    </a:lnTo>
                    <a:lnTo>
                      <a:pt x="1177" y="188"/>
                    </a:lnTo>
                    <a:lnTo>
                      <a:pt x="1181" y="181"/>
                    </a:lnTo>
                    <a:lnTo>
                      <a:pt x="1187" y="176"/>
                    </a:lnTo>
                    <a:lnTo>
                      <a:pt x="1191" y="169"/>
                    </a:lnTo>
                    <a:lnTo>
                      <a:pt x="1195" y="164"/>
                    </a:lnTo>
                    <a:lnTo>
                      <a:pt x="1217" y="164"/>
                    </a:lnTo>
                    <a:lnTo>
                      <a:pt x="1238" y="162"/>
                    </a:lnTo>
                    <a:lnTo>
                      <a:pt x="1260" y="162"/>
                    </a:lnTo>
                    <a:lnTo>
                      <a:pt x="1283" y="161"/>
                    </a:lnTo>
                    <a:lnTo>
                      <a:pt x="1305" y="160"/>
                    </a:lnTo>
                    <a:lnTo>
                      <a:pt x="1326" y="160"/>
                    </a:lnTo>
                    <a:lnTo>
                      <a:pt x="1349" y="158"/>
                    </a:lnTo>
                    <a:lnTo>
                      <a:pt x="1371" y="158"/>
                    </a:lnTo>
                    <a:lnTo>
                      <a:pt x="1396" y="142"/>
                    </a:lnTo>
                    <a:lnTo>
                      <a:pt x="1421" y="127"/>
                    </a:lnTo>
                    <a:lnTo>
                      <a:pt x="1446" y="111"/>
                    </a:lnTo>
                    <a:lnTo>
                      <a:pt x="1472" y="95"/>
                    </a:lnTo>
                    <a:lnTo>
                      <a:pt x="1496" y="80"/>
                    </a:lnTo>
                    <a:lnTo>
                      <a:pt x="1522" y="64"/>
                    </a:lnTo>
                    <a:lnTo>
                      <a:pt x="1546" y="49"/>
                    </a:lnTo>
                    <a:lnTo>
                      <a:pt x="1572" y="32"/>
                    </a:lnTo>
                    <a:lnTo>
                      <a:pt x="1584" y="32"/>
                    </a:lnTo>
                    <a:lnTo>
                      <a:pt x="1595" y="34"/>
                    </a:lnTo>
                    <a:lnTo>
                      <a:pt x="1607" y="34"/>
                    </a:lnTo>
                    <a:lnTo>
                      <a:pt x="1619" y="34"/>
                    </a:lnTo>
                    <a:lnTo>
                      <a:pt x="1630" y="34"/>
                    </a:lnTo>
                    <a:lnTo>
                      <a:pt x="1642" y="34"/>
                    </a:lnTo>
                    <a:lnTo>
                      <a:pt x="1653" y="34"/>
                    </a:lnTo>
                    <a:lnTo>
                      <a:pt x="1665" y="34"/>
                    </a:lnTo>
                    <a:lnTo>
                      <a:pt x="1676" y="30"/>
                    </a:lnTo>
                    <a:lnTo>
                      <a:pt x="1687" y="26"/>
                    </a:lnTo>
                    <a:lnTo>
                      <a:pt x="1697" y="22"/>
                    </a:lnTo>
                    <a:lnTo>
                      <a:pt x="1707" y="18"/>
                    </a:lnTo>
                    <a:lnTo>
                      <a:pt x="1717" y="14"/>
                    </a:lnTo>
                    <a:lnTo>
                      <a:pt x="1728" y="9"/>
                    </a:lnTo>
                    <a:lnTo>
                      <a:pt x="1737" y="4"/>
                    </a:lnTo>
                    <a:lnTo>
                      <a:pt x="1748" y="0"/>
                    </a:lnTo>
                    <a:lnTo>
                      <a:pt x="1760" y="1"/>
                    </a:lnTo>
                    <a:lnTo>
                      <a:pt x="1774" y="1"/>
                    </a:lnTo>
                    <a:lnTo>
                      <a:pt x="1787" y="3"/>
                    </a:lnTo>
                    <a:lnTo>
                      <a:pt x="1801" y="4"/>
                    </a:lnTo>
                    <a:lnTo>
                      <a:pt x="1813" y="5"/>
                    </a:lnTo>
                    <a:lnTo>
                      <a:pt x="1826" y="5"/>
                    </a:lnTo>
                    <a:lnTo>
                      <a:pt x="1840" y="7"/>
                    </a:lnTo>
                    <a:lnTo>
                      <a:pt x="1853" y="7"/>
                    </a:lnTo>
                    <a:lnTo>
                      <a:pt x="1855" y="162"/>
                    </a:lnTo>
                    <a:lnTo>
                      <a:pt x="1856" y="318"/>
                    </a:lnTo>
                    <a:lnTo>
                      <a:pt x="1856" y="474"/>
                    </a:lnTo>
                    <a:lnTo>
                      <a:pt x="1857" y="630"/>
                    </a:lnTo>
                    <a:lnTo>
                      <a:pt x="1867" y="651"/>
                    </a:lnTo>
                    <a:lnTo>
                      <a:pt x="1878" y="672"/>
                    </a:lnTo>
                    <a:lnTo>
                      <a:pt x="1887" y="693"/>
                    </a:lnTo>
                    <a:lnTo>
                      <a:pt x="1897" y="715"/>
                    </a:lnTo>
                    <a:lnTo>
                      <a:pt x="1901" y="750"/>
                    </a:lnTo>
                    <a:lnTo>
                      <a:pt x="1905" y="787"/>
                    </a:lnTo>
                    <a:lnTo>
                      <a:pt x="1909" y="823"/>
                    </a:lnTo>
                    <a:lnTo>
                      <a:pt x="1913" y="860"/>
                    </a:lnTo>
                    <a:lnTo>
                      <a:pt x="1913" y="919"/>
                    </a:lnTo>
                    <a:lnTo>
                      <a:pt x="1913" y="980"/>
                    </a:lnTo>
                    <a:lnTo>
                      <a:pt x="1911" y="1041"/>
                    </a:lnTo>
                    <a:lnTo>
                      <a:pt x="1911" y="1100"/>
                    </a:lnTo>
                    <a:lnTo>
                      <a:pt x="1884" y="1250"/>
                    </a:lnTo>
                    <a:lnTo>
                      <a:pt x="1857" y="1402"/>
                    </a:lnTo>
                    <a:lnTo>
                      <a:pt x="1832" y="1552"/>
                    </a:lnTo>
                    <a:lnTo>
                      <a:pt x="1805" y="1703"/>
                    </a:lnTo>
                    <a:lnTo>
                      <a:pt x="1779" y="1854"/>
                    </a:lnTo>
                    <a:lnTo>
                      <a:pt x="1752" y="2004"/>
                    </a:lnTo>
                    <a:lnTo>
                      <a:pt x="1726" y="2156"/>
                    </a:lnTo>
                    <a:lnTo>
                      <a:pt x="1699" y="2306"/>
                    </a:lnTo>
                    <a:lnTo>
                      <a:pt x="1674" y="2299"/>
                    </a:lnTo>
                    <a:lnTo>
                      <a:pt x="1648" y="2294"/>
                    </a:lnTo>
                    <a:lnTo>
                      <a:pt x="1622" y="2287"/>
                    </a:lnTo>
                    <a:lnTo>
                      <a:pt x="1596" y="2281"/>
                    </a:lnTo>
                    <a:lnTo>
                      <a:pt x="1572" y="2275"/>
                    </a:lnTo>
                    <a:lnTo>
                      <a:pt x="1546" y="2269"/>
                    </a:lnTo>
                    <a:lnTo>
                      <a:pt x="1521" y="2263"/>
                    </a:lnTo>
                    <a:lnTo>
                      <a:pt x="1496" y="2257"/>
                    </a:lnTo>
                    <a:lnTo>
                      <a:pt x="1491" y="2263"/>
                    </a:lnTo>
                    <a:lnTo>
                      <a:pt x="1486" y="2269"/>
                    </a:lnTo>
                    <a:lnTo>
                      <a:pt x="1480" y="2275"/>
                    </a:lnTo>
                    <a:lnTo>
                      <a:pt x="1475" y="2281"/>
                    </a:lnTo>
                    <a:lnTo>
                      <a:pt x="1480" y="2290"/>
                    </a:lnTo>
                    <a:lnTo>
                      <a:pt x="1486" y="2299"/>
                    </a:lnTo>
                    <a:lnTo>
                      <a:pt x="1492" y="2307"/>
                    </a:lnTo>
                    <a:lnTo>
                      <a:pt x="1498" y="2317"/>
                    </a:lnTo>
                    <a:lnTo>
                      <a:pt x="1498" y="2349"/>
                    </a:lnTo>
                    <a:lnTo>
                      <a:pt x="1498" y="2381"/>
                    </a:lnTo>
                    <a:lnTo>
                      <a:pt x="1496" y="2414"/>
                    </a:lnTo>
                    <a:lnTo>
                      <a:pt x="1496" y="2448"/>
                    </a:lnTo>
                    <a:lnTo>
                      <a:pt x="1459" y="2448"/>
                    </a:lnTo>
                    <a:lnTo>
                      <a:pt x="1419" y="2448"/>
                    </a:lnTo>
                    <a:lnTo>
                      <a:pt x="1382" y="2449"/>
                    </a:lnTo>
                    <a:lnTo>
                      <a:pt x="1342" y="2449"/>
                    </a:lnTo>
                    <a:lnTo>
                      <a:pt x="1305" y="2449"/>
                    </a:lnTo>
                    <a:lnTo>
                      <a:pt x="1267" y="2449"/>
                    </a:lnTo>
                    <a:lnTo>
                      <a:pt x="1227" y="2449"/>
                    </a:lnTo>
                    <a:lnTo>
                      <a:pt x="1190" y="2450"/>
                    </a:lnTo>
                    <a:lnTo>
                      <a:pt x="1152" y="2450"/>
                    </a:lnTo>
                    <a:lnTo>
                      <a:pt x="1113" y="2450"/>
                    </a:lnTo>
                    <a:lnTo>
                      <a:pt x="1075" y="2450"/>
                    </a:lnTo>
                    <a:lnTo>
                      <a:pt x="1035" y="2450"/>
                    </a:lnTo>
                    <a:lnTo>
                      <a:pt x="998" y="2452"/>
                    </a:lnTo>
                    <a:lnTo>
                      <a:pt x="960" y="2452"/>
                    </a:lnTo>
                    <a:lnTo>
                      <a:pt x="921" y="2452"/>
                    </a:lnTo>
                    <a:lnTo>
                      <a:pt x="883" y="2452"/>
                    </a:lnTo>
                    <a:lnTo>
                      <a:pt x="845" y="2452"/>
                    </a:lnTo>
                    <a:lnTo>
                      <a:pt x="806" y="2453"/>
                    </a:lnTo>
                    <a:lnTo>
                      <a:pt x="768" y="2453"/>
                    </a:lnTo>
                    <a:lnTo>
                      <a:pt x="730" y="2453"/>
                    </a:lnTo>
                    <a:lnTo>
                      <a:pt x="691" y="2453"/>
                    </a:lnTo>
                    <a:lnTo>
                      <a:pt x="653" y="2453"/>
                    </a:lnTo>
                    <a:lnTo>
                      <a:pt x="615" y="2454"/>
                    </a:lnTo>
                    <a:lnTo>
                      <a:pt x="577" y="2454"/>
                    </a:lnTo>
                    <a:lnTo>
                      <a:pt x="538" y="2454"/>
                    </a:lnTo>
                    <a:lnTo>
                      <a:pt x="500" y="2454"/>
                    </a:lnTo>
                    <a:lnTo>
                      <a:pt x="462" y="2456"/>
                    </a:lnTo>
                    <a:lnTo>
                      <a:pt x="423" y="2456"/>
                    </a:lnTo>
                    <a:lnTo>
                      <a:pt x="385" y="2456"/>
                    </a:lnTo>
                    <a:lnTo>
                      <a:pt x="347" y="2456"/>
                    </a:lnTo>
                    <a:lnTo>
                      <a:pt x="308" y="2457"/>
                    </a:lnTo>
                    <a:lnTo>
                      <a:pt x="270" y="2457"/>
                    </a:lnTo>
                    <a:lnTo>
                      <a:pt x="254" y="2450"/>
                    </a:lnTo>
                    <a:lnTo>
                      <a:pt x="238" y="2444"/>
                    </a:lnTo>
                    <a:lnTo>
                      <a:pt x="223" y="2437"/>
                    </a:lnTo>
                    <a:lnTo>
                      <a:pt x="207" y="2430"/>
                    </a:lnTo>
                    <a:lnTo>
                      <a:pt x="191" y="2423"/>
                    </a:lnTo>
                    <a:lnTo>
                      <a:pt x="174" y="2417"/>
                    </a:lnTo>
                    <a:lnTo>
                      <a:pt x="158" y="2410"/>
                    </a:lnTo>
                    <a:lnTo>
                      <a:pt x="143" y="2402"/>
                    </a:lnTo>
                    <a:lnTo>
                      <a:pt x="127" y="2395"/>
                    </a:lnTo>
                    <a:lnTo>
                      <a:pt x="111" y="2388"/>
                    </a:lnTo>
                    <a:lnTo>
                      <a:pt x="95" y="2381"/>
                    </a:lnTo>
                    <a:lnTo>
                      <a:pt x="80" y="2375"/>
                    </a:lnTo>
                    <a:lnTo>
                      <a:pt x="64" y="2368"/>
                    </a:lnTo>
                    <a:lnTo>
                      <a:pt x="47" y="2361"/>
                    </a:lnTo>
                    <a:lnTo>
                      <a:pt x="32" y="2354"/>
                    </a:lnTo>
                    <a:lnTo>
                      <a:pt x="16" y="2348"/>
                    </a:lnTo>
                    <a:lnTo>
                      <a:pt x="14" y="2317"/>
                    </a:lnTo>
                    <a:lnTo>
                      <a:pt x="11" y="2287"/>
                    </a:lnTo>
                    <a:lnTo>
                      <a:pt x="9" y="2256"/>
                    </a:lnTo>
                    <a:lnTo>
                      <a:pt x="7" y="2226"/>
                    </a:lnTo>
                    <a:lnTo>
                      <a:pt x="12" y="2217"/>
                    </a:lnTo>
                    <a:lnTo>
                      <a:pt x="16" y="2206"/>
                    </a:lnTo>
                    <a:lnTo>
                      <a:pt x="20" y="2196"/>
                    </a:lnTo>
                    <a:lnTo>
                      <a:pt x="26" y="2187"/>
                    </a:lnTo>
                    <a:lnTo>
                      <a:pt x="19" y="2171"/>
                    </a:lnTo>
                    <a:lnTo>
                      <a:pt x="14" y="2154"/>
                    </a:lnTo>
                    <a:lnTo>
                      <a:pt x="7" y="2138"/>
                    </a:lnTo>
                    <a:lnTo>
                      <a:pt x="0" y="2122"/>
                    </a:lnTo>
                    <a:lnTo>
                      <a:pt x="3" y="1681"/>
                    </a:lnTo>
                    <a:lnTo>
                      <a:pt x="5" y="1242"/>
                    </a:lnTo>
                    <a:lnTo>
                      <a:pt x="8" y="802"/>
                    </a:lnTo>
                    <a:lnTo>
                      <a:pt x="11" y="361"/>
                    </a:lnTo>
                    <a:lnTo>
                      <a:pt x="11" y="354"/>
                    </a:lnTo>
                    <a:lnTo>
                      <a:pt x="11" y="347"/>
                    </a:lnTo>
                    <a:lnTo>
                      <a:pt x="11" y="341"/>
                    </a:lnTo>
                    <a:lnTo>
                      <a:pt x="11" y="334"/>
                    </a:lnTo>
                    <a:close/>
                  </a:path>
                </a:pathLst>
              </a:custGeom>
              <a:solidFill>
                <a:srgbClr val="bcbc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25"/>
              <p:cNvSpPr/>
              <p:nvPr/>
            </p:nvSpPr>
            <p:spPr>
              <a:xfrm>
                <a:off x="739080" y="828720"/>
                <a:ext cx="1374120" cy="1808640"/>
              </a:xfrm>
              <a:custGeom>
                <a:avLst/>
                <a:gdLst>
                  <a:gd name="textAreaLeft" fmla="*/ 0 w 1374120"/>
                  <a:gd name="textAreaRight" fmla="*/ 1374480 w 1374120"/>
                  <a:gd name="textAreaTop" fmla="*/ 0 h 1808640"/>
                  <a:gd name="textAreaBottom" fmla="*/ 1809000 h 1808640"/>
                </a:gdLst>
                <a:ahLst/>
                <a:rect l="textAreaLeft" t="textAreaTop" r="textAreaRight" b="textAreaBottom"/>
                <a:pathLst>
                  <a:path w="1900" h="2441">
                    <a:moveTo>
                      <a:pt x="9" y="329"/>
                    </a:moveTo>
                    <a:lnTo>
                      <a:pt x="28" y="315"/>
                    </a:lnTo>
                    <a:lnTo>
                      <a:pt x="48" y="303"/>
                    </a:lnTo>
                    <a:lnTo>
                      <a:pt x="67" y="291"/>
                    </a:lnTo>
                    <a:lnTo>
                      <a:pt x="86" y="279"/>
                    </a:lnTo>
                    <a:lnTo>
                      <a:pt x="105" y="267"/>
                    </a:lnTo>
                    <a:lnTo>
                      <a:pt x="125" y="253"/>
                    </a:lnTo>
                    <a:lnTo>
                      <a:pt x="144" y="241"/>
                    </a:lnTo>
                    <a:lnTo>
                      <a:pt x="165" y="229"/>
                    </a:lnTo>
                    <a:lnTo>
                      <a:pt x="163" y="219"/>
                    </a:lnTo>
                    <a:lnTo>
                      <a:pt x="162" y="211"/>
                    </a:lnTo>
                    <a:lnTo>
                      <a:pt x="161" y="203"/>
                    </a:lnTo>
                    <a:lnTo>
                      <a:pt x="159" y="195"/>
                    </a:lnTo>
                    <a:lnTo>
                      <a:pt x="177" y="186"/>
                    </a:lnTo>
                    <a:lnTo>
                      <a:pt x="194" y="176"/>
                    </a:lnTo>
                    <a:lnTo>
                      <a:pt x="212" y="168"/>
                    </a:lnTo>
                    <a:lnTo>
                      <a:pt x="230" y="159"/>
                    </a:lnTo>
                    <a:lnTo>
                      <a:pt x="246" y="149"/>
                    </a:lnTo>
                    <a:lnTo>
                      <a:pt x="263" y="140"/>
                    </a:lnTo>
                    <a:lnTo>
                      <a:pt x="281" y="132"/>
                    </a:lnTo>
                    <a:lnTo>
                      <a:pt x="299" y="122"/>
                    </a:lnTo>
                    <a:lnTo>
                      <a:pt x="307" y="123"/>
                    </a:lnTo>
                    <a:lnTo>
                      <a:pt x="316" y="125"/>
                    </a:lnTo>
                    <a:lnTo>
                      <a:pt x="324" y="126"/>
                    </a:lnTo>
                    <a:lnTo>
                      <a:pt x="334" y="128"/>
                    </a:lnTo>
                    <a:lnTo>
                      <a:pt x="342" y="129"/>
                    </a:lnTo>
                    <a:lnTo>
                      <a:pt x="351" y="132"/>
                    </a:lnTo>
                    <a:lnTo>
                      <a:pt x="359" y="133"/>
                    </a:lnTo>
                    <a:lnTo>
                      <a:pt x="369" y="134"/>
                    </a:lnTo>
                    <a:lnTo>
                      <a:pt x="373" y="144"/>
                    </a:lnTo>
                    <a:lnTo>
                      <a:pt x="377" y="153"/>
                    </a:lnTo>
                    <a:lnTo>
                      <a:pt x="381" y="164"/>
                    </a:lnTo>
                    <a:lnTo>
                      <a:pt x="385" y="173"/>
                    </a:lnTo>
                    <a:lnTo>
                      <a:pt x="392" y="173"/>
                    </a:lnTo>
                    <a:lnTo>
                      <a:pt x="399" y="173"/>
                    </a:lnTo>
                    <a:lnTo>
                      <a:pt x="407" y="173"/>
                    </a:lnTo>
                    <a:lnTo>
                      <a:pt x="413" y="173"/>
                    </a:lnTo>
                    <a:lnTo>
                      <a:pt x="420" y="173"/>
                    </a:lnTo>
                    <a:lnTo>
                      <a:pt x="427" y="173"/>
                    </a:lnTo>
                    <a:lnTo>
                      <a:pt x="434" y="173"/>
                    </a:lnTo>
                    <a:lnTo>
                      <a:pt x="440" y="173"/>
                    </a:lnTo>
                    <a:lnTo>
                      <a:pt x="486" y="175"/>
                    </a:lnTo>
                    <a:lnTo>
                      <a:pt x="532" y="175"/>
                    </a:lnTo>
                    <a:lnTo>
                      <a:pt x="578" y="176"/>
                    </a:lnTo>
                    <a:lnTo>
                      <a:pt x="626" y="176"/>
                    </a:lnTo>
                    <a:lnTo>
                      <a:pt x="672" y="178"/>
                    </a:lnTo>
                    <a:lnTo>
                      <a:pt x="718" y="178"/>
                    </a:lnTo>
                    <a:lnTo>
                      <a:pt x="764" y="179"/>
                    </a:lnTo>
                    <a:lnTo>
                      <a:pt x="810" y="179"/>
                    </a:lnTo>
                    <a:lnTo>
                      <a:pt x="855" y="180"/>
                    </a:lnTo>
                    <a:lnTo>
                      <a:pt x="901" y="180"/>
                    </a:lnTo>
                    <a:lnTo>
                      <a:pt x="947" y="182"/>
                    </a:lnTo>
                    <a:lnTo>
                      <a:pt x="995" y="182"/>
                    </a:lnTo>
                    <a:lnTo>
                      <a:pt x="1039" y="183"/>
                    </a:lnTo>
                    <a:lnTo>
                      <a:pt x="1085" y="183"/>
                    </a:lnTo>
                    <a:lnTo>
                      <a:pt x="1131" y="184"/>
                    </a:lnTo>
                    <a:lnTo>
                      <a:pt x="1177" y="184"/>
                    </a:lnTo>
                    <a:lnTo>
                      <a:pt x="1183" y="179"/>
                    </a:lnTo>
                    <a:lnTo>
                      <a:pt x="1187" y="173"/>
                    </a:lnTo>
                    <a:lnTo>
                      <a:pt x="1191" y="168"/>
                    </a:lnTo>
                    <a:lnTo>
                      <a:pt x="1195" y="163"/>
                    </a:lnTo>
                    <a:lnTo>
                      <a:pt x="1216" y="163"/>
                    </a:lnTo>
                    <a:lnTo>
                      <a:pt x="1237" y="161"/>
                    </a:lnTo>
                    <a:lnTo>
                      <a:pt x="1258" y="161"/>
                    </a:lnTo>
                    <a:lnTo>
                      <a:pt x="1280" y="160"/>
                    </a:lnTo>
                    <a:lnTo>
                      <a:pt x="1300" y="159"/>
                    </a:lnTo>
                    <a:lnTo>
                      <a:pt x="1322" y="159"/>
                    </a:lnTo>
                    <a:lnTo>
                      <a:pt x="1342" y="157"/>
                    </a:lnTo>
                    <a:lnTo>
                      <a:pt x="1364" y="157"/>
                    </a:lnTo>
                    <a:lnTo>
                      <a:pt x="1389" y="141"/>
                    </a:lnTo>
                    <a:lnTo>
                      <a:pt x="1415" y="126"/>
                    </a:lnTo>
                    <a:lnTo>
                      <a:pt x="1441" y="110"/>
                    </a:lnTo>
                    <a:lnTo>
                      <a:pt x="1466" y="94"/>
                    </a:lnTo>
                    <a:lnTo>
                      <a:pt x="1492" y="79"/>
                    </a:lnTo>
                    <a:lnTo>
                      <a:pt x="1518" y="63"/>
                    </a:lnTo>
                    <a:lnTo>
                      <a:pt x="1544" y="48"/>
                    </a:lnTo>
                    <a:lnTo>
                      <a:pt x="1569" y="32"/>
                    </a:lnTo>
                    <a:lnTo>
                      <a:pt x="1580" y="32"/>
                    </a:lnTo>
                    <a:lnTo>
                      <a:pt x="1592" y="32"/>
                    </a:lnTo>
                    <a:lnTo>
                      <a:pt x="1603" y="32"/>
                    </a:lnTo>
                    <a:lnTo>
                      <a:pt x="1614" y="32"/>
                    </a:lnTo>
                    <a:lnTo>
                      <a:pt x="1625" y="33"/>
                    </a:lnTo>
                    <a:lnTo>
                      <a:pt x="1637" y="33"/>
                    </a:lnTo>
                    <a:lnTo>
                      <a:pt x="1648" y="33"/>
                    </a:lnTo>
                    <a:lnTo>
                      <a:pt x="1658" y="33"/>
                    </a:lnTo>
                    <a:lnTo>
                      <a:pt x="1669" y="29"/>
                    </a:lnTo>
                    <a:lnTo>
                      <a:pt x="1679" y="25"/>
                    </a:lnTo>
                    <a:lnTo>
                      <a:pt x="1690" y="21"/>
                    </a:lnTo>
                    <a:lnTo>
                      <a:pt x="1699" y="17"/>
                    </a:lnTo>
                    <a:lnTo>
                      <a:pt x="1710" y="13"/>
                    </a:lnTo>
                    <a:lnTo>
                      <a:pt x="1719" y="9"/>
                    </a:lnTo>
                    <a:lnTo>
                      <a:pt x="1730" y="5"/>
                    </a:lnTo>
                    <a:lnTo>
                      <a:pt x="1740" y="0"/>
                    </a:lnTo>
                    <a:lnTo>
                      <a:pt x="1753" y="2"/>
                    </a:lnTo>
                    <a:lnTo>
                      <a:pt x="1765" y="2"/>
                    </a:lnTo>
                    <a:lnTo>
                      <a:pt x="1777" y="3"/>
                    </a:lnTo>
                    <a:lnTo>
                      <a:pt x="1791" y="3"/>
                    </a:lnTo>
                    <a:lnTo>
                      <a:pt x="1803" y="5"/>
                    </a:lnTo>
                    <a:lnTo>
                      <a:pt x="1815" y="5"/>
                    </a:lnTo>
                    <a:lnTo>
                      <a:pt x="1827" y="6"/>
                    </a:lnTo>
                    <a:lnTo>
                      <a:pt x="1841" y="6"/>
                    </a:lnTo>
                    <a:lnTo>
                      <a:pt x="1842" y="161"/>
                    </a:lnTo>
                    <a:lnTo>
                      <a:pt x="1842" y="317"/>
                    </a:lnTo>
                    <a:lnTo>
                      <a:pt x="1844" y="472"/>
                    </a:lnTo>
                    <a:lnTo>
                      <a:pt x="1844" y="628"/>
                    </a:lnTo>
                    <a:lnTo>
                      <a:pt x="1853" y="649"/>
                    </a:lnTo>
                    <a:lnTo>
                      <a:pt x="1864" y="671"/>
                    </a:lnTo>
                    <a:lnTo>
                      <a:pt x="1873" y="692"/>
                    </a:lnTo>
                    <a:lnTo>
                      <a:pt x="1883" y="714"/>
                    </a:lnTo>
                    <a:lnTo>
                      <a:pt x="1887" y="749"/>
                    </a:lnTo>
                    <a:lnTo>
                      <a:pt x="1891" y="786"/>
                    </a:lnTo>
                    <a:lnTo>
                      <a:pt x="1895" y="822"/>
                    </a:lnTo>
                    <a:lnTo>
                      <a:pt x="1900" y="859"/>
                    </a:lnTo>
                    <a:lnTo>
                      <a:pt x="1899" y="925"/>
                    </a:lnTo>
                    <a:lnTo>
                      <a:pt x="1899" y="991"/>
                    </a:lnTo>
                    <a:lnTo>
                      <a:pt x="1899" y="1059"/>
                    </a:lnTo>
                    <a:lnTo>
                      <a:pt x="1898" y="1125"/>
                    </a:lnTo>
                    <a:lnTo>
                      <a:pt x="1872" y="1271"/>
                    </a:lnTo>
                    <a:lnTo>
                      <a:pt x="1846" y="1416"/>
                    </a:lnTo>
                    <a:lnTo>
                      <a:pt x="1821" y="1562"/>
                    </a:lnTo>
                    <a:lnTo>
                      <a:pt x="1795" y="1707"/>
                    </a:lnTo>
                    <a:lnTo>
                      <a:pt x="1769" y="1852"/>
                    </a:lnTo>
                    <a:lnTo>
                      <a:pt x="1745" y="1998"/>
                    </a:lnTo>
                    <a:lnTo>
                      <a:pt x="1719" y="2144"/>
                    </a:lnTo>
                    <a:lnTo>
                      <a:pt x="1694" y="2290"/>
                    </a:lnTo>
                    <a:lnTo>
                      <a:pt x="1667" y="2283"/>
                    </a:lnTo>
                    <a:lnTo>
                      <a:pt x="1640" y="2278"/>
                    </a:lnTo>
                    <a:lnTo>
                      <a:pt x="1614" y="2271"/>
                    </a:lnTo>
                    <a:lnTo>
                      <a:pt x="1587" y="2266"/>
                    </a:lnTo>
                    <a:lnTo>
                      <a:pt x="1561" y="2259"/>
                    </a:lnTo>
                    <a:lnTo>
                      <a:pt x="1534" y="2254"/>
                    </a:lnTo>
                    <a:lnTo>
                      <a:pt x="1508" y="2247"/>
                    </a:lnTo>
                    <a:lnTo>
                      <a:pt x="1483" y="2241"/>
                    </a:lnTo>
                    <a:lnTo>
                      <a:pt x="1477" y="2247"/>
                    </a:lnTo>
                    <a:lnTo>
                      <a:pt x="1472" y="2254"/>
                    </a:lnTo>
                    <a:lnTo>
                      <a:pt x="1466" y="2259"/>
                    </a:lnTo>
                    <a:lnTo>
                      <a:pt x="1460" y="2264"/>
                    </a:lnTo>
                    <a:lnTo>
                      <a:pt x="1466" y="2274"/>
                    </a:lnTo>
                    <a:lnTo>
                      <a:pt x="1472" y="2282"/>
                    </a:lnTo>
                    <a:lnTo>
                      <a:pt x="1479" y="2290"/>
                    </a:lnTo>
                    <a:lnTo>
                      <a:pt x="1484" y="2299"/>
                    </a:lnTo>
                    <a:lnTo>
                      <a:pt x="1484" y="2332"/>
                    </a:lnTo>
                    <a:lnTo>
                      <a:pt x="1484" y="2366"/>
                    </a:lnTo>
                    <a:lnTo>
                      <a:pt x="1483" y="2398"/>
                    </a:lnTo>
                    <a:lnTo>
                      <a:pt x="1483" y="2432"/>
                    </a:lnTo>
                    <a:lnTo>
                      <a:pt x="1445" y="2432"/>
                    </a:lnTo>
                    <a:lnTo>
                      <a:pt x="1407" y="2432"/>
                    </a:lnTo>
                    <a:lnTo>
                      <a:pt x="1369" y="2432"/>
                    </a:lnTo>
                    <a:lnTo>
                      <a:pt x="1331" y="2432"/>
                    </a:lnTo>
                    <a:lnTo>
                      <a:pt x="1293" y="2433"/>
                    </a:lnTo>
                    <a:lnTo>
                      <a:pt x="1256" y="2433"/>
                    </a:lnTo>
                    <a:lnTo>
                      <a:pt x="1218" y="2433"/>
                    </a:lnTo>
                    <a:lnTo>
                      <a:pt x="1180" y="2433"/>
                    </a:lnTo>
                    <a:lnTo>
                      <a:pt x="1142" y="2433"/>
                    </a:lnTo>
                    <a:lnTo>
                      <a:pt x="1104" y="2433"/>
                    </a:lnTo>
                    <a:lnTo>
                      <a:pt x="1066" y="2435"/>
                    </a:lnTo>
                    <a:lnTo>
                      <a:pt x="1028" y="2435"/>
                    </a:lnTo>
                    <a:lnTo>
                      <a:pt x="991" y="2435"/>
                    </a:lnTo>
                    <a:lnTo>
                      <a:pt x="953" y="2435"/>
                    </a:lnTo>
                    <a:lnTo>
                      <a:pt x="915" y="2436"/>
                    </a:lnTo>
                    <a:lnTo>
                      <a:pt x="877" y="2436"/>
                    </a:lnTo>
                    <a:lnTo>
                      <a:pt x="838" y="2436"/>
                    </a:lnTo>
                    <a:lnTo>
                      <a:pt x="800" y="2436"/>
                    </a:lnTo>
                    <a:lnTo>
                      <a:pt x="762" y="2436"/>
                    </a:lnTo>
                    <a:lnTo>
                      <a:pt x="724" y="2437"/>
                    </a:lnTo>
                    <a:lnTo>
                      <a:pt x="686" y="2437"/>
                    </a:lnTo>
                    <a:lnTo>
                      <a:pt x="649" y="2437"/>
                    </a:lnTo>
                    <a:lnTo>
                      <a:pt x="611" y="2439"/>
                    </a:lnTo>
                    <a:lnTo>
                      <a:pt x="573" y="2439"/>
                    </a:lnTo>
                    <a:lnTo>
                      <a:pt x="535" y="2439"/>
                    </a:lnTo>
                    <a:lnTo>
                      <a:pt x="497" y="2439"/>
                    </a:lnTo>
                    <a:lnTo>
                      <a:pt x="459" y="2440"/>
                    </a:lnTo>
                    <a:lnTo>
                      <a:pt x="422" y="2440"/>
                    </a:lnTo>
                    <a:lnTo>
                      <a:pt x="384" y="2440"/>
                    </a:lnTo>
                    <a:lnTo>
                      <a:pt x="346" y="2440"/>
                    </a:lnTo>
                    <a:lnTo>
                      <a:pt x="308" y="2441"/>
                    </a:lnTo>
                    <a:lnTo>
                      <a:pt x="270" y="2441"/>
                    </a:lnTo>
                    <a:lnTo>
                      <a:pt x="254" y="2435"/>
                    </a:lnTo>
                    <a:lnTo>
                      <a:pt x="238" y="2428"/>
                    </a:lnTo>
                    <a:lnTo>
                      <a:pt x="223" y="2421"/>
                    </a:lnTo>
                    <a:lnTo>
                      <a:pt x="207" y="2414"/>
                    </a:lnTo>
                    <a:lnTo>
                      <a:pt x="190" y="2408"/>
                    </a:lnTo>
                    <a:lnTo>
                      <a:pt x="174" y="2401"/>
                    </a:lnTo>
                    <a:lnTo>
                      <a:pt x="158" y="2394"/>
                    </a:lnTo>
                    <a:lnTo>
                      <a:pt x="143" y="2386"/>
                    </a:lnTo>
                    <a:lnTo>
                      <a:pt x="127" y="2379"/>
                    </a:lnTo>
                    <a:lnTo>
                      <a:pt x="111" y="2372"/>
                    </a:lnTo>
                    <a:lnTo>
                      <a:pt x="94" y="2366"/>
                    </a:lnTo>
                    <a:lnTo>
                      <a:pt x="78" y="2359"/>
                    </a:lnTo>
                    <a:lnTo>
                      <a:pt x="62" y="2352"/>
                    </a:lnTo>
                    <a:lnTo>
                      <a:pt x="47" y="2345"/>
                    </a:lnTo>
                    <a:lnTo>
                      <a:pt x="31" y="2339"/>
                    </a:lnTo>
                    <a:lnTo>
                      <a:pt x="15" y="2332"/>
                    </a:lnTo>
                    <a:lnTo>
                      <a:pt x="13" y="2302"/>
                    </a:lnTo>
                    <a:lnTo>
                      <a:pt x="11" y="2272"/>
                    </a:lnTo>
                    <a:lnTo>
                      <a:pt x="9" y="2244"/>
                    </a:lnTo>
                    <a:lnTo>
                      <a:pt x="7" y="2214"/>
                    </a:lnTo>
                    <a:lnTo>
                      <a:pt x="11" y="2205"/>
                    </a:lnTo>
                    <a:lnTo>
                      <a:pt x="16" y="2195"/>
                    </a:lnTo>
                    <a:lnTo>
                      <a:pt x="20" y="2187"/>
                    </a:lnTo>
                    <a:lnTo>
                      <a:pt x="25" y="2178"/>
                    </a:lnTo>
                    <a:lnTo>
                      <a:pt x="19" y="2163"/>
                    </a:lnTo>
                    <a:lnTo>
                      <a:pt x="13" y="2147"/>
                    </a:lnTo>
                    <a:lnTo>
                      <a:pt x="7" y="2132"/>
                    </a:lnTo>
                    <a:lnTo>
                      <a:pt x="0" y="2117"/>
                    </a:lnTo>
                    <a:lnTo>
                      <a:pt x="2" y="1678"/>
                    </a:lnTo>
                    <a:lnTo>
                      <a:pt x="5" y="1237"/>
                    </a:lnTo>
                    <a:lnTo>
                      <a:pt x="7" y="798"/>
                    </a:lnTo>
                    <a:lnTo>
                      <a:pt x="9" y="359"/>
                    </a:lnTo>
                    <a:lnTo>
                      <a:pt x="9" y="351"/>
                    </a:lnTo>
                    <a:lnTo>
                      <a:pt x="9" y="344"/>
                    </a:lnTo>
                    <a:lnTo>
                      <a:pt x="9" y="336"/>
                    </a:lnTo>
                    <a:lnTo>
                      <a:pt x="9" y="329"/>
                    </a:lnTo>
                    <a:close/>
                  </a:path>
                </a:pathLst>
              </a:custGeom>
              <a:solidFill>
                <a:srgbClr val="ccc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26"/>
              <p:cNvSpPr/>
              <p:nvPr/>
            </p:nvSpPr>
            <p:spPr>
              <a:xfrm>
                <a:off x="744840" y="835920"/>
                <a:ext cx="1364040" cy="1795320"/>
              </a:xfrm>
              <a:custGeom>
                <a:avLst/>
                <a:gdLst>
                  <a:gd name="textAreaLeft" fmla="*/ 0 w 1364040"/>
                  <a:gd name="textAreaRight" fmla="*/ 1364400 w 1364040"/>
                  <a:gd name="textAreaTop" fmla="*/ 0 h 1795320"/>
                  <a:gd name="textAreaBottom" fmla="*/ 1795320 h 1795320"/>
                </a:gdLst>
                <a:ahLst/>
                <a:rect l="textAreaLeft" t="textAreaTop" r="textAreaRight" b="textAreaBottom"/>
                <a:pathLst>
                  <a:path w="1886" h="2423">
                    <a:moveTo>
                      <a:pt x="8" y="323"/>
                    </a:moveTo>
                    <a:lnTo>
                      <a:pt x="27" y="311"/>
                    </a:lnTo>
                    <a:lnTo>
                      <a:pt x="47" y="299"/>
                    </a:lnTo>
                    <a:lnTo>
                      <a:pt x="66" y="286"/>
                    </a:lnTo>
                    <a:lnTo>
                      <a:pt x="85" y="273"/>
                    </a:lnTo>
                    <a:lnTo>
                      <a:pt x="104" y="261"/>
                    </a:lnTo>
                    <a:lnTo>
                      <a:pt x="124" y="249"/>
                    </a:lnTo>
                    <a:lnTo>
                      <a:pt x="143" y="235"/>
                    </a:lnTo>
                    <a:lnTo>
                      <a:pt x="162" y="223"/>
                    </a:lnTo>
                    <a:lnTo>
                      <a:pt x="161" y="215"/>
                    </a:lnTo>
                    <a:lnTo>
                      <a:pt x="161" y="205"/>
                    </a:lnTo>
                    <a:lnTo>
                      <a:pt x="159" y="197"/>
                    </a:lnTo>
                    <a:lnTo>
                      <a:pt x="158" y="189"/>
                    </a:lnTo>
                    <a:lnTo>
                      <a:pt x="174" y="181"/>
                    </a:lnTo>
                    <a:lnTo>
                      <a:pt x="190" y="172"/>
                    </a:lnTo>
                    <a:lnTo>
                      <a:pt x="207" y="163"/>
                    </a:lnTo>
                    <a:lnTo>
                      <a:pt x="223" y="154"/>
                    </a:lnTo>
                    <a:lnTo>
                      <a:pt x="239" y="145"/>
                    </a:lnTo>
                    <a:lnTo>
                      <a:pt x="255" y="136"/>
                    </a:lnTo>
                    <a:lnTo>
                      <a:pt x="270" y="127"/>
                    </a:lnTo>
                    <a:lnTo>
                      <a:pt x="286" y="119"/>
                    </a:lnTo>
                    <a:lnTo>
                      <a:pt x="296" y="120"/>
                    </a:lnTo>
                    <a:lnTo>
                      <a:pt x="304" y="122"/>
                    </a:lnTo>
                    <a:lnTo>
                      <a:pt x="314" y="123"/>
                    </a:lnTo>
                    <a:lnTo>
                      <a:pt x="322" y="124"/>
                    </a:lnTo>
                    <a:lnTo>
                      <a:pt x="331" y="126"/>
                    </a:lnTo>
                    <a:lnTo>
                      <a:pt x="339" y="127"/>
                    </a:lnTo>
                    <a:lnTo>
                      <a:pt x="349" y="128"/>
                    </a:lnTo>
                    <a:lnTo>
                      <a:pt x="357" y="130"/>
                    </a:lnTo>
                    <a:lnTo>
                      <a:pt x="361" y="139"/>
                    </a:lnTo>
                    <a:lnTo>
                      <a:pt x="365" y="149"/>
                    </a:lnTo>
                    <a:lnTo>
                      <a:pt x="369" y="158"/>
                    </a:lnTo>
                    <a:lnTo>
                      <a:pt x="373" y="168"/>
                    </a:lnTo>
                    <a:lnTo>
                      <a:pt x="380" y="168"/>
                    </a:lnTo>
                    <a:lnTo>
                      <a:pt x="388" y="168"/>
                    </a:lnTo>
                    <a:lnTo>
                      <a:pt x="395" y="168"/>
                    </a:lnTo>
                    <a:lnTo>
                      <a:pt x="403" y="168"/>
                    </a:lnTo>
                    <a:lnTo>
                      <a:pt x="409" y="168"/>
                    </a:lnTo>
                    <a:lnTo>
                      <a:pt x="416" y="168"/>
                    </a:lnTo>
                    <a:lnTo>
                      <a:pt x="424" y="168"/>
                    </a:lnTo>
                    <a:lnTo>
                      <a:pt x="431" y="168"/>
                    </a:lnTo>
                    <a:lnTo>
                      <a:pt x="478" y="169"/>
                    </a:lnTo>
                    <a:lnTo>
                      <a:pt x="524" y="169"/>
                    </a:lnTo>
                    <a:lnTo>
                      <a:pt x="572" y="170"/>
                    </a:lnTo>
                    <a:lnTo>
                      <a:pt x="618" y="172"/>
                    </a:lnTo>
                    <a:lnTo>
                      <a:pt x="665" y="173"/>
                    </a:lnTo>
                    <a:lnTo>
                      <a:pt x="711" y="173"/>
                    </a:lnTo>
                    <a:lnTo>
                      <a:pt x="758" y="174"/>
                    </a:lnTo>
                    <a:lnTo>
                      <a:pt x="804" y="176"/>
                    </a:lnTo>
                    <a:lnTo>
                      <a:pt x="852" y="177"/>
                    </a:lnTo>
                    <a:lnTo>
                      <a:pt x="897" y="177"/>
                    </a:lnTo>
                    <a:lnTo>
                      <a:pt x="945" y="178"/>
                    </a:lnTo>
                    <a:lnTo>
                      <a:pt x="991" y="180"/>
                    </a:lnTo>
                    <a:lnTo>
                      <a:pt x="1038" y="181"/>
                    </a:lnTo>
                    <a:lnTo>
                      <a:pt x="1085" y="181"/>
                    </a:lnTo>
                    <a:lnTo>
                      <a:pt x="1131" y="182"/>
                    </a:lnTo>
                    <a:lnTo>
                      <a:pt x="1179" y="184"/>
                    </a:lnTo>
                    <a:lnTo>
                      <a:pt x="1181" y="177"/>
                    </a:lnTo>
                    <a:lnTo>
                      <a:pt x="1185" y="172"/>
                    </a:lnTo>
                    <a:lnTo>
                      <a:pt x="1189" y="165"/>
                    </a:lnTo>
                    <a:lnTo>
                      <a:pt x="1194" y="159"/>
                    </a:lnTo>
                    <a:lnTo>
                      <a:pt x="1214" y="159"/>
                    </a:lnTo>
                    <a:lnTo>
                      <a:pt x="1234" y="158"/>
                    </a:lnTo>
                    <a:lnTo>
                      <a:pt x="1254" y="158"/>
                    </a:lnTo>
                    <a:lnTo>
                      <a:pt x="1275" y="158"/>
                    </a:lnTo>
                    <a:lnTo>
                      <a:pt x="1295" y="157"/>
                    </a:lnTo>
                    <a:lnTo>
                      <a:pt x="1315" y="157"/>
                    </a:lnTo>
                    <a:lnTo>
                      <a:pt x="1335" y="157"/>
                    </a:lnTo>
                    <a:lnTo>
                      <a:pt x="1356" y="157"/>
                    </a:lnTo>
                    <a:lnTo>
                      <a:pt x="1381" y="141"/>
                    </a:lnTo>
                    <a:lnTo>
                      <a:pt x="1407" y="124"/>
                    </a:lnTo>
                    <a:lnTo>
                      <a:pt x="1434" y="108"/>
                    </a:lnTo>
                    <a:lnTo>
                      <a:pt x="1460" y="92"/>
                    </a:lnTo>
                    <a:lnTo>
                      <a:pt x="1487" y="76"/>
                    </a:lnTo>
                    <a:lnTo>
                      <a:pt x="1513" y="59"/>
                    </a:lnTo>
                    <a:lnTo>
                      <a:pt x="1540" y="45"/>
                    </a:lnTo>
                    <a:lnTo>
                      <a:pt x="1565" y="28"/>
                    </a:lnTo>
                    <a:lnTo>
                      <a:pt x="1576" y="28"/>
                    </a:lnTo>
                    <a:lnTo>
                      <a:pt x="1587" y="30"/>
                    </a:lnTo>
                    <a:lnTo>
                      <a:pt x="1598" y="30"/>
                    </a:lnTo>
                    <a:lnTo>
                      <a:pt x="1609" y="30"/>
                    </a:lnTo>
                    <a:lnTo>
                      <a:pt x="1618" y="31"/>
                    </a:lnTo>
                    <a:lnTo>
                      <a:pt x="1629" y="31"/>
                    </a:lnTo>
                    <a:lnTo>
                      <a:pt x="1640" y="31"/>
                    </a:lnTo>
                    <a:lnTo>
                      <a:pt x="1650" y="31"/>
                    </a:lnTo>
                    <a:lnTo>
                      <a:pt x="1660" y="27"/>
                    </a:lnTo>
                    <a:lnTo>
                      <a:pt x="1671" y="24"/>
                    </a:lnTo>
                    <a:lnTo>
                      <a:pt x="1680" y="20"/>
                    </a:lnTo>
                    <a:lnTo>
                      <a:pt x="1691" y="16"/>
                    </a:lnTo>
                    <a:lnTo>
                      <a:pt x="1700" y="12"/>
                    </a:lnTo>
                    <a:lnTo>
                      <a:pt x="1711" y="8"/>
                    </a:lnTo>
                    <a:lnTo>
                      <a:pt x="1721" y="4"/>
                    </a:lnTo>
                    <a:lnTo>
                      <a:pt x="1730" y="0"/>
                    </a:lnTo>
                    <a:lnTo>
                      <a:pt x="1742" y="0"/>
                    </a:lnTo>
                    <a:lnTo>
                      <a:pt x="1755" y="1"/>
                    </a:lnTo>
                    <a:lnTo>
                      <a:pt x="1767" y="1"/>
                    </a:lnTo>
                    <a:lnTo>
                      <a:pt x="1779" y="1"/>
                    </a:lnTo>
                    <a:lnTo>
                      <a:pt x="1791" y="3"/>
                    </a:lnTo>
                    <a:lnTo>
                      <a:pt x="1803" y="3"/>
                    </a:lnTo>
                    <a:lnTo>
                      <a:pt x="1815" y="4"/>
                    </a:lnTo>
                    <a:lnTo>
                      <a:pt x="1828" y="4"/>
                    </a:lnTo>
                    <a:lnTo>
                      <a:pt x="1828" y="159"/>
                    </a:lnTo>
                    <a:lnTo>
                      <a:pt x="1829" y="315"/>
                    </a:lnTo>
                    <a:lnTo>
                      <a:pt x="1829" y="470"/>
                    </a:lnTo>
                    <a:lnTo>
                      <a:pt x="1829" y="626"/>
                    </a:lnTo>
                    <a:lnTo>
                      <a:pt x="1838" y="647"/>
                    </a:lnTo>
                    <a:lnTo>
                      <a:pt x="1849" y="669"/>
                    </a:lnTo>
                    <a:lnTo>
                      <a:pt x="1859" y="691"/>
                    </a:lnTo>
                    <a:lnTo>
                      <a:pt x="1868" y="712"/>
                    </a:lnTo>
                    <a:lnTo>
                      <a:pt x="1872" y="747"/>
                    </a:lnTo>
                    <a:lnTo>
                      <a:pt x="1878" y="784"/>
                    </a:lnTo>
                    <a:lnTo>
                      <a:pt x="1882" y="820"/>
                    </a:lnTo>
                    <a:lnTo>
                      <a:pt x="1886" y="857"/>
                    </a:lnTo>
                    <a:lnTo>
                      <a:pt x="1884" y="928"/>
                    </a:lnTo>
                    <a:lnTo>
                      <a:pt x="1884" y="1001"/>
                    </a:lnTo>
                    <a:lnTo>
                      <a:pt x="1884" y="1074"/>
                    </a:lnTo>
                    <a:lnTo>
                      <a:pt x="1884" y="1147"/>
                    </a:lnTo>
                    <a:lnTo>
                      <a:pt x="1859" y="1288"/>
                    </a:lnTo>
                    <a:lnTo>
                      <a:pt x="1834" y="1429"/>
                    </a:lnTo>
                    <a:lnTo>
                      <a:pt x="1809" y="1569"/>
                    </a:lnTo>
                    <a:lnTo>
                      <a:pt x="1784" y="1710"/>
                    </a:lnTo>
                    <a:lnTo>
                      <a:pt x="1760" y="1850"/>
                    </a:lnTo>
                    <a:lnTo>
                      <a:pt x="1736" y="1991"/>
                    </a:lnTo>
                    <a:lnTo>
                      <a:pt x="1710" y="2131"/>
                    </a:lnTo>
                    <a:lnTo>
                      <a:pt x="1686" y="2272"/>
                    </a:lnTo>
                    <a:lnTo>
                      <a:pt x="1672" y="2269"/>
                    </a:lnTo>
                    <a:lnTo>
                      <a:pt x="1659" y="2266"/>
                    </a:lnTo>
                    <a:lnTo>
                      <a:pt x="1645" y="2264"/>
                    </a:lnTo>
                    <a:lnTo>
                      <a:pt x="1632" y="2261"/>
                    </a:lnTo>
                    <a:lnTo>
                      <a:pt x="1618" y="2257"/>
                    </a:lnTo>
                    <a:lnTo>
                      <a:pt x="1604" y="2254"/>
                    </a:lnTo>
                    <a:lnTo>
                      <a:pt x="1591" y="2252"/>
                    </a:lnTo>
                    <a:lnTo>
                      <a:pt x="1577" y="2249"/>
                    </a:lnTo>
                    <a:lnTo>
                      <a:pt x="1563" y="2246"/>
                    </a:lnTo>
                    <a:lnTo>
                      <a:pt x="1549" y="2242"/>
                    </a:lnTo>
                    <a:lnTo>
                      <a:pt x="1536" y="2239"/>
                    </a:lnTo>
                    <a:lnTo>
                      <a:pt x="1522" y="2237"/>
                    </a:lnTo>
                    <a:lnTo>
                      <a:pt x="1509" y="2234"/>
                    </a:lnTo>
                    <a:lnTo>
                      <a:pt x="1495" y="2230"/>
                    </a:lnTo>
                    <a:lnTo>
                      <a:pt x="1481" y="2227"/>
                    </a:lnTo>
                    <a:lnTo>
                      <a:pt x="1468" y="2225"/>
                    </a:lnTo>
                    <a:lnTo>
                      <a:pt x="1463" y="2231"/>
                    </a:lnTo>
                    <a:lnTo>
                      <a:pt x="1456" y="2237"/>
                    </a:lnTo>
                    <a:lnTo>
                      <a:pt x="1450" y="2244"/>
                    </a:lnTo>
                    <a:lnTo>
                      <a:pt x="1444" y="2250"/>
                    </a:lnTo>
                    <a:lnTo>
                      <a:pt x="1450" y="2257"/>
                    </a:lnTo>
                    <a:lnTo>
                      <a:pt x="1457" y="2265"/>
                    </a:lnTo>
                    <a:lnTo>
                      <a:pt x="1463" y="2273"/>
                    </a:lnTo>
                    <a:lnTo>
                      <a:pt x="1469" y="2281"/>
                    </a:lnTo>
                    <a:lnTo>
                      <a:pt x="1469" y="2315"/>
                    </a:lnTo>
                    <a:lnTo>
                      <a:pt x="1469" y="2348"/>
                    </a:lnTo>
                    <a:lnTo>
                      <a:pt x="1468" y="2381"/>
                    </a:lnTo>
                    <a:lnTo>
                      <a:pt x="1468" y="2415"/>
                    </a:lnTo>
                    <a:lnTo>
                      <a:pt x="1430" y="2415"/>
                    </a:lnTo>
                    <a:lnTo>
                      <a:pt x="1394" y="2415"/>
                    </a:lnTo>
                    <a:lnTo>
                      <a:pt x="1356" y="2417"/>
                    </a:lnTo>
                    <a:lnTo>
                      <a:pt x="1318" y="2417"/>
                    </a:lnTo>
                    <a:lnTo>
                      <a:pt x="1280" y="2417"/>
                    </a:lnTo>
                    <a:lnTo>
                      <a:pt x="1244" y="2417"/>
                    </a:lnTo>
                    <a:lnTo>
                      <a:pt x="1206" y="2417"/>
                    </a:lnTo>
                    <a:lnTo>
                      <a:pt x="1168" y="2417"/>
                    </a:lnTo>
                    <a:lnTo>
                      <a:pt x="1130" y="2418"/>
                    </a:lnTo>
                    <a:lnTo>
                      <a:pt x="1093" y="2418"/>
                    </a:lnTo>
                    <a:lnTo>
                      <a:pt x="1056" y="2418"/>
                    </a:lnTo>
                    <a:lnTo>
                      <a:pt x="1018" y="2418"/>
                    </a:lnTo>
                    <a:lnTo>
                      <a:pt x="981" y="2418"/>
                    </a:lnTo>
                    <a:lnTo>
                      <a:pt x="943" y="2418"/>
                    </a:lnTo>
                    <a:lnTo>
                      <a:pt x="906" y="2418"/>
                    </a:lnTo>
                    <a:lnTo>
                      <a:pt x="869" y="2419"/>
                    </a:lnTo>
                    <a:lnTo>
                      <a:pt x="831" y="2419"/>
                    </a:lnTo>
                    <a:lnTo>
                      <a:pt x="793" y="2419"/>
                    </a:lnTo>
                    <a:lnTo>
                      <a:pt x="757" y="2419"/>
                    </a:lnTo>
                    <a:lnTo>
                      <a:pt x="719" y="2419"/>
                    </a:lnTo>
                    <a:lnTo>
                      <a:pt x="681" y="2419"/>
                    </a:lnTo>
                    <a:lnTo>
                      <a:pt x="645" y="2421"/>
                    </a:lnTo>
                    <a:lnTo>
                      <a:pt x="607" y="2421"/>
                    </a:lnTo>
                    <a:lnTo>
                      <a:pt x="569" y="2421"/>
                    </a:lnTo>
                    <a:lnTo>
                      <a:pt x="532" y="2421"/>
                    </a:lnTo>
                    <a:lnTo>
                      <a:pt x="495" y="2422"/>
                    </a:lnTo>
                    <a:lnTo>
                      <a:pt x="457" y="2422"/>
                    </a:lnTo>
                    <a:lnTo>
                      <a:pt x="420" y="2422"/>
                    </a:lnTo>
                    <a:lnTo>
                      <a:pt x="382" y="2422"/>
                    </a:lnTo>
                    <a:lnTo>
                      <a:pt x="345" y="2422"/>
                    </a:lnTo>
                    <a:lnTo>
                      <a:pt x="308" y="2423"/>
                    </a:lnTo>
                    <a:lnTo>
                      <a:pt x="270" y="2423"/>
                    </a:lnTo>
                    <a:lnTo>
                      <a:pt x="254" y="2417"/>
                    </a:lnTo>
                    <a:lnTo>
                      <a:pt x="238" y="2410"/>
                    </a:lnTo>
                    <a:lnTo>
                      <a:pt x="222" y="2403"/>
                    </a:lnTo>
                    <a:lnTo>
                      <a:pt x="205" y="2396"/>
                    </a:lnTo>
                    <a:lnTo>
                      <a:pt x="189" y="2389"/>
                    </a:lnTo>
                    <a:lnTo>
                      <a:pt x="173" y="2383"/>
                    </a:lnTo>
                    <a:lnTo>
                      <a:pt x="157" y="2376"/>
                    </a:lnTo>
                    <a:lnTo>
                      <a:pt x="142" y="2369"/>
                    </a:lnTo>
                    <a:lnTo>
                      <a:pt x="126" y="2362"/>
                    </a:lnTo>
                    <a:lnTo>
                      <a:pt x="109" y="2356"/>
                    </a:lnTo>
                    <a:lnTo>
                      <a:pt x="93" y="2349"/>
                    </a:lnTo>
                    <a:lnTo>
                      <a:pt x="77" y="2342"/>
                    </a:lnTo>
                    <a:lnTo>
                      <a:pt x="61" y="2335"/>
                    </a:lnTo>
                    <a:lnTo>
                      <a:pt x="44" y="2329"/>
                    </a:lnTo>
                    <a:lnTo>
                      <a:pt x="28" y="2322"/>
                    </a:lnTo>
                    <a:lnTo>
                      <a:pt x="12" y="2315"/>
                    </a:lnTo>
                    <a:lnTo>
                      <a:pt x="11" y="2287"/>
                    </a:lnTo>
                    <a:lnTo>
                      <a:pt x="9" y="2258"/>
                    </a:lnTo>
                    <a:lnTo>
                      <a:pt x="7" y="2230"/>
                    </a:lnTo>
                    <a:lnTo>
                      <a:pt x="5" y="2200"/>
                    </a:lnTo>
                    <a:lnTo>
                      <a:pt x="9" y="2192"/>
                    </a:lnTo>
                    <a:lnTo>
                      <a:pt x="15" y="2184"/>
                    </a:lnTo>
                    <a:lnTo>
                      <a:pt x="19" y="2176"/>
                    </a:lnTo>
                    <a:lnTo>
                      <a:pt x="23" y="2168"/>
                    </a:lnTo>
                    <a:lnTo>
                      <a:pt x="17" y="2154"/>
                    </a:lnTo>
                    <a:lnTo>
                      <a:pt x="12" y="2139"/>
                    </a:lnTo>
                    <a:lnTo>
                      <a:pt x="5" y="2126"/>
                    </a:lnTo>
                    <a:lnTo>
                      <a:pt x="0" y="2112"/>
                    </a:lnTo>
                    <a:lnTo>
                      <a:pt x="1" y="1672"/>
                    </a:lnTo>
                    <a:lnTo>
                      <a:pt x="4" y="1233"/>
                    </a:lnTo>
                    <a:lnTo>
                      <a:pt x="5" y="792"/>
                    </a:lnTo>
                    <a:lnTo>
                      <a:pt x="7" y="353"/>
                    </a:lnTo>
                    <a:lnTo>
                      <a:pt x="7" y="345"/>
                    </a:lnTo>
                    <a:lnTo>
                      <a:pt x="7" y="338"/>
                    </a:lnTo>
                    <a:lnTo>
                      <a:pt x="7" y="330"/>
                    </a:lnTo>
                    <a:lnTo>
                      <a:pt x="8" y="323"/>
                    </a:lnTo>
                    <a:close/>
                  </a:path>
                </a:pathLst>
              </a:custGeom>
              <a:solidFill>
                <a:srgbClr val="d8d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27"/>
              <p:cNvSpPr/>
              <p:nvPr/>
            </p:nvSpPr>
            <p:spPr>
              <a:xfrm>
                <a:off x="749160" y="843480"/>
                <a:ext cx="1355400" cy="1783440"/>
              </a:xfrm>
              <a:custGeom>
                <a:avLst/>
                <a:gdLst>
                  <a:gd name="textAreaLeft" fmla="*/ 0 w 1355400"/>
                  <a:gd name="textAreaRight" fmla="*/ 1355760 w 1355400"/>
                  <a:gd name="textAreaTop" fmla="*/ 0 h 1783440"/>
                  <a:gd name="textAreaBottom" fmla="*/ 1783800 h 1783440"/>
                </a:gdLst>
                <a:ahLst/>
                <a:rect l="textAreaLeft" t="textAreaTop" r="textAreaRight" b="textAreaBottom"/>
                <a:pathLst>
                  <a:path w="1873" h="2409">
                    <a:moveTo>
                      <a:pt x="6" y="318"/>
                    </a:moveTo>
                    <a:lnTo>
                      <a:pt x="25" y="306"/>
                    </a:lnTo>
                    <a:lnTo>
                      <a:pt x="46" y="294"/>
                    </a:lnTo>
                    <a:lnTo>
                      <a:pt x="65" y="282"/>
                    </a:lnTo>
                    <a:lnTo>
                      <a:pt x="83" y="268"/>
                    </a:lnTo>
                    <a:lnTo>
                      <a:pt x="102" y="256"/>
                    </a:lnTo>
                    <a:lnTo>
                      <a:pt x="123" y="244"/>
                    </a:lnTo>
                    <a:lnTo>
                      <a:pt x="142" y="230"/>
                    </a:lnTo>
                    <a:lnTo>
                      <a:pt x="162" y="218"/>
                    </a:lnTo>
                    <a:lnTo>
                      <a:pt x="161" y="210"/>
                    </a:lnTo>
                    <a:lnTo>
                      <a:pt x="161" y="202"/>
                    </a:lnTo>
                    <a:lnTo>
                      <a:pt x="159" y="194"/>
                    </a:lnTo>
                    <a:lnTo>
                      <a:pt x="158" y="184"/>
                    </a:lnTo>
                    <a:lnTo>
                      <a:pt x="173" y="176"/>
                    </a:lnTo>
                    <a:lnTo>
                      <a:pt x="188" y="167"/>
                    </a:lnTo>
                    <a:lnTo>
                      <a:pt x="202" y="159"/>
                    </a:lnTo>
                    <a:lnTo>
                      <a:pt x="217" y="149"/>
                    </a:lnTo>
                    <a:lnTo>
                      <a:pt x="232" y="141"/>
                    </a:lnTo>
                    <a:lnTo>
                      <a:pt x="247" y="133"/>
                    </a:lnTo>
                    <a:lnTo>
                      <a:pt x="262" y="123"/>
                    </a:lnTo>
                    <a:lnTo>
                      <a:pt x="277" y="115"/>
                    </a:lnTo>
                    <a:lnTo>
                      <a:pt x="285" y="117"/>
                    </a:lnTo>
                    <a:lnTo>
                      <a:pt x="294" y="118"/>
                    </a:lnTo>
                    <a:lnTo>
                      <a:pt x="302" y="119"/>
                    </a:lnTo>
                    <a:lnTo>
                      <a:pt x="312" y="121"/>
                    </a:lnTo>
                    <a:lnTo>
                      <a:pt x="321" y="122"/>
                    </a:lnTo>
                    <a:lnTo>
                      <a:pt x="329" y="123"/>
                    </a:lnTo>
                    <a:lnTo>
                      <a:pt x="339" y="125"/>
                    </a:lnTo>
                    <a:lnTo>
                      <a:pt x="347" y="126"/>
                    </a:lnTo>
                    <a:lnTo>
                      <a:pt x="350" y="136"/>
                    </a:lnTo>
                    <a:lnTo>
                      <a:pt x="354" y="144"/>
                    </a:lnTo>
                    <a:lnTo>
                      <a:pt x="358" y="153"/>
                    </a:lnTo>
                    <a:lnTo>
                      <a:pt x="362" y="163"/>
                    </a:lnTo>
                    <a:lnTo>
                      <a:pt x="370" y="163"/>
                    </a:lnTo>
                    <a:lnTo>
                      <a:pt x="377" y="163"/>
                    </a:lnTo>
                    <a:lnTo>
                      <a:pt x="385" y="163"/>
                    </a:lnTo>
                    <a:lnTo>
                      <a:pt x="392" y="163"/>
                    </a:lnTo>
                    <a:lnTo>
                      <a:pt x="400" y="163"/>
                    </a:lnTo>
                    <a:lnTo>
                      <a:pt x="407" y="163"/>
                    </a:lnTo>
                    <a:lnTo>
                      <a:pt x="415" y="163"/>
                    </a:lnTo>
                    <a:lnTo>
                      <a:pt x="421" y="163"/>
                    </a:lnTo>
                    <a:lnTo>
                      <a:pt x="469" y="164"/>
                    </a:lnTo>
                    <a:lnTo>
                      <a:pt x="516" y="165"/>
                    </a:lnTo>
                    <a:lnTo>
                      <a:pt x="563" y="167"/>
                    </a:lnTo>
                    <a:lnTo>
                      <a:pt x="611" y="168"/>
                    </a:lnTo>
                    <a:lnTo>
                      <a:pt x="658" y="169"/>
                    </a:lnTo>
                    <a:lnTo>
                      <a:pt x="705" y="171"/>
                    </a:lnTo>
                    <a:lnTo>
                      <a:pt x="753" y="171"/>
                    </a:lnTo>
                    <a:lnTo>
                      <a:pt x="800" y="172"/>
                    </a:lnTo>
                    <a:lnTo>
                      <a:pt x="847" y="173"/>
                    </a:lnTo>
                    <a:lnTo>
                      <a:pt x="895" y="175"/>
                    </a:lnTo>
                    <a:lnTo>
                      <a:pt x="942" y="176"/>
                    </a:lnTo>
                    <a:lnTo>
                      <a:pt x="988" y="177"/>
                    </a:lnTo>
                    <a:lnTo>
                      <a:pt x="1035" y="179"/>
                    </a:lnTo>
                    <a:lnTo>
                      <a:pt x="1082" y="179"/>
                    </a:lnTo>
                    <a:lnTo>
                      <a:pt x="1130" y="180"/>
                    </a:lnTo>
                    <a:lnTo>
                      <a:pt x="1177" y="182"/>
                    </a:lnTo>
                    <a:lnTo>
                      <a:pt x="1181" y="175"/>
                    </a:lnTo>
                    <a:lnTo>
                      <a:pt x="1187" y="169"/>
                    </a:lnTo>
                    <a:lnTo>
                      <a:pt x="1191" y="163"/>
                    </a:lnTo>
                    <a:lnTo>
                      <a:pt x="1195" y="157"/>
                    </a:lnTo>
                    <a:lnTo>
                      <a:pt x="1214" y="157"/>
                    </a:lnTo>
                    <a:lnTo>
                      <a:pt x="1234" y="157"/>
                    </a:lnTo>
                    <a:lnTo>
                      <a:pt x="1253" y="157"/>
                    </a:lnTo>
                    <a:lnTo>
                      <a:pt x="1272" y="156"/>
                    </a:lnTo>
                    <a:lnTo>
                      <a:pt x="1291" y="156"/>
                    </a:lnTo>
                    <a:lnTo>
                      <a:pt x="1311" y="156"/>
                    </a:lnTo>
                    <a:lnTo>
                      <a:pt x="1330" y="156"/>
                    </a:lnTo>
                    <a:lnTo>
                      <a:pt x="1349" y="156"/>
                    </a:lnTo>
                    <a:lnTo>
                      <a:pt x="1376" y="140"/>
                    </a:lnTo>
                    <a:lnTo>
                      <a:pt x="1401" y="123"/>
                    </a:lnTo>
                    <a:lnTo>
                      <a:pt x="1429" y="107"/>
                    </a:lnTo>
                    <a:lnTo>
                      <a:pt x="1456" y="91"/>
                    </a:lnTo>
                    <a:lnTo>
                      <a:pt x="1481" y="75"/>
                    </a:lnTo>
                    <a:lnTo>
                      <a:pt x="1508" y="59"/>
                    </a:lnTo>
                    <a:lnTo>
                      <a:pt x="1534" y="42"/>
                    </a:lnTo>
                    <a:lnTo>
                      <a:pt x="1561" y="26"/>
                    </a:lnTo>
                    <a:lnTo>
                      <a:pt x="1572" y="26"/>
                    </a:lnTo>
                    <a:lnTo>
                      <a:pt x="1583" y="27"/>
                    </a:lnTo>
                    <a:lnTo>
                      <a:pt x="1592" y="27"/>
                    </a:lnTo>
                    <a:lnTo>
                      <a:pt x="1603" y="27"/>
                    </a:lnTo>
                    <a:lnTo>
                      <a:pt x="1612" y="29"/>
                    </a:lnTo>
                    <a:lnTo>
                      <a:pt x="1623" y="29"/>
                    </a:lnTo>
                    <a:lnTo>
                      <a:pt x="1633" y="30"/>
                    </a:lnTo>
                    <a:lnTo>
                      <a:pt x="1643" y="30"/>
                    </a:lnTo>
                    <a:lnTo>
                      <a:pt x="1653" y="26"/>
                    </a:lnTo>
                    <a:lnTo>
                      <a:pt x="1664" y="23"/>
                    </a:lnTo>
                    <a:lnTo>
                      <a:pt x="1673" y="19"/>
                    </a:lnTo>
                    <a:lnTo>
                      <a:pt x="1683" y="15"/>
                    </a:lnTo>
                    <a:lnTo>
                      <a:pt x="1693" y="11"/>
                    </a:lnTo>
                    <a:lnTo>
                      <a:pt x="1703" y="7"/>
                    </a:lnTo>
                    <a:lnTo>
                      <a:pt x="1712" y="4"/>
                    </a:lnTo>
                    <a:lnTo>
                      <a:pt x="1722" y="0"/>
                    </a:lnTo>
                    <a:lnTo>
                      <a:pt x="1734" y="0"/>
                    </a:lnTo>
                    <a:lnTo>
                      <a:pt x="1746" y="2"/>
                    </a:lnTo>
                    <a:lnTo>
                      <a:pt x="1757" y="2"/>
                    </a:lnTo>
                    <a:lnTo>
                      <a:pt x="1768" y="2"/>
                    </a:lnTo>
                    <a:lnTo>
                      <a:pt x="1780" y="2"/>
                    </a:lnTo>
                    <a:lnTo>
                      <a:pt x="1791" y="2"/>
                    </a:lnTo>
                    <a:lnTo>
                      <a:pt x="1802" y="3"/>
                    </a:lnTo>
                    <a:lnTo>
                      <a:pt x="1814" y="3"/>
                    </a:lnTo>
                    <a:lnTo>
                      <a:pt x="1815" y="159"/>
                    </a:lnTo>
                    <a:lnTo>
                      <a:pt x="1815" y="314"/>
                    </a:lnTo>
                    <a:lnTo>
                      <a:pt x="1816" y="469"/>
                    </a:lnTo>
                    <a:lnTo>
                      <a:pt x="1818" y="625"/>
                    </a:lnTo>
                    <a:lnTo>
                      <a:pt x="1826" y="646"/>
                    </a:lnTo>
                    <a:lnTo>
                      <a:pt x="1835" y="667"/>
                    </a:lnTo>
                    <a:lnTo>
                      <a:pt x="1846" y="688"/>
                    </a:lnTo>
                    <a:lnTo>
                      <a:pt x="1856" y="710"/>
                    </a:lnTo>
                    <a:lnTo>
                      <a:pt x="1860" y="746"/>
                    </a:lnTo>
                    <a:lnTo>
                      <a:pt x="1864" y="783"/>
                    </a:lnTo>
                    <a:lnTo>
                      <a:pt x="1868" y="819"/>
                    </a:lnTo>
                    <a:lnTo>
                      <a:pt x="1873" y="855"/>
                    </a:lnTo>
                    <a:lnTo>
                      <a:pt x="1873" y="934"/>
                    </a:lnTo>
                    <a:lnTo>
                      <a:pt x="1872" y="1013"/>
                    </a:lnTo>
                    <a:lnTo>
                      <a:pt x="1871" y="1092"/>
                    </a:lnTo>
                    <a:lnTo>
                      <a:pt x="1871" y="1172"/>
                    </a:lnTo>
                    <a:lnTo>
                      <a:pt x="1846" y="1307"/>
                    </a:lnTo>
                    <a:lnTo>
                      <a:pt x="1822" y="1443"/>
                    </a:lnTo>
                    <a:lnTo>
                      <a:pt x="1799" y="1579"/>
                    </a:lnTo>
                    <a:lnTo>
                      <a:pt x="1776" y="1714"/>
                    </a:lnTo>
                    <a:lnTo>
                      <a:pt x="1752" y="1849"/>
                    </a:lnTo>
                    <a:lnTo>
                      <a:pt x="1729" y="1986"/>
                    </a:lnTo>
                    <a:lnTo>
                      <a:pt x="1704" y="2121"/>
                    </a:lnTo>
                    <a:lnTo>
                      <a:pt x="1680" y="2256"/>
                    </a:lnTo>
                    <a:lnTo>
                      <a:pt x="1666" y="2253"/>
                    </a:lnTo>
                    <a:lnTo>
                      <a:pt x="1652" y="2251"/>
                    </a:lnTo>
                    <a:lnTo>
                      <a:pt x="1638" y="2248"/>
                    </a:lnTo>
                    <a:lnTo>
                      <a:pt x="1623" y="2245"/>
                    </a:lnTo>
                    <a:lnTo>
                      <a:pt x="1610" y="2241"/>
                    </a:lnTo>
                    <a:lnTo>
                      <a:pt x="1595" y="2239"/>
                    </a:lnTo>
                    <a:lnTo>
                      <a:pt x="1581" y="2236"/>
                    </a:lnTo>
                    <a:lnTo>
                      <a:pt x="1568" y="2233"/>
                    </a:lnTo>
                    <a:lnTo>
                      <a:pt x="1553" y="2230"/>
                    </a:lnTo>
                    <a:lnTo>
                      <a:pt x="1539" y="2226"/>
                    </a:lnTo>
                    <a:lnTo>
                      <a:pt x="1524" y="2224"/>
                    </a:lnTo>
                    <a:lnTo>
                      <a:pt x="1511" y="2221"/>
                    </a:lnTo>
                    <a:lnTo>
                      <a:pt x="1496" y="2218"/>
                    </a:lnTo>
                    <a:lnTo>
                      <a:pt x="1483" y="2214"/>
                    </a:lnTo>
                    <a:lnTo>
                      <a:pt x="1468" y="2212"/>
                    </a:lnTo>
                    <a:lnTo>
                      <a:pt x="1454" y="2209"/>
                    </a:lnTo>
                    <a:lnTo>
                      <a:pt x="1449" y="2216"/>
                    </a:lnTo>
                    <a:lnTo>
                      <a:pt x="1442" y="2221"/>
                    </a:lnTo>
                    <a:lnTo>
                      <a:pt x="1437" y="2228"/>
                    </a:lnTo>
                    <a:lnTo>
                      <a:pt x="1430" y="2235"/>
                    </a:lnTo>
                    <a:lnTo>
                      <a:pt x="1437" y="2241"/>
                    </a:lnTo>
                    <a:lnTo>
                      <a:pt x="1443" y="2249"/>
                    </a:lnTo>
                    <a:lnTo>
                      <a:pt x="1450" y="2256"/>
                    </a:lnTo>
                    <a:lnTo>
                      <a:pt x="1457" y="2264"/>
                    </a:lnTo>
                    <a:lnTo>
                      <a:pt x="1456" y="2298"/>
                    </a:lnTo>
                    <a:lnTo>
                      <a:pt x="1456" y="2332"/>
                    </a:lnTo>
                    <a:lnTo>
                      <a:pt x="1456" y="2366"/>
                    </a:lnTo>
                    <a:lnTo>
                      <a:pt x="1454" y="2401"/>
                    </a:lnTo>
                    <a:lnTo>
                      <a:pt x="1418" y="2401"/>
                    </a:lnTo>
                    <a:lnTo>
                      <a:pt x="1380" y="2401"/>
                    </a:lnTo>
                    <a:lnTo>
                      <a:pt x="1343" y="2402"/>
                    </a:lnTo>
                    <a:lnTo>
                      <a:pt x="1307" y="2402"/>
                    </a:lnTo>
                    <a:lnTo>
                      <a:pt x="1269" y="2402"/>
                    </a:lnTo>
                    <a:lnTo>
                      <a:pt x="1232" y="2402"/>
                    </a:lnTo>
                    <a:lnTo>
                      <a:pt x="1196" y="2402"/>
                    </a:lnTo>
                    <a:lnTo>
                      <a:pt x="1158" y="2402"/>
                    </a:lnTo>
                    <a:lnTo>
                      <a:pt x="1122" y="2403"/>
                    </a:lnTo>
                    <a:lnTo>
                      <a:pt x="1085" y="2403"/>
                    </a:lnTo>
                    <a:lnTo>
                      <a:pt x="1047" y="2403"/>
                    </a:lnTo>
                    <a:lnTo>
                      <a:pt x="1011" y="2403"/>
                    </a:lnTo>
                    <a:lnTo>
                      <a:pt x="974" y="2403"/>
                    </a:lnTo>
                    <a:lnTo>
                      <a:pt x="936" y="2405"/>
                    </a:lnTo>
                    <a:lnTo>
                      <a:pt x="900" y="2405"/>
                    </a:lnTo>
                    <a:lnTo>
                      <a:pt x="862" y="2405"/>
                    </a:lnTo>
                    <a:lnTo>
                      <a:pt x="826" y="2405"/>
                    </a:lnTo>
                    <a:lnTo>
                      <a:pt x="789" y="2405"/>
                    </a:lnTo>
                    <a:lnTo>
                      <a:pt x="751" y="2406"/>
                    </a:lnTo>
                    <a:lnTo>
                      <a:pt x="715" y="2406"/>
                    </a:lnTo>
                    <a:lnTo>
                      <a:pt x="677" y="2406"/>
                    </a:lnTo>
                    <a:lnTo>
                      <a:pt x="640" y="2406"/>
                    </a:lnTo>
                    <a:lnTo>
                      <a:pt x="604" y="2406"/>
                    </a:lnTo>
                    <a:lnTo>
                      <a:pt x="566" y="2406"/>
                    </a:lnTo>
                    <a:lnTo>
                      <a:pt x="530" y="2408"/>
                    </a:lnTo>
                    <a:lnTo>
                      <a:pt x="492" y="2408"/>
                    </a:lnTo>
                    <a:lnTo>
                      <a:pt x="455" y="2408"/>
                    </a:lnTo>
                    <a:lnTo>
                      <a:pt x="419" y="2408"/>
                    </a:lnTo>
                    <a:lnTo>
                      <a:pt x="381" y="2408"/>
                    </a:lnTo>
                    <a:lnTo>
                      <a:pt x="344" y="2409"/>
                    </a:lnTo>
                    <a:lnTo>
                      <a:pt x="307" y="2409"/>
                    </a:lnTo>
                    <a:lnTo>
                      <a:pt x="270" y="2409"/>
                    </a:lnTo>
                    <a:lnTo>
                      <a:pt x="254" y="2402"/>
                    </a:lnTo>
                    <a:lnTo>
                      <a:pt x="238" y="2395"/>
                    </a:lnTo>
                    <a:lnTo>
                      <a:pt x="221" y="2387"/>
                    </a:lnTo>
                    <a:lnTo>
                      <a:pt x="205" y="2380"/>
                    </a:lnTo>
                    <a:lnTo>
                      <a:pt x="189" y="2374"/>
                    </a:lnTo>
                    <a:lnTo>
                      <a:pt x="173" y="2367"/>
                    </a:lnTo>
                    <a:lnTo>
                      <a:pt x="156" y="2360"/>
                    </a:lnTo>
                    <a:lnTo>
                      <a:pt x="140" y="2353"/>
                    </a:lnTo>
                    <a:lnTo>
                      <a:pt x="124" y="2347"/>
                    </a:lnTo>
                    <a:lnTo>
                      <a:pt x="108" y="2339"/>
                    </a:lnTo>
                    <a:lnTo>
                      <a:pt x="92" y="2332"/>
                    </a:lnTo>
                    <a:lnTo>
                      <a:pt x="75" y="2325"/>
                    </a:lnTo>
                    <a:lnTo>
                      <a:pt x="59" y="2318"/>
                    </a:lnTo>
                    <a:lnTo>
                      <a:pt x="43" y="2312"/>
                    </a:lnTo>
                    <a:lnTo>
                      <a:pt x="27" y="2305"/>
                    </a:lnTo>
                    <a:lnTo>
                      <a:pt x="10" y="2298"/>
                    </a:lnTo>
                    <a:lnTo>
                      <a:pt x="9" y="2271"/>
                    </a:lnTo>
                    <a:lnTo>
                      <a:pt x="8" y="2244"/>
                    </a:lnTo>
                    <a:lnTo>
                      <a:pt x="6" y="2217"/>
                    </a:lnTo>
                    <a:lnTo>
                      <a:pt x="5" y="2189"/>
                    </a:lnTo>
                    <a:lnTo>
                      <a:pt x="9" y="2182"/>
                    </a:lnTo>
                    <a:lnTo>
                      <a:pt x="15" y="2174"/>
                    </a:lnTo>
                    <a:lnTo>
                      <a:pt x="19" y="2167"/>
                    </a:lnTo>
                    <a:lnTo>
                      <a:pt x="23" y="2159"/>
                    </a:lnTo>
                    <a:lnTo>
                      <a:pt x="17" y="2147"/>
                    </a:lnTo>
                    <a:lnTo>
                      <a:pt x="12" y="2133"/>
                    </a:lnTo>
                    <a:lnTo>
                      <a:pt x="5" y="2121"/>
                    </a:lnTo>
                    <a:lnTo>
                      <a:pt x="0" y="2107"/>
                    </a:lnTo>
                    <a:lnTo>
                      <a:pt x="1" y="1667"/>
                    </a:lnTo>
                    <a:lnTo>
                      <a:pt x="4" y="1228"/>
                    </a:lnTo>
                    <a:lnTo>
                      <a:pt x="5" y="787"/>
                    </a:lnTo>
                    <a:lnTo>
                      <a:pt x="6" y="348"/>
                    </a:lnTo>
                    <a:lnTo>
                      <a:pt x="6" y="341"/>
                    </a:lnTo>
                    <a:lnTo>
                      <a:pt x="6" y="333"/>
                    </a:lnTo>
                    <a:lnTo>
                      <a:pt x="6" y="326"/>
                    </a:lnTo>
                    <a:lnTo>
                      <a:pt x="6" y="318"/>
                    </a:lnTo>
                    <a:close/>
                  </a:path>
                </a:pathLst>
              </a:custGeom>
              <a:solidFill>
                <a:srgbClr val="e5e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28"/>
              <p:cNvSpPr/>
              <p:nvPr/>
            </p:nvSpPr>
            <p:spPr>
              <a:xfrm>
                <a:off x="754920" y="849240"/>
                <a:ext cx="1343880" cy="1771560"/>
              </a:xfrm>
              <a:custGeom>
                <a:avLst/>
                <a:gdLst>
                  <a:gd name="textAreaLeft" fmla="*/ 0 w 1343880"/>
                  <a:gd name="textAreaRight" fmla="*/ 1344240 w 1343880"/>
                  <a:gd name="textAreaTop" fmla="*/ 0 h 1771560"/>
                  <a:gd name="textAreaBottom" fmla="*/ 1771920 h 1771560"/>
                </a:gdLst>
                <a:ahLst/>
                <a:rect l="textAreaLeft" t="textAreaTop" r="textAreaRight" b="textAreaBottom"/>
                <a:pathLst>
                  <a:path w="1857" h="2391">
                    <a:moveTo>
                      <a:pt x="4" y="313"/>
                    </a:moveTo>
                    <a:lnTo>
                      <a:pt x="23" y="301"/>
                    </a:lnTo>
                    <a:lnTo>
                      <a:pt x="43" y="288"/>
                    </a:lnTo>
                    <a:lnTo>
                      <a:pt x="62" y="276"/>
                    </a:lnTo>
                    <a:lnTo>
                      <a:pt x="82" y="263"/>
                    </a:lnTo>
                    <a:lnTo>
                      <a:pt x="101" y="250"/>
                    </a:lnTo>
                    <a:lnTo>
                      <a:pt x="120" y="238"/>
                    </a:lnTo>
                    <a:lnTo>
                      <a:pt x="140" y="226"/>
                    </a:lnTo>
                    <a:lnTo>
                      <a:pt x="159" y="213"/>
                    </a:lnTo>
                    <a:lnTo>
                      <a:pt x="158" y="204"/>
                    </a:lnTo>
                    <a:lnTo>
                      <a:pt x="158" y="196"/>
                    </a:lnTo>
                    <a:lnTo>
                      <a:pt x="157" y="188"/>
                    </a:lnTo>
                    <a:lnTo>
                      <a:pt x="155" y="180"/>
                    </a:lnTo>
                    <a:lnTo>
                      <a:pt x="169" y="170"/>
                    </a:lnTo>
                    <a:lnTo>
                      <a:pt x="182" y="162"/>
                    </a:lnTo>
                    <a:lnTo>
                      <a:pt x="196" y="153"/>
                    </a:lnTo>
                    <a:lnTo>
                      <a:pt x="211" y="144"/>
                    </a:lnTo>
                    <a:lnTo>
                      <a:pt x="224" y="136"/>
                    </a:lnTo>
                    <a:lnTo>
                      <a:pt x="238" y="128"/>
                    </a:lnTo>
                    <a:lnTo>
                      <a:pt x="251" y="119"/>
                    </a:lnTo>
                    <a:lnTo>
                      <a:pt x="265" y="111"/>
                    </a:lnTo>
                    <a:lnTo>
                      <a:pt x="274" y="112"/>
                    </a:lnTo>
                    <a:lnTo>
                      <a:pt x="282" y="113"/>
                    </a:lnTo>
                    <a:lnTo>
                      <a:pt x="292" y="115"/>
                    </a:lnTo>
                    <a:lnTo>
                      <a:pt x="300" y="116"/>
                    </a:lnTo>
                    <a:lnTo>
                      <a:pt x="309" y="119"/>
                    </a:lnTo>
                    <a:lnTo>
                      <a:pt x="317" y="120"/>
                    </a:lnTo>
                    <a:lnTo>
                      <a:pt x="327" y="122"/>
                    </a:lnTo>
                    <a:lnTo>
                      <a:pt x="335" y="123"/>
                    </a:lnTo>
                    <a:lnTo>
                      <a:pt x="339" y="131"/>
                    </a:lnTo>
                    <a:lnTo>
                      <a:pt x="343" y="139"/>
                    </a:lnTo>
                    <a:lnTo>
                      <a:pt x="346" y="147"/>
                    </a:lnTo>
                    <a:lnTo>
                      <a:pt x="350" y="155"/>
                    </a:lnTo>
                    <a:lnTo>
                      <a:pt x="358" y="155"/>
                    </a:lnTo>
                    <a:lnTo>
                      <a:pt x="365" y="155"/>
                    </a:lnTo>
                    <a:lnTo>
                      <a:pt x="373" y="157"/>
                    </a:lnTo>
                    <a:lnTo>
                      <a:pt x="381" y="157"/>
                    </a:lnTo>
                    <a:lnTo>
                      <a:pt x="388" y="157"/>
                    </a:lnTo>
                    <a:lnTo>
                      <a:pt x="396" y="158"/>
                    </a:lnTo>
                    <a:lnTo>
                      <a:pt x="404" y="158"/>
                    </a:lnTo>
                    <a:lnTo>
                      <a:pt x="412" y="158"/>
                    </a:lnTo>
                    <a:lnTo>
                      <a:pt x="459" y="159"/>
                    </a:lnTo>
                    <a:lnTo>
                      <a:pt x="508" y="161"/>
                    </a:lnTo>
                    <a:lnTo>
                      <a:pt x="555" y="162"/>
                    </a:lnTo>
                    <a:lnTo>
                      <a:pt x="603" y="163"/>
                    </a:lnTo>
                    <a:lnTo>
                      <a:pt x="650" y="165"/>
                    </a:lnTo>
                    <a:lnTo>
                      <a:pt x="699" y="166"/>
                    </a:lnTo>
                    <a:lnTo>
                      <a:pt x="746" y="167"/>
                    </a:lnTo>
                    <a:lnTo>
                      <a:pt x="795" y="167"/>
                    </a:lnTo>
                    <a:lnTo>
                      <a:pt x="842" y="169"/>
                    </a:lnTo>
                    <a:lnTo>
                      <a:pt x="889" y="170"/>
                    </a:lnTo>
                    <a:lnTo>
                      <a:pt x="938" y="172"/>
                    </a:lnTo>
                    <a:lnTo>
                      <a:pt x="985" y="173"/>
                    </a:lnTo>
                    <a:lnTo>
                      <a:pt x="1033" y="174"/>
                    </a:lnTo>
                    <a:lnTo>
                      <a:pt x="1080" y="176"/>
                    </a:lnTo>
                    <a:lnTo>
                      <a:pt x="1129" y="177"/>
                    </a:lnTo>
                    <a:lnTo>
                      <a:pt x="1176" y="178"/>
                    </a:lnTo>
                    <a:lnTo>
                      <a:pt x="1181" y="173"/>
                    </a:lnTo>
                    <a:lnTo>
                      <a:pt x="1185" y="167"/>
                    </a:lnTo>
                    <a:lnTo>
                      <a:pt x="1189" y="161"/>
                    </a:lnTo>
                    <a:lnTo>
                      <a:pt x="1193" y="154"/>
                    </a:lnTo>
                    <a:lnTo>
                      <a:pt x="1212" y="154"/>
                    </a:lnTo>
                    <a:lnTo>
                      <a:pt x="1230" y="154"/>
                    </a:lnTo>
                    <a:lnTo>
                      <a:pt x="1249" y="154"/>
                    </a:lnTo>
                    <a:lnTo>
                      <a:pt x="1268" y="154"/>
                    </a:lnTo>
                    <a:lnTo>
                      <a:pt x="1285" y="154"/>
                    </a:lnTo>
                    <a:lnTo>
                      <a:pt x="1304" y="154"/>
                    </a:lnTo>
                    <a:lnTo>
                      <a:pt x="1322" y="154"/>
                    </a:lnTo>
                    <a:lnTo>
                      <a:pt x="1341" y="154"/>
                    </a:lnTo>
                    <a:lnTo>
                      <a:pt x="1354" y="146"/>
                    </a:lnTo>
                    <a:lnTo>
                      <a:pt x="1368" y="138"/>
                    </a:lnTo>
                    <a:lnTo>
                      <a:pt x="1381" y="130"/>
                    </a:lnTo>
                    <a:lnTo>
                      <a:pt x="1395" y="122"/>
                    </a:lnTo>
                    <a:lnTo>
                      <a:pt x="1408" y="113"/>
                    </a:lnTo>
                    <a:lnTo>
                      <a:pt x="1422" y="105"/>
                    </a:lnTo>
                    <a:lnTo>
                      <a:pt x="1435" y="97"/>
                    </a:lnTo>
                    <a:lnTo>
                      <a:pt x="1449" y="89"/>
                    </a:lnTo>
                    <a:lnTo>
                      <a:pt x="1462" y="81"/>
                    </a:lnTo>
                    <a:lnTo>
                      <a:pt x="1476" y="73"/>
                    </a:lnTo>
                    <a:lnTo>
                      <a:pt x="1489" y="65"/>
                    </a:lnTo>
                    <a:lnTo>
                      <a:pt x="1503" y="57"/>
                    </a:lnTo>
                    <a:lnTo>
                      <a:pt x="1516" y="49"/>
                    </a:lnTo>
                    <a:lnTo>
                      <a:pt x="1530" y="40"/>
                    </a:lnTo>
                    <a:lnTo>
                      <a:pt x="1544" y="32"/>
                    </a:lnTo>
                    <a:lnTo>
                      <a:pt x="1557" y="24"/>
                    </a:lnTo>
                    <a:lnTo>
                      <a:pt x="1566" y="24"/>
                    </a:lnTo>
                    <a:lnTo>
                      <a:pt x="1577" y="26"/>
                    </a:lnTo>
                    <a:lnTo>
                      <a:pt x="1587" y="26"/>
                    </a:lnTo>
                    <a:lnTo>
                      <a:pt x="1596" y="26"/>
                    </a:lnTo>
                    <a:lnTo>
                      <a:pt x="1607" y="27"/>
                    </a:lnTo>
                    <a:lnTo>
                      <a:pt x="1617" y="27"/>
                    </a:lnTo>
                    <a:lnTo>
                      <a:pt x="1626" y="28"/>
                    </a:lnTo>
                    <a:lnTo>
                      <a:pt x="1635" y="28"/>
                    </a:lnTo>
                    <a:lnTo>
                      <a:pt x="1645" y="24"/>
                    </a:lnTo>
                    <a:lnTo>
                      <a:pt x="1654" y="22"/>
                    </a:lnTo>
                    <a:lnTo>
                      <a:pt x="1664" y="17"/>
                    </a:lnTo>
                    <a:lnTo>
                      <a:pt x="1675" y="13"/>
                    </a:lnTo>
                    <a:lnTo>
                      <a:pt x="1684" y="11"/>
                    </a:lnTo>
                    <a:lnTo>
                      <a:pt x="1694" y="7"/>
                    </a:lnTo>
                    <a:lnTo>
                      <a:pt x="1703" y="4"/>
                    </a:lnTo>
                    <a:lnTo>
                      <a:pt x="1712" y="0"/>
                    </a:lnTo>
                    <a:lnTo>
                      <a:pt x="1723" y="0"/>
                    </a:lnTo>
                    <a:lnTo>
                      <a:pt x="1735" y="0"/>
                    </a:lnTo>
                    <a:lnTo>
                      <a:pt x="1746" y="0"/>
                    </a:lnTo>
                    <a:lnTo>
                      <a:pt x="1757" y="0"/>
                    </a:lnTo>
                    <a:lnTo>
                      <a:pt x="1768" y="1"/>
                    </a:lnTo>
                    <a:lnTo>
                      <a:pt x="1779" y="1"/>
                    </a:lnTo>
                    <a:lnTo>
                      <a:pt x="1790" y="1"/>
                    </a:lnTo>
                    <a:lnTo>
                      <a:pt x="1800" y="1"/>
                    </a:lnTo>
                    <a:lnTo>
                      <a:pt x="1800" y="157"/>
                    </a:lnTo>
                    <a:lnTo>
                      <a:pt x="1800" y="312"/>
                    </a:lnTo>
                    <a:lnTo>
                      <a:pt x="1800" y="468"/>
                    </a:lnTo>
                    <a:lnTo>
                      <a:pt x="1802" y="623"/>
                    </a:lnTo>
                    <a:lnTo>
                      <a:pt x="1811" y="645"/>
                    </a:lnTo>
                    <a:lnTo>
                      <a:pt x="1821" y="665"/>
                    </a:lnTo>
                    <a:lnTo>
                      <a:pt x="1831" y="686"/>
                    </a:lnTo>
                    <a:lnTo>
                      <a:pt x="1841" y="708"/>
                    </a:lnTo>
                    <a:lnTo>
                      <a:pt x="1845" y="745"/>
                    </a:lnTo>
                    <a:lnTo>
                      <a:pt x="1849" y="781"/>
                    </a:lnTo>
                    <a:lnTo>
                      <a:pt x="1853" y="818"/>
                    </a:lnTo>
                    <a:lnTo>
                      <a:pt x="1857" y="853"/>
                    </a:lnTo>
                    <a:lnTo>
                      <a:pt x="1857" y="939"/>
                    </a:lnTo>
                    <a:lnTo>
                      <a:pt x="1857" y="1024"/>
                    </a:lnTo>
                    <a:lnTo>
                      <a:pt x="1857" y="1109"/>
                    </a:lnTo>
                    <a:lnTo>
                      <a:pt x="1857" y="1195"/>
                    </a:lnTo>
                    <a:lnTo>
                      <a:pt x="1834" y="1326"/>
                    </a:lnTo>
                    <a:lnTo>
                      <a:pt x="1811" y="1455"/>
                    </a:lnTo>
                    <a:lnTo>
                      <a:pt x="1788" y="1587"/>
                    </a:lnTo>
                    <a:lnTo>
                      <a:pt x="1765" y="1716"/>
                    </a:lnTo>
                    <a:lnTo>
                      <a:pt x="1742" y="1847"/>
                    </a:lnTo>
                    <a:lnTo>
                      <a:pt x="1719" y="1979"/>
                    </a:lnTo>
                    <a:lnTo>
                      <a:pt x="1696" y="2108"/>
                    </a:lnTo>
                    <a:lnTo>
                      <a:pt x="1673" y="2239"/>
                    </a:lnTo>
                    <a:lnTo>
                      <a:pt x="1658" y="2237"/>
                    </a:lnTo>
                    <a:lnTo>
                      <a:pt x="1644" y="2234"/>
                    </a:lnTo>
                    <a:lnTo>
                      <a:pt x="1629" y="2230"/>
                    </a:lnTo>
                    <a:lnTo>
                      <a:pt x="1615" y="2227"/>
                    </a:lnTo>
                    <a:lnTo>
                      <a:pt x="1600" y="2225"/>
                    </a:lnTo>
                    <a:lnTo>
                      <a:pt x="1585" y="2222"/>
                    </a:lnTo>
                    <a:lnTo>
                      <a:pt x="1571" y="2219"/>
                    </a:lnTo>
                    <a:lnTo>
                      <a:pt x="1557" y="2215"/>
                    </a:lnTo>
                    <a:lnTo>
                      <a:pt x="1542" y="2212"/>
                    </a:lnTo>
                    <a:lnTo>
                      <a:pt x="1527" y="2210"/>
                    </a:lnTo>
                    <a:lnTo>
                      <a:pt x="1512" y="2207"/>
                    </a:lnTo>
                    <a:lnTo>
                      <a:pt x="1498" y="2204"/>
                    </a:lnTo>
                    <a:lnTo>
                      <a:pt x="1484" y="2202"/>
                    </a:lnTo>
                    <a:lnTo>
                      <a:pt x="1469" y="2197"/>
                    </a:lnTo>
                    <a:lnTo>
                      <a:pt x="1454" y="2195"/>
                    </a:lnTo>
                    <a:lnTo>
                      <a:pt x="1439" y="2192"/>
                    </a:lnTo>
                    <a:lnTo>
                      <a:pt x="1434" y="2199"/>
                    </a:lnTo>
                    <a:lnTo>
                      <a:pt x="1427" y="2206"/>
                    </a:lnTo>
                    <a:lnTo>
                      <a:pt x="1422" y="2211"/>
                    </a:lnTo>
                    <a:lnTo>
                      <a:pt x="1415" y="2218"/>
                    </a:lnTo>
                    <a:lnTo>
                      <a:pt x="1422" y="2225"/>
                    </a:lnTo>
                    <a:lnTo>
                      <a:pt x="1429" y="2231"/>
                    </a:lnTo>
                    <a:lnTo>
                      <a:pt x="1435" y="2238"/>
                    </a:lnTo>
                    <a:lnTo>
                      <a:pt x="1442" y="2246"/>
                    </a:lnTo>
                    <a:lnTo>
                      <a:pt x="1441" y="2280"/>
                    </a:lnTo>
                    <a:lnTo>
                      <a:pt x="1441" y="2315"/>
                    </a:lnTo>
                    <a:lnTo>
                      <a:pt x="1441" y="2349"/>
                    </a:lnTo>
                    <a:lnTo>
                      <a:pt x="1439" y="2384"/>
                    </a:lnTo>
                    <a:lnTo>
                      <a:pt x="1403" y="2384"/>
                    </a:lnTo>
                    <a:lnTo>
                      <a:pt x="1366" y="2384"/>
                    </a:lnTo>
                    <a:lnTo>
                      <a:pt x="1330" y="2385"/>
                    </a:lnTo>
                    <a:lnTo>
                      <a:pt x="1293" y="2385"/>
                    </a:lnTo>
                    <a:lnTo>
                      <a:pt x="1257" y="2385"/>
                    </a:lnTo>
                    <a:lnTo>
                      <a:pt x="1220" y="2385"/>
                    </a:lnTo>
                    <a:lnTo>
                      <a:pt x="1184" y="2385"/>
                    </a:lnTo>
                    <a:lnTo>
                      <a:pt x="1147" y="2385"/>
                    </a:lnTo>
                    <a:lnTo>
                      <a:pt x="1111" y="2387"/>
                    </a:lnTo>
                    <a:lnTo>
                      <a:pt x="1074" y="2387"/>
                    </a:lnTo>
                    <a:lnTo>
                      <a:pt x="1038" y="2387"/>
                    </a:lnTo>
                    <a:lnTo>
                      <a:pt x="1001" y="2387"/>
                    </a:lnTo>
                    <a:lnTo>
                      <a:pt x="965" y="2387"/>
                    </a:lnTo>
                    <a:lnTo>
                      <a:pt x="928" y="2388"/>
                    </a:lnTo>
                    <a:lnTo>
                      <a:pt x="891" y="2388"/>
                    </a:lnTo>
                    <a:lnTo>
                      <a:pt x="854" y="2388"/>
                    </a:lnTo>
                    <a:lnTo>
                      <a:pt x="818" y="2388"/>
                    </a:lnTo>
                    <a:lnTo>
                      <a:pt x="781" y="2388"/>
                    </a:lnTo>
                    <a:lnTo>
                      <a:pt x="745" y="2388"/>
                    </a:lnTo>
                    <a:lnTo>
                      <a:pt x="708" y="2389"/>
                    </a:lnTo>
                    <a:lnTo>
                      <a:pt x="672" y="2389"/>
                    </a:lnTo>
                    <a:lnTo>
                      <a:pt x="635" y="2389"/>
                    </a:lnTo>
                    <a:lnTo>
                      <a:pt x="599" y="2389"/>
                    </a:lnTo>
                    <a:lnTo>
                      <a:pt x="562" y="2389"/>
                    </a:lnTo>
                    <a:lnTo>
                      <a:pt x="526" y="2389"/>
                    </a:lnTo>
                    <a:lnTo>
                      <a:pt x="489" y="2389"/>
                    </a:lnTo>
                    <a:lnTo>
                      <a:pt x="451" y="2389"/>
                    </a:lnTo>
                    <a:lnTo>
                      <a:pt x="415" y="2391"/>
                    </a:lnTo>
                    <a:lnTo>
                      <a:pt x="378" y="2391"/>
                    </a:lnTo>
                    <a:lnTo>
                      <a:pt x="342" y="2391"/>
                    </a:lnTo>
                    <a:lnTo>
                      <a:pt x="305" y="2391"/>
                    </a:lnTo>
                    <a:lnTo>
                      <a:pt x="269" y="2391"/>
                    </a:lnTo>
                    <a:lnTo>
                      <a:pt x="253" y="2384"/>
                    </a:lnTo>
                    <a:lnTo>
                      <a:pt x="236" y="2377"/>
                    </a:lnTo>
                    <a:lnTo>
                      <a:pt x="220" y="2370"/>
                    </a:lnTo>
                    <a:lnTo>
                      <a:pt x="204" y="2364"/>
                    </a:lnTo>
                    <a:lnTo>
                      <a:pt x="188" y="2357"/>
                    </a:lnTo>
                    <a:lnTo>
                      <a:pt x="171" y="2350"/>
                    </a:lnTo>
                    <a:lnTo>
                      <a:pt x="155" y="2343"/>
                    </a:lnTo>
                    <a:lnTo>
                      <a:pt x="139" y="2335"/>
                    </a:lnTo>
                    <a:lnTo>
                      <a:pt x="123" y="2329"/>
                    </a:lnTo>
                    <a:lnTo>
                      <a:pt x="107" y="2322"/>
                    </a:lnTo>
                    <a:lnTo>
                      <a:pt x="90" y="2315"/>
                    </a:lnTo>
                    <a:lnTo>
                      <a:pt x="74" y="2308"/>
                    </a:lnTo>
                    <a:lnTo>
                      <a:pt x="58" y="2302"/>
                    </a:lnTo>
                    <a:lnTo>
                      <a:pt x="42" y="2295"/>
                    </a:lnTo>
                    <a:lnTo>
                      <a:pt x="25" y="2288"/>
                    </a:lnTo>
                    <a:lnTo>
                      <a:pt x="9" y="2281"/>
                    </a:lnTo>
                    <a:lnTo>
                      <a:pt x="8" y="2256"/>
                    </a:lnTo>
                    <a:lnTo>
                      <a:pt x="7" y="2229"/>
                    </a:lnTo>
                    <a:lnTo>
                      <a:pt x="5" y="2203"/>
                    </a:lnTo>
                    <a:lnTo>
                      <a:pt x="4" y="2177"/>
                    </a:lnTo>
                    <a:lnTo>
                      <a:pt x="8" y="2170"/>
                    </a:lnTo>
                    <a:lnTo>
                      <a:pt x="12" y="2162"/>
                    </a:lnTo>
                    <a:lnTo>
                      <a:pt x="16" y="2156"/>
                    </a:lnTo>
                    <a:lnTo>
                      <a:pt x="21" y="2149"/>
                    </a:lnTo>
                    <a:lnTo>
                      <a:pt x="16" y="2138"/>
                    </a:lnTo>
                    <a:lnTo>
                      <a:pt x="11" y="2126"/>
                    </a:lnTo>
                    <a:lnTo>
                      <a:pt x="5" y="2114"/>
                    </a:lnTo>
                    <a:lnTo>
                      <a:pt x="0" y="2103"/>
                    </a:lnTo>
                    <a:lnTo>
                      <a:pt x="1" y="1662"/>
                    </a:lnTo>
                    <a:lnTo>
                      <a:pt x="2" y="1222"/>
                    </a:lnTo>
                    <a:lnTo>
                      <a:pt x="2" y="782"/>
                    </a:lnTo>
                    <a:lnTo>
                      <a:pt x="4" y="342"/>
                    </a:lnTo>
                    <a:lnTo>
                      <a:pt x="4" y="335"/>
                    </a:lnTo>
                    <a:lnTo>
                      <a:pt x="4" y="327"/>
                    </a:lnTo>
                    <a:lnTo>
                      <a:pt x="4" y="320"/>
                    </a:lnTo>
                    <a:lnTo>
                      <a:pt x="4" y="313"/>
                    </a:lnTo>
                    <a:close/>
                  </a:path>
                </a:pathLst>
              </a:custGeom>
              <a:solidFill>
                <a:srgbClr val="f2f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29"/>
              <p:cNvSpPr/>
              <p:nvPr/>
            </p:nvSpPr>
            <p:spPr>
              <a:xfrm>
                <a:off x="761040" y="856440"/>
                <a:ext cx="1333440" cy="17586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1758600"/>
                  <a:gd name="textAreaBottom" fmla="*/ 1758960 h 1758600"/>
                </a:gdLst>
                <a:ahLst/>
                <a:rect l="textAreaLeft" t="textAreaTop" r="textAreaRight" b="textAreaBottom"/>
                <a:pathLst>
                  <a:path w="1843" h="2375">
                    <a:moveTo>
                      <a:pt x="2" y="308"/>
                    </a:moveTo>
                    <a:lnTo>
                      <a:pt x="159" y="208"/>
                    </a:lnTo>
                    <a:lnTo>
                      <a:pt x="155" y="175"/>
                    </a:lnTo>
                    <a:lnTo>
                      <a:pt x="255" y="107"/>
                    </a:lnTo>
                    <a:lnTo>
                      <a:pt x="325" y="119"/>
                    </a:lnTo>
                    <a:lnTo>
                      <a:pt x="339" y="152"/>
                    </a:lnTo>
                    <a:lnTo>
                      <a:pt x="402" y="153"/>
                    </a:lnTo>
                    <a:lnTo>
                      <a:pt x="1177" y="177"/>
                    </a:lnTo>
                    <a:lnTo>
                      <a:pt x="1193" y="153"/>
                    </a:lnTo>
                    <a:lnTo>
                      <a:pt x="1334" y="154"/>
                    </a:lnTo>
                    <a:lnTo>
                      <a:pt x="1554" y="22"/>
                    </a:lnTo>
                    <a:lnTo>
                      <a:pt x="1628" y="27"/>
                    </a:lnTo>
                    <a:lnTo>
                      <a:pt x="1704" y="0"/>
                    </a:lnTo>
                    <a:lnTo>
                      <a:pt x="1788" y="0"/>
                    </a:lnTo>
                    <a:lnTo>
                      <a:pt x="1788" y="622"/>
                    </a:lnTo>
                    <a:lnTo>
                      <a:pt x="1827" y="706"/>
                    </a:lnTo>
                    <a:lnTo>
                      <a:pt x="1843" y="852"/>
                    </a:lnTo>
                    <a:lnTo>
                      <a:pt x="1843" y="1219"/>
                    </a:lnTo>
                    <a:lnTo>
                      <a:pt x="1668" y="2222"/>
                    </a:lnTo>
                    <a:lnTo>
                      <a:pt x="1426" y="2176"/>
                    </a:lnTo>
                    <a:lnTo>
                      <a:pt x="1400" y="2203"/>
                    </a:lnTo>
                    <a:lnTo>
                      <a:pt x="1428" y="2229"/>
                    </a:lnTo>
                    <a:lnTo>
                      <a:pt x="1426" y="2368"/>
                    </a:lnTo>
                    <a:lnTo>
                      <a:pt x="270" y="2375"/>
                    </a:lnTo>
                    <a:lnTo>
                      <a:pt x="8" y="2264"/>
                    </a:lnTo>
                    <a:lnTo>
                      <a:pt x="4" y="2166"/>
                    </a:lnTo>
                    <a:lnTo>
                      <a:pt x="20" y="2140"/>
                    </a:lnTo>
                    <a:lnTo>
                      <a:pt x="0" y="2098"/>
                    </a:lnTo>
                    <a:lnTo>
                      <a:pt x="2" y="337"/>
                    </a:lnTo>
                    <a:lnTo>
                      <a:pt x="2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0"/>
              <p:cNvSpPr/>
              <p:nvPr/>
            </p:nvSpPr>
            <p:spPr>
              <a:xfrm>
                <a:off x="2009160" y="886320"/>
                <a:ext cx="69480" cy="15742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574280"/>
                  <a:gd name="textAreaBottom" fmla="*/ 1574640 h 1574280"/>
                </a:gdLst>
                <a:ahLst/>
                <a:rect l="textAreaLeft" t="textAreaTop" r="textAreaRight" b="textAreaBottom"/>
                <a:pathLst>
                  <a:path w="96" h="2126">
                    <a:moveTo>
                      <a:pt x="24" y="0"/>
                    </a:moveTo>
                    <a:lnTo>
                      <a:pt x="40" y="0"/>
                    </a:lnTo>
                    <a:lnTo>
                      <a:pt x="40" y="585"/>
                    </a:lnTo>
                    <a:lnTo>
                      <a:pt x="55" y="642"/>
                    </a:lnTo>
                    <a:lnTo>
                      <a:pt x="71" y="674"/>
                    </a:lnTo>
                    <a:lnTo>
                      <a:pt x="81" y="715"/>
                    </a:lnTo>
                    <a:lnTo>
                      <a:pt x="89" y="766"/>
                    </a:lnTo>
                    <a:lnTo>
                      <a:pt x="92" y="828"/>
                    </a:lnTo>
                    <a:lnTo>
                      <a:pt x="94" y="905"/>
                    </a:lnTo>
                    <a:lnTo>
                      <a:pt x="94" y="1000"/>
                    </a:lnTo>
                    <a:lnTo>
                      <a:pt x="94" y="1112"/>
                    </a:lnTo>
                    <a:lnTo>
                      <a:pt x="96" y="1245"/>
                    </a:lnTo>
                    <a:lnTo>
                      <a:pt x="50" y="1478"/>
                    </a:lnTo>
                    <a:lnTo>
                      <a:pt x="50" y="2126"/>
                    </a:lnTo>
                    <a:lnTo>
                      <a:pt x="0" y="2126"/>
                    </a:lnTo>
                    <a:lnTo>
                      <a:pt x="19" y="1455"/>
                    </a:lnTo>
                    <a:lnTo>
                      <a:pt x="61" y="1245"/>
                    </a:lnTo>
                    <a:lnTo>
                      <a:pt x="65" y="1138"/>
                    </a:lnTo>
                    <a:lnTo>
                      <a:pt x="66" y="1042"/>
                    </a:lnTo>
                    <a:lnTo>
                      <a:pt x="67" y="955"/>
                    </a:lnTo>
                    <a:lnTo>
                      <a:pt x="65" y="877"/>
                    </a:lnTo>
                    <a:lnTo>
                      <a:pt x="58" y="804"/>
                    </a:lnTo>
                    <a:lnTo>
                      <a:pt x="48" y="736"/>
                    </a:lnTo>
                    <a:lnTo>
                      <a:pt x="32" y="672"/>
                    </a:lnTo>
                    <a:lnTo>
                      <a:pt x="11" y="608"/>
                    </a:lnTo>
                    <a:lnTo>
                      <a:pt x="15" y="516"/>
                    </a:lnTo>
                    <a:lnTo>
                      <a:pt x="23" y="311"/>
                    </a:lnTo>
                    <a:lnTo>
                      <a:pt x="28" y="10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31"/>
              <p:cNvSpPr/>
              <p:nvPr/>
            </p:nvSpPr>
            <p:spPr>
              <a:xfrm>
                <a:off x="882360" y="957240"/>
                <a:ext cx="106920" cy="8712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87120"/>
                  <a:gd name="textAreaBottom" fmla="*/ 87120 h 87120"/>
                </a:gdLst>
                <a:ahLst/>
                <a:rect l="textAreaLeft" t="textAreaTop" r="textAreaRight" b="textAreaBottom"/>
                <a:pathLst>
                  <a:path w="149" h="119">
                    <a:moveTo>
                      <a:pt x="11" y="83"/>
                    </a:moveTo>
                    <a:lnTo>
                      <a:pt x="11" y="55"/>
                    </a:lnTo>
                    <a:lnTo>
                      <a:pt x="83" y="6"/>
                    </a:lnTo>
                    <a:lnTo>
                      <a:pt x="114" y="0"/>
                    </a:lnTo>
                    <a:lnTo>
                      <a:pt x="149" y="10"/>
                    </a:lnTo>
                    <a:lnTo>
                      <a:pt x="149" y="34"/>
                    </a:lnTo>
                    <a:lnTo>
                      <a:pt x="107" y="41"/>
                    </a:lnTo>
                    <a:lnTo>
                      <a:pt x="1" y="119"/>
                    </a:lnTo>
                    <a:lnTo>
                      <a:pt x="1" y="113"/>
                    </a:lnTo>
                    <a:lnTo>
                      <a:pt x="0" y="98"/>
                    </a:lnTo>
                    <a:lnTo>
                      <a:pt x="3" y="84"/>
                    </a:lnTo>
                    <a:lnTo>
                      <a:pt x="11" y="83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32"/>
              <p:cNvSpPr/>
              <p:nvPr/>
            </p:nvSpPr>
            <p:spPr>
              <a:xfrm>
                <a:off x="1608480" y="988560"/>
                <a:ext cx="138600" cy="4284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2" h="60">
                    <a:moveTo>
                      <a:pt x="22" y="31"/>
                    </a:moveTo>
                    <a:lnTo>
                      <a:pt x="35" y="10"/>
                    </a:lnTo>
                    <a:lnTo>
                      <a:pt x="192" y="0"/>
                    </a:lnTo>
                    <a:lnTo>
                      <a:pt x="165" y="21"/>
                    </a:lnTo>
                    <a:lnTo>
                      <a:pt x="63" y="21"/>
                    </a:lnTo>
                    <a:lnTo>
                      <a:pt x="39" y="60"/>
                    </a:lnTo>
                    <a:lnTo>
                      <a:pt x="0" y="60"/>
                    </a:lnTo>
                    <a:lnTo>
                      <a:pt x="4" y="54"/>
                    </a:lnTo>
                    <a:lnTo>
                      <a:pt x="11" y="44"/>
                    </a:lnTo>
                    <a:lnTo>
                      <a:pt x="19" y="34"/>
                    </a:lnTo>
                    <a:lnTo>
                      <a:pt x="22" y="31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33"/>
              <p:cNvSpPr/>
              <p:nvPr/>
            </p:nvSpPr>
            <p:spPr>
              <a:xfrm>
                <a:off x="785520" y="881640"/>
                <a:ext cx="1244880" cy="1695960"/>
              </a:xfrm>
              <a:custGeom>
                <a:avLst/>
                <a:gdLst>
                  <a:gd name="textAreaLeft" fmla="*/ 0 w 1244880"/>
                  <a:gd name="textAreaRight" fmla="*/ 1245240 w 1244880"/>
                  <a:gd name="textAreaTop" fmla="*/ 0 h 1695960"/>
                  <a:gd name="textAreaBottom" fmla="*/ 1696320 h 1695960"/>
                </a:gdLst>
                <a:ahLst/>
                <a:rect l="textAreaLeft" t="textAreaTop" r="textAreaRight" b="textAreaBottom"/>
                <a:pathLst>
                  <a:path w="1721" h="2290">
                    <a:moveTo>
                      <a:pt x="43" y="252"/>
                    </a:moveTo>
                    <a:lnTo>
                      <a:pt x="202" y="138"/>
                    </a:lnTo>
                    <a:lnTo>
                      <a:pt x="1188" y="174"/>
                    </a:lnTo>
                    <a:lnTo>
                      <a:pt x="1245" y="189"/>
                    </a:lnTo>
                    <a:lnTo>
                      <a:pt x="1487" y="42"/>
                    </a:lnTo>
                    <a:lnTo>
                      <a:pt x="1535" y="31"/>
                    </a:lnTo>
                    <a:lnTo>
                      <a:pt x="1660" y="15"/>
                    </a:lnTo>
                    <a:lnTo>
                      <a:pt x="1680" y="0"/>
                    </a:lnTo>
                    <a:lnTo>
                      <a:pt x="1718" y="0"/>
                    </a:lnTo>
                    <a:lnTo>
                      <a:pt x="1721" y="2152"/>
                    </a:lnTo>
                    <a:lnTo>
                      <a:pt x="1629" y="2159"/>
                    </a:lnTo>
                    <a:lnTo>
                      <a:pt x="1285" y="2107"/>
                    </a:lnTo>
                    <a:lnTo>
                      <a:pt x="1287" y="2109"/>
                    </a:lnTo>
                    <a:lnTo>
                      <a:pt x="1227" y="2099"/>
                    </a:lnTo>
                    <a:lnTo>
                      <a:pt x="1227" y="2160"/>
                    </a:lnTo>
                    <a:lnTo>
                      <a:pt x="1299" y="2160"/>
                    </a:lnTo>
                    <a:lnTo>
                      <a:pt x="1299" y="2283"/>
                    </a:lnTo>
                    <a:lnTo>
                      <a:pt x="242" y="2290"/>
                    </a:lnTo>
                    <a:lnTo>
                      <a:pt x="0" y="2192"/>
                    </a:lnTo>
                    <a:lnTo>
                      <a:pt x="0" y="2138"/>
                    </a:lnTo>
                    <a:lnTo>
                      <a:pt x="8" y="2133"/>
                    </a:lnTo>
                    <a:lnTo>
                      <a:pt x="9" y="2117"/>
                    </a:lnTo>
                    <a:lnTo>
                      <a:pt x="0" y="2109"/>
                    </a:lnTo>
                    <a:lnTo>
                      <a:pt x="0" y="280"/>
                    </a:lnTo>
                    <a:lnTo>
                      <a:pt x="43" y="252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34"/>
              <p:cNvSpPr/>
              <p:nvPr/>
            </p:nvSpPr>
            <p:spPr>
              <a:xfrm>
                <a:off x="788040" y="2435760"/>
                <a:ext cx="983520" cy="164520"/>
              </a:xfrm>
              <a:custGeom>
                <a:avLst/>
                <a:gdLst>
                  <a:gd name="textAreaLeft" fmla="*/ 0 w 983520"/>
                  <a:gd name="textAreaRight" fmla="*/ 983880 w 9835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358" h="221">
                    <a:moveTo>
                      <a:pt x="1345" y="11"/>
                    </a:moveTo>
                    <a:lnTo>
                      <a:pt x="1287" y="0"/>
                    </a:lnTo>
                    <a:lnTo>
                      <a:pt x="1287" y="61"/>
                    </a:lnTo>
                    <a:lnTo>
                      <a:pt x="1358" y="104"/>
                    </a:lnTo>
                    <a:lnTo>
                      <a:pt x="1358" y="184"/>
                    </a:lnTo>
                    <a:lnTo>
                      <a:pt x="247" y="221"/>
                    </a:lnTo>
                    <a:lnTo>
                      <a:pt x="0" y="111"/>
                    </a:lnTo>
                    <a:lnTo>
                      <a:pt x="0" y="34"/>
                    </a:lnTo>
                    <a:lnTo>
                      <a:pt x="9" y="27"/>
                    </a:lnTo>
                    <a:lnTo>
                      <a:pt x="9" y="9"/>
                    </a:lnTo>
                    <a:lnTo>
                      <a:pt x="0" y="1"/>
                    </a:lnTo>
                    <a:lnTo>
                      <a:pt x="1345" y="11"/>
                    </a:lnTo>
                    <a:close/>
                  </a:path>
                </a:pathLst>
              </a:custGeom>
              <a:solidFill>
                <a:srgbClr val="1c2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35"/>
              <p:cNvSpPr/>
              <p:nvPr/>
            </p:nvSpPr>
            <p:spPr>
              <a:xfrm>
                <a:off x="948960" y="2494800"/>
                <a:ext cx="825840" cy="103680"/>
              </a:xfrm>
              <a:custGeom>
                <a:avLst/>
                <a:gdLst>
                  <a:gd name="textAreaLeft" fmla="*/ 0 w 825840"/>
                  <a:gd name="textAreaRight" fmla="*/ 826200 w 8258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143" h="139">
                    <a:moveTo>
                      <a:pt x="0" y="139"/>
                    </a:moveTo>
                    <a:lnTo>
                      <a:pt x="2" y="28"/>
                    </a:lnTo>
                    <a:lnTo>
                      <a:pt x="106" y="34"/>
                    </a:lnTo>
                    <a:lnTo>
                      <a:pt x="125" y="5"/>
                    </a:lnTo>
                    <a:lnTo>
                      <a:pt x="1005" y="0"/>
                    </a:lnTo>
                    <a:lnTo>
                      <a:pt x="1014" y="30"/>
                    </a:lnTo>
                    <a:lnTo>
                      <a:pt x="1137" y="24"/>
                    </a:lnTo>
                    <a:lnTo>
                      <a:pt x="1143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6"/>
              <p:cNvSpPr/>
              <p:nvPr/>
            </p:nvSpPr>
            <p:spPr>
              <a:xfrm>
                <a:off x="1094760" y="2514600"/>
                <a:ext cx="556920" cy="20520"/>
              </a:xfrm>
              <a:custGeom>
                <a:avLst/>
                <a:gdLst>
                  <a:gd name="textAreaLeft" fmla="*/ 0 w 556920"/>
                  <a:gd name="textAreaRight" fmla="*/ 557280 w 5569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70" h="28">
                    <a:moveTo>
                      <a:pt x="0" y="14"/>
                    </a:moveTo>
                    <a:lnTo>
                      <a:pt x="770" y="0"/>
                    </a:lnTo>
                    <a:lnTo>
                      <a:pt x="762" y="19"/>
                    </a:lnTo>
                    <a:lnTo>
                      <a:pt x="23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c2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7"/>
              <p:cNvSpPr/>
              <p:nvPr/>
            </p:nvSpPr>
            <p:spPr>
              <a:xfrm>
                <a:off x="1011240" y="2539800"/>
                <a:ext cx="734760" cy="23400"/>
              </a:xfrm>
              <a:custGeom>
                <a:avLst/>
                <a:gdLst>
                  <a:gd name="textAreaLeft" fmla="*/ 0 w 734760"/>
                  <a:gd name="textAreaRight" fmla="*/ 735120 w 7347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15" h="31">
                    <a:moveTo>
                      <a:pt x="0" y="12"/>
                    </a:moveTo>
                    <a:lnTo>
                      <a:pt x="1015" y="0"/>
                    </a:lnTo>
                    <a:lnTo>
                      <a:pt x="984" y="22"/>
                    </a:lnTo>
                    <a:lnTo>
                      <a:pt x="9" y="3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c2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38"/>
              <p:cNvSpPr/>
              <p:nvPr/>
            </p:nvSpPr>
            <p:spPr>
              <a:xfrm>
                <a:off x="1215000" y="991440"/>
                <a:ext cx="480240" cy="1469160"/>
              </a:xfrm>
              <a:custGeom>
                <a:avLst/>
                <a:gdLst>
                  <a:gd name="textAreaLeft" fmla="*/ 0 w 480240"/>
                  <a:gd name="textAreaRight" fmla="*/ 480600 w 480240"/>
                  <a:gd name="textAreaTop" fmla="*/ 0 h 1469160"/>
                  <a:gd name="textAreaBottom" fmla="*/ 1469520 h 1469160"/>
                </a:gdLst>
                <a:ahLst/>
                <a:rect l="textAreaLeft" t="textAreaTop" r="textAreaRight" b="textAreaBottom"/>
                <a:pathLst>
                  <a:path w="664" h="1983">
                    <a:moveTo>
                      <a:pt x="1" y="0"/>
                    </a:moveTo>
                    <a:lnTo>
                      <a:pt x="0" y="1973"/>
                    </a:lnTo>
                    <a:lnTo>
                      <a:pt x="73" y="1978"/>
                    </a:lnTo>
                    <a:lnTo>
                      <a:pt x="131" y="1981"/>
                    </a:lnTo>
                    <a:lnTo>
                      <a:pt x="427" y="1983"/>
                    </a:lnTo>
                    <a:lnTo>
                      <a:pt x="630" y="1983"/>
                    </a:lnTo>
                    <a:lnTo>
                      <a:pt x="657" y="1964"/>
                    </a:lnTo>
                    <a:lnTo>
                      <a:pt x="664" y="2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9"/>
              <p:cNvSpPr/>
              <p:nvPr/>
            </p:nvSpPr>
            <p:spPr>
              <a:xfrm>
                <a:off x="1216440" y="991440"/>
                <a:ext cx="458280" cy="1397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1397880"/>
                  <a:gd name="textAreaBottom" fmla="*/ 1398240 h 1397880"/>
                </a:gdLst>
                <a:ahLst/>
                <a:rect l="textAreaLeft" t="textAreaTop" r="textAreaRight" b="textAreaBottom"/>
                <a:pathLst>
                  <a:path w="634" h="1887">
                    <a:moveTo>
                      <a:pt x="0" y="0"/>
                    </a:moveTo>
                    <a:lnTo>
                      <a:pt x="0" y="470"/>
                    </a:lnTo>
                    <a:lnTo>
                      <a:pt x="0" y="939"/>
                    </a:lnTo>
                    <a:lnTo>
                      <a:pt x="0" y="1409"/>
                    </a:lnTo>
                    <a:lnTo>
                      <a:pt x="0" y="1880"/>
                    </a:lnTo>
                    <a:lnTo>
                      <a:pt x="9" y="1880"/>
                    </a:lnTo>
                    <a:lnTo>
                      <a:pt x="18" y="1881"/>
                    </a:lnTo>
                    <a:lnTo>
                      <a:pt x="26" y="1881"/>
                    </a:lnTo>
                    <a:lnTo>
                      <a:pt x="36" y="1882"/>
                    </a:lnTo>
                    <a:lnTo>
                      <a:pt x="45" y="1884"/>
                    </a:lnTo>
                    <a:lnTo>
                      <a:pt x="53" y="1884"/>
                    </a:lnTo>
                    <a:lnTo>
                      <a:pt x="63" y="1885"/>
                    </a:lnTo>
                    <a:lnTo>
                      <a:pt x="71" y="1885"/>
                    </a:lnTo>
                    <a:lnTo>
                      <a:pt x="78" y="1885"/>
                    </a:lnTo>
                    <a:lnTo>
                      <a:pt x="84" y="1885"/>
                    </a:lnTo>
                    <a:lnTo>
                      <a:pt x="91" y="1885"/>
                    </a:lnTo>
                    <a:lnTo>
                      <a:pt x="98" y="1885"/>
                    </a:lnTo>
                    <a:lnTo>
                      <a:pt x="105" y="1885"/>
                    </a:lnTo>
                    <a:lnTo>
                      <a:pt x="111" y="1885"/>
                    </a:lnTo>
                    <a:lnTo>
                      <a:pt x="118" y="1885"/>
                    </a:lnTo>
                    <a:lnTo>
                      <a:pt x="125" y="1885"/>
                    </a:lnTo>
                    <a:lnTo>
                      <a:pt x="142" y="1885"/>
                    </a:lnTo>
                    <a:lnTo>
                      <a:pt x="161" y="1885"/>
                    </a:lnTo>
                    <a:lnTo>
                      <a:pt x="179" y="1885"/>
                    </a:lnTo>
                    <a:lnTo>
                      <a:pt x="196" y="1885"/>
                    </a:lnTo>
                    <a:lnTo>
                      <a:pt x="215" y="1885"/>
                    </a:lnTo>
                    <a:lnTo>
                      <a:pt x="233" y="1885"/>
                    </a:lnTo>
                    <a:lnTo>
                      <a:pt x="252" y="1885"/>
                    </a:lnTo>
                    <a:lnTo>
                      <a:pt x="269" y="1885"/>
                    </a:lnTo>
                    <a:lnTo>
                      <a:pt x="288" y="1885"/>
                    </a:lnTo>
                    <a:lnTo>
                      <a:pt x="306" y="1885"/>
                    </a:lnTo>
                    <a:lnTo>
                      <a:pt x="325" y="1885"/>
                    </a:lnTo>
                    <a:lnTo>
                      <a:pt x="342" y="1885"/>
                    </a:lnTo>
                    <a:lnTo>
                      <a:pt x="361" y="1884"/>
                    </a:lnTo>
                    <a:lnTo>
                      <a:pt x="380" y="1884"/>
                    </a:lnTo>
                    <a:lnTo>
                      <a:pt x="398" y="1884"/>
                    </a:lnTo>
                    <a:lnTo>
                      <a:pt x="417" y="1884"/>
                    </a:lnTo>
                    <a:lnTo>
                      <a:pt x="440" y="1884"/>
                    </a:lnTo>
                    <a:lnTo>
                      <a:pt x="461" y="1885"/>
                    </a:lnTo>
                    <a:lnTo>
                      <a:pt x="484" y="1885"/>
                    </a:lnTo>
                    <a:lnTo>
                      <a:pt x="507" y="1885"/>
                    </a:lnTo>
                    <a:lnTo>
                      <a:pt x="530" y="1887"/>
                    </a:lnTo>
                    <a:lnTo>
                      <a:pt x="553" y="1887"/>
                    </a:lnTo>
                    <a:lnTo>
                      <a:pt x="576" y="1887"/>
                    </a:lnTo>
                    <a:lnTo>
                      <a:pt x="599" y="1887"/>
                    </a:lnTo>
                    <a:lnTo>
                      <a:pt x="607" y="1882"/>
                    </a:lnTo>
                    <a:lnTo>
                      <a:pt x="614" y="1877"/>
                    </a:lnTo>
                    <a:lnTo>
                      <a:pt x="622" y="1873"/>
                    </a:lnTo>
                    <a:lnTo>
                      <a:pt x="629" y="1869"/>
                    </a:lnTo>
                    <a:lnTo>
                      <a:pt x="630" y="1407"/>
                    </a:lnTo>
                    <a:lnTo>
                      <a:pt x="632" y="946"/>
                    </a:lnTo>
                    <a:lnTo>
                      <a:pt x="633" y="485"/>
                    </a:lnTo>
                    <a:lnTo>
                      <a:pt x="634" y="24"/>
                    </a:lnTo>
                    <a:lnTo>
                      <a:pt x="595" y="23"/>
                    </a:lnTo>
                    <a:lnTo>
                      <a:pt x="555" y="21"/>
                    </a:lnTo>
                    <a:lnTo>
                      <a:pt x="515" y="20"/>
                    </a:lnTo>
                    <a:lnTo>
                      <a:pt x="476" y="17"/>
                    </a:lnTo>
                    <a:lnTo>
                      <a:pt x="437" y="16"/>
                    </a:lnTo>
                    <a:lnTo>
                      <a:pt x="397" y="15"/>
                    </a:lnTo>
                    <a:lnTo>
                      <a:pt x="357" y="13"/>
                    </a:lnTo>
                    <a:lnTo>
                      <a:pt x="318" y="12"/>
                    </a:lnTo>
                    <a:lnTo>
                      <a:pt x="278" y="11"/>
                    </a:lnTo>
                    <a:lnTo>
                      <a:pt x="238" y="9"/>
                    </a:lnTo>
                    <a:lnTo>
                      <a:pt x="198" y="8"/>
                    </a:lnTo>
                    <a:lnTo>
                      <a:pt x="159" y="5"/>
                    </a:lnTo>
                    <a:lnTo>
                      <a:pt x="119" y="4"/>
                    </a:lnTo>
                    <a:lnTo>
                      <a:pt x="80" y="3"/>
                    </a:lnTo>
                    <a:lnTo>
                      <a:pt x="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8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0"/>
              <p:cNvSpPr/>
              <p:nvPr/>
            </p:nvSpPr>
            <p:spPr>
              <a:xfrm>
                <a:off x="1216440" y="991440"/>
                <a:ext cx="438120" cy="13273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327320"/>
                  <a:gd name="textAreaBottom" fmla="*/ 1327680 h 1327320"/>
                </a:gdLst>
                <a:ahLst/>
                <a:rect l="textAreaLeft" t="textAreaTop" r="textAreaRight" b="textAreaBottom"/>
                <a:pathLst>
                  <a:path w="607" h="1792">
                    <a:moveTo>
                      <a:pt x="0" y="0"/>
                    </a:moveTo>
                    <a:lnTo>
                      <a:pt x="0" y="447"/>
                    </a:lnTo>
                    <a:lnTo>
                      <a:pt x="2" y="893"/>
                    </a:lnTo>
                    <a:lnTo>
                      <a:pt x="2" y="1339"/>
                    </a:lnTo>
                    <a:lnTo>
                      <a:pt x="3" y="1787"/>
                    </a:lnTo>
                    <a:lnTo>
                      <a:pt x="11" y="1787"/>
                    </a:lnTo>
                    <a:lnTo>
                      <a:pt x="19" y="1788"/>
                    </a:lnTo>
                    <a:lnTo>
                      <a:pt x="27" y="1788"/>
                    </a:lnTo>
                    <a:lnTo>
                      <a:pt x="37" y="1788"/>
                    </a:lnTo>
                    <a:lnTo>
                      <a:pt x="45" y="1789"/>
                    </a:lnTo>
                    <a:lnTo>
                      <a:pt x="53" y="1789"/>
                    </a:lnTo>
                    <a:lnTo>
                      <a:pt x="61" y="1791"/>
                    </a:lnTo>
                    <a:lnTo>
                      <a:pt x="69" y="1791"/>
                    </a:lnTo>
                    <a:lnTo>
                      <a:pt x="76" y="1791"/>
                    </a:lnTo>
                    <a:lnTo>
                      <a:pt x="82" y="1791"/>
                    </a:lnTo>
                    <a:lnTo>
                      <a:pt x="88" y="1791"/>
                    </a:lnTo>
                    <a:lnTo>
                      <a:pt x="94" y="1789"/>
                    </a:lnTo>
                    <a:lnTo>
                      <a:pt x="100" y="1789"/>
                    </a:lnTo>
                    <a:lnTo>
                      <a:pt x="106" y="1789"/>
                    </a:lnTo>
                    <a:lnTo>
                      <a:pt x="113" y="1788"/>
                    </a:lnTo>
                    <a:lnTo>
                      <a:pt x="118" y="1788"/>
                    </a:lnTo>
                    <a:lnTo>
                      <a:pt x="136" y="1788"/>
                    </a:lnTo>
                    <a:lnTo>
                      <a:pt x="155" y="1788"/>
                    </a:lnTo>
                    <a:lnTo>
                      <a:pt x="172" y="1788"/>
                    </a:lnTo>
                    <a:lnTo>
                      <a:pt x="190" y="1788"/>
                    </a:lnTo>
                    <a:lnTo>
                      <a:pt x="207" y="1788"/>
                    </a:lnTo>
                    <a:lnTo>
                      <a:pt x="226" y="1788"/>
                    </a:lnTo>
                    <a:lnTo>
                      <a:pt x="244" y="1788"/>
                    </a:lnTo>
                    <a:lnTo>
                      <a:pt x="261" y="1788"/>
                    </a:lnTo>
                    <a:lnTo>
                      <a:pt x="279" y="1788"/>
                    </a:lnTo>
                    <a:lnTo>
                      <a:pt x="296" y="1788"/>
                    </a:lnTo>
                    <a:lnTo>
                      <a:pt x="315" y="1788"/>
                    </a:lnTo>
                    <a:lnTo>
                      <a:pt x="333" y="1788"/>
                    </a:lnTo>
                    <a:lnTo>
                      <a:pt x="351" y="1787"/>
                    </a:lnTo>
                    <a:lnTo>
                      <a:pt x="368" y="1787"/>
                    </a:lnTo>
                    <a:lnTo>
                      <a:pt x="387" y="1787"/>
                    </a:lnTo>
                    <a:lnTo>
                      <a:pt x="405" y="1787"/>
                    </a:lnTo>
                    <a:lnTo>
                      <a:pt x="425" y="1787"/>
                    </a:lnTo>
                    <a:lnTo>
                      <a:pt x="447" y="1788"/>
                    </a:lnTo>
                    <a:lnTo>
                      <a:pt x="467" y="1788"/>
                    </a:lnTo>
                    <a:lnTo>
                      <a:pt x="488" y="1789"/>
                    </a:lnTo>
                    <a:lnTo>
                      <a:pt x="509" y="1789"/>
                    </a:lnTo>
                    <a:lnTo>
                      <a:pt x="529" y="1791"/>
                    </a:lnTo>
                    <a:lnTo>
                      <a:pt x="551" y="1791"/>
                    </a:lnTo>
                    <a:lnTo>
                      <a:pt x="571" y="1792"/>
                    </a:lnTo>
                    <a:lnTo>
                      <a:pt x="578" y="1788"/>
                    </a:lnTo>
                    <a:lnTo>
                      <a:pt x="586" y="1784"/>
                    </a:lnTo>
                    <a:lnTo>
                      <a:pt x="594" y="1780"/>
                    </a:lnTo>
                    <a:lnTo>
                      <a:pt x="602" y="1776"/>
                    </a:lnTo>
                    <a:lnTo>
                      <a:pt x="603" y="1338"/>
                    </a:lnTo>
                    <a:lnTo>
                      <a:pt x="605" y="900"/>
                    </a:lnTo>
                    <a:lnTo>
                      <a:pt x="606" y="462"/>
                    </a:lnTo>
                    <a:lnTo>
                      <a:pt x="607" y="24"/>
                    </a:lnTo>
                    <a:lnTo>
                      <a:pt x="570" y="23"/>
                    </a:lnTo>
                    <a:lnTo>
                      <a:pt x="532" y="21"/>
                    </a:lnTo>
                    <a:lnTo>
                      <a:pt x="494" y="20"/>
                    </a:lnTo>
                    <a:lnTo>
                      <a:pt x="456" y="17"/>
                    </a:lnTo>
                    <a:lnTo>
                      <a:pt x="417" y="16"/>
                    </a:lnTo>
                    <a:lnTo>
                      <a:pt x="379" y="15"/>
                    </a:lnTo>
                    <a:lnTo>
                      <a:pt x="341" y="13"/>
                    </a:lnTo>
                    <a:lnTo>
                      <a:pt x="303" y="12"/>
                    </a:lnTo>
                    <a:lnTo>
                      <a:pt x="265" y="11"/>
                    </a:lnTo>
                    <a:lnTo>
                      <a:pt x="228" y="9"/>
                    </a:lnTo>
                    <a:lnTo>
                      <a:pt x="190" y="8"/>
                    </a:lnTo>
                    <a:lnTo>
                      <a:pt x="152" y="5"/>
                    </a:lnTo>
                    <a:lnTo>
                      <a:pt x="114" y="4"/>
                    </a:lnTo>
                    <a:lnTo>
                      <a:pt x="76" y="3"/>
                    </a:lnTo>
                    <a:lnTo>
                      <a:pt x="3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9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41"/>
              <p:cNvSpPr/>
              <p:nvPr/>
            </p:nvSpPr>
            <p:spPr>
              <a:xfrm>
                <a:off x="1216440" y="991440"/>
                <a:ext cx="417600" cy="12571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257120"/>
                  <a:gd name="textAreaBottom" fmla="*/ 1257120 h 1257120"/>
                </a:gdLst>
                <a:ahLst/>
                <a:rect l="textAreaLeft" t="textAreaTop" r="textAreaRight" b="textAreaBottom"/>
                <a:pathLst>
                  <a:path w="579" h="1697">
                    <a:moveTo>
                      <a:pt x="0" y="0"/>
                    </a:moveTo>
                    <a:lnTo>
                      <a:pt x="2" y="423"/>
                    </a:lnTo>
                    <a:lnTo>
                      <a:pt x="3" y="846"/>
                    </a:lnTo>
                    <a:lnTo>
                      <a:pt x="3" y="1270"/>
                    </a:lnTo>
                    <a:lnTo>
                      <a:pt x="5" y="1693"/>
                    </a:lnTo>
                    <a:lnTo>
                      <a:pt x="13" y="1693"/>
                    </a:lnTo>
                    <a:lnTo>
                      <a:pt x="21" y="1695"/>
                    </a:lnTo>
                    <a:lnTo>
                      <a:pt x="29" y="1695"/>
                    </a:lnTo>
                    <a:lnTo>
                      <a:pt x="37" y="1695"/>
                    </a:lnTo>
                    <a:lnTo>
                      <a:pt x="44" y="1696"/>
                    </a:lnTo>
                    <a:lnTo>
                      <a:pt x="52" y="1696"/>
                    </a:lnTo>
                    <a:lnTo>
                      <a:pt x="60" y="1697"/>
                    </a:lnTo>
                    <a:lnTo>
                      <a:pt x="68" y="1697"/>
                    </a:lnTo>
                    <a:lnTo>
                      <a:pt x="73" y="1697"/>
                    </a:lnTo>
                    <a:lnTo>
                      <a:pt x="79" y="1696"/>
                    </a:lnTo>
                    <a:lnTo>
                      <a:pt x="84" y="1696"/>
                    </a:lnTo>
                    <a:lnTo>
                      <a:pt x="91" y="1695"/>
                    </a:lnTo>
                    <a:lnTo>
                      <a:pt x="96" y="1693"/>
                    </a:lnTo>
                    <a:lnTo>
                      <a:pt x="102" y="1693"/>
                    </a:lnTo>
                    <a:lnTo>
                      <a:pt x="107" y="1692"/>
                    </a:lnTo>
                    <a:lnTo>
                      <a:pt x="113" y="1692"/>
                    </a:lnTo>
                    <a:lnTo>
                      <a:pt x="130" y="1692"/>
                    </a:lnTo>
                    <a:lnTo>
                      <a:pt x="148" y="1692"/>
                    </a:lnTo>
                    <a:lnTo>
                      <a:pt x="165" y="1691"/>
                    </a:lnTo>
                    <a:lnTo>
                      <a:pt x="183" y="1691"/>
                    </a:lnTo>
                    <a:lnTo>
                      <a:pt x="201" y="1691"/>
                    </a:lnTo>
                    <a:lnTo>
                      <a:pt x="218" y="1691"/>
                    </a:lnTo>
                    <a:lnTo>
                      <a:pt x="236" y="1691"/>
                    </a:lnTo>
                    <a:lnTo>
                      <a:pt x="253" y="1691"/>
                    </a:lnTo>
                    <a:lnTo>
                      <a:pt x="271" y="1689"/>
                    </a:lnTo>
                    <a:lnTo>
                      <a:pt x="288" y="1689"/>
                    </a:lnTo>
                    <a:lnTo>
                      <a:pt x="307" y="1689"/>
                    </a:lnTo>
                    <a:lnTo>
                      <a:pt x="325" y="1689"/>
                    </a:lnTo>
                    <a:lnTo>
                      <a:pt x="341" y="1689"/>
                    </a:lnTo>
                    <a:lnTo>
                      <a:pt x="359" y="1689"/>
                    </a:lnTo>
                    <a:lnTo>
                      <a:pt x="376" y="1689"/>
                    </a:lnTo>
                    <a:lnTo>
                      <a:pt x="394" y="1689"/>
                    </a:lnTo>
                    <a:lnTo>
                      <a:pt x="413" y="1689"/>
                    </a:lnTo>
                    <a:lnTo>
                      <a:pt x="432" y="1691"/>
                    </a:lnTo>
                    <a:lnTo>
                      <a:pt x="449" y="1691"/>
                    </a:lnTo>
                    <a:lnTo>
                      <a:pt x="468" y="1692"/>
                    </a:lnTo>
                    <a:lnTo>
                      <a:pt x="486" y="1693"/>
                    </a:lnTo>
                    <a:lnTo>
                      <a:pt x="505" y="1695"/>
                    </a:lnTo>
                    <a:lnTo>
                      <a:pt x="522" y="1695"/>
                    </a:lnTo>
                    <a:lnTo>
                      <a:pt x="541" y="1696"/>
                    </a:lnTo>
                    <a:lnTo>
                      <a:pt x="549" y="1692"/>
                    </a:lnTo>
                    <a:lnTo>
                      <a:pt x="559" y="1688"/>
                    </a:lnTo>
                    <a:lnTo>
                      <a:pt x="567" y="1685"/>
                    </a:lnTo>
                    <a:lnTo>
                      <a:pt x="575" y="1681"/>
                    </a:lnTo>
                    <a:lnTo>
                      <a:pt x="576" y="1266"/>
                    </a:lnTo>
                    <a:lnTo>
                      <a:pt x="578" y="851"/>
                    </a:lnTo>
                    <a:lnTo>
                      <a:pt x="578" y="438"/>
                    </a:lnTo>
                    <a:lnTo>
                      <a:pt x="579" y="23"/>
                    </a:lnTo>
                    <a:lnTo>
                      <a:pt x="543" y="21"/>
                    </a:lnTo>
                    <a:lnTo>
                      <a:pt x="506" y="20"/>
                    </a:lnTo>
                    <a:lnTo>
                      <a:pt x="471" y="19"/>
                    </a:lnTo>
                    <a:lnTo>
                      <a:pt x="434" y="17"/>
                    </a:lnTo>
                    <a:lnTo>
                      <a:pt x="398" y="16"/>
                    </a:lnTo>
                    <a:lnTo>
                      <a:pt x="361" y="15"/>
                    </a:lnTo>
                    <a:lnTo>
                      <a:pt x="325" y="13"/>
                    </a:lnTo>
                    <a:lnTo>
                      <a:pt x="290" y="12"/>
                    </a:lnTo>
                    <a:lnTo>
                      <a:pt x="253" y="11"/>
                    </a:lnTo>
                    <a:lnTo>
                      <a:pt x="217" y="9"/>
                    </a:lnTo>
                    <a:lnTo>
                      <a:pt x="180" y="8"/>
                    </a:lnTo>
                    <a:lnTo>
                      <a:pt x="145" y="5"/>
                    </a:lnTo>
                    <a:lnTo>
                      <a:pt x="109" y="4"/>
                    </a:lnTo>
                    <a:lnTo>
                      <a:pt x="72" y="3"/>
                    </a:lnTo>
                    <a:lnTo>
                      <a:pt x="3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9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42"/>
              <p:cNvSpPr/>
              <p:nvPr/>
            </p:nvSpPr>
            <p:spPr>
              <a:xfrm>
                <a:off x="1216440" y="991440"/>
                <a:ext cx="397440" cy="118764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1187640"/>
                  <a:gd name="textAreaBottom" fmla="*/ 1187640 h 1187640"/>
                </a:gdLst>
                <a:ahLst/>
                <a:rect l="textAreaLeft" t="textAreaTop" r="textAreaRight" b="textAreaBottom"/>
                <a:pathLst>
                  <a:path w="552" h="1603">
                    <a:moveTo>
                      <a:pt x="0" y="0"/>
                    </a:moveTo>
                    <a:lnTo>
                      <a:pt x="2" y="400"/>
                    </a:lnTo>
                    <a:lnTo>
                      <a:pt x="3" y="800"/>
                    </a:lnTo>
                    <a:lnTo>
                      <a:pt x="5" y="1200"/>
                    </a:lnTo>
                    <a:lnTo>
                      <a:pt x="6" y="1600"/>
                    </a:lnTo>
                    <a:lnTo>
                      <a:pt x="14" y="1600"/>
                    </a:lnTo>
                    <a:lnTo>
                      <a:pt x="21" y="1601"/>
                    </a:lnTo>
                    <a:lnTo>
                      <a:pt x="29" y="1601"/>
                    </a:lnTo>
                    <a:lnTo>
                      <a:pt x="37" y="1601"/>
                    </a:lnTo>
                    <a:lnTo>
                      <a:pt x="44" y="1601"/>
                    </a:lnTo>
                    <a:lnTo>
                      <a:pt x="52" y="1601"/>
                    </a:lnTo>
                    <a:lnTo>
                      <a:pt x="59" y="1603"/>
                    </a:lnTo>
                    <a:lnTo>
                      <a:pt x="67" y="1603"/>
                    </a:lnTo>
                    <a:lnTo>
                      <a:pt x="72" y="1601"/>
                    </a:lnTo>
                    <a:lnTo>
                      <a:pt x="78" y="1601"/>
                    </a:lnTo>
                    <a:lnTo>
                      <a:pt x="82" y="1600"/>
                    </a:lnTo>
                    <a:lnTo>
                      <a:pt x="87" y="1599"/>
                    </a:lnTo>
                    <a:lnTo>
                      <a:pt x="92" y="1599"/>
                    </a:lnTo>
                    <a:lnTo>
                      <a:pt x="98" y="1597"/>
                    </a:lnTo>
                    <a:lnTo>
                      <a:pt x="102" y="1596"/>
                    </a:lnTo>
                    <a:lnTo>
                      <a:pt x="107" y="1595"/>
                    </a:lnTo>
                    <a:lnTo>
                      <a:pt x="125" y="1595"/>
                    </a:lnTo>
                    <a:lnTo>
                      <a:pt x="142" y="1595"/>
                    </a:lnTo>
                    <a:lnTo>
                      <a:pt x="159" y="1593"/>
                    </a:lnTo>
                    <a:lnTo>
                      <a:pt x="176" y="1593"/>
                    </a:lnTo>
                    <a:lnTo>
                      <a:pt x="194" y="1593"/>
                    </a:lnTo>
                    <a:lnTo>
                      <a:pt x="211" y="1593"/>
                    </a:lnTo>
                    <a:lnTo>
                      <a:pt x="228" y="1592"/>
                    </a:lnTo>
                    <a:lnTo>
                      <a:pt x="245" y="1592"/>
                    </a:lnTo>
                    <a:lnTo>
                      <a:pt x="263" y="1592"/>
                    </a:lnTo>
                    <a:lnTo>
                      <a:pt x="280" y="1592"/>
                    </a:lnTo>
                    <a:lnTo>
                      <a:pt x="296" y="1591"/>
                    </a:lnTo>
                    <a:lnTo>
                      <a:pt x="314" y="1591"/>
                    </a:lnTo>
                    <a:lnTo>
                      <a:pt x="332" y="1591"/>
                    </a:lnTo>
                    <a:lnTo>
                      <a:pt x="349" y="1591"/>
                    </a:lnTo>
                    <a:lnTo>
                      <a:pt x="365" y="1591"/>
                    </a:lnTo>
                    <a:lnTo>
                      <a:pt x="383" y="1591"/>
                    </a:lnTo>
                    <a:lnTo>
                      <a:pt x="399" y="1592"/>
                    </a:lnTo>
                    <a:lnTo>
                      <a:pt x="415" y="1593"/>
                    </a:lnTo>
                    <a:lnTo>
                      <a:pt x="432" y="1595"/>
                    </a:lnTo>
                    <a:lnTo>
                      <a:pt x="448" y="1595"/>
                    </a:lnTo>
                    <a:lnTo>
                      <a:pt x="464" y="1596"/>
                    </a:lnTo>
                    <a:lnTo>
                      <a:pt x="480" y="1597"/>
                    </a:lnTo>
                    <a:lnTo>
                      <a:pt x="497" y="1599"/>
                    </a:lnTo>
                    <a:lnTo>
                      <a:pt x="513" y="1600"/>
                    </a:lnTo>
                    <a:lnTo>
                      <a:pt x="521" y="1596"/>
                    </a:lnTo>
                    <a:lnTo>
                      <a:pt x="530" y="1593"/>
                    </a:lnTo>
                    <a:lnTo>
                      <a:pt x="538" y="1591"/>
                    </a:lnTo>
                    <a:lnTo>
                      <a:pt x="548" y="1588"/>
                    </a:lnTo>
                    <a:lnTo>
                      <a:pt x="549" y="1196"/>
                    </a:lnTo>
                    <a:lnTo>
                      <a:pt x="551" y="805"/>
                    </a:lnTo>
                    <a:lnTo>
                      <a:pt x="551" y="413"/>
                    </a:lnTo>
                    <a:lnTo>
                      <a:pt x="552" y="23"/>
                    </a:lnTo>
                    <a:lnTo>
                      <a:pt x="518" y="21"/>
                    </a:lnTo>
                    <a:lnTo>
                      <a:pt x="483" y="20"/>
                    </a:lnTo>
                    <a:lnTo>
                      <a:pt x="449" y="19"/>
                    </a:lnTo>
                    <a:lnTo>
                      <a:pt x="414" y="17"/>
                    </a:lnTo>
                    <a:lnTo>
                      <a:pt x="380" y="16"/>
                    </a:lnTo>
                    <a:lnTo>
                      <a:pt x="345" y="15"/>
                    </a:lnTo>
                    <a:lnTo>
                      <a:pt x="311" y="13"/>
                    </a:lnTo>
                    <a:lnTo>
                      <a:pt x="276" y="12"/>
                    </a:lnTo>
                    <a:lnTo>
                      <a:pt x="242" y="11"/>
                    </a:lnTo>
                    <a:lnTo>
                      <a:pt x="207" y="9"/>
                    </a:lnTo>
                    <a:lnTo>
                      <a:pt x="173" y="8"/>
                    </a:lnTo>
                    <a:lnTo>
                      <a:pt x="138" y="5"/>
                    </a:lnTo>
                    <a:lnTo>
                      <a:pt x="105" y="4"/>
                    </a:lnTo>
                    <a:lnTo>
                      <a:pt x="69" y="3"/>
                    </a:lnTo>
                    <a:lnTo>
                      <a:pt x="3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9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43"/>
              <p:cNvSpPr/>
              <p:nvPr/>
            </p:nvSpPr>
            <p:spPr>
              <a:xfrm>
                <a:off x="1216440" y="991440"/>
                <a:ext cx="380520" cy="111816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1118160"/>
                  <a:gd name="textAreaBottom" fmla="*/ 1118520 h 1118160"/>
                </a:gdLst>
                <a:ahLst/>
                <a:rect l="textAreaLeft" t="textAreaTop" r="textAreaRight" b="textAreaBottom"/>
                <a:pathLst>
                  <a:path w="526" h="1509">
                    <a:moveTo>
                      <a:pt x="0" y="0"/>
                    </a:moveTo>
                    <a:lnTo>
                      <a:pt x="3" y="377"/>
                    </a:lnTo>
                    <a:lnTo>
                      <a:pt x="5" y="753"/>
                    </a:lnTo>
                    <a:lnTo>
                      <a:pt x="7" y="1130"/>
                    </a:lnTo>
                    <a:lnTo>
                      <a:pt x="9" y="1505"/>
                    </a:lnTo>
                    <a:lnTo>
                      <a:pt x="15" y="1505"/>
                    </a:lnTo>
                    <a:lnTo>
                      <a:pt x="23" y="1507"/>
                    </a:lnTo>
                    <a:lnTo>
                      <a:pt x="30" y="1507"/>
                    </a:lnTo>
                    <a:lnTo>
                      <a:pt x="37" y="1507"/>
                    </a:lnTo>
                    <a:lnTo>
                      <a:pt x="44" y="1508"/>
                    </a:lnTo>
                    <a:lnTo>
                      <a:pt x="52" y="1508"/>
                    </a:lnTo>
                    <a:lnTo>
                      <a:pt x="59" y="1509"/>
                    </a:lnTo>
                    <a:lnTo>
                      <a:pt x="65" y="1509"/>
                    </a:lnTo>
                    <a:lnTo>
                      <a:pt x="75" y="1507"/>
                    </a:lnTo>
                    <a:lnTo>
                      <a:pt x="84" y="1504"/>
                    </a:lnTo>
                    <a:lnTo>
                      <a:pt x="92" y="1501"/>
                    </a:lnTo>
                    <a:lnTo>
                      <a:pt x="102" y="1499"/>
                    </a:lnTo>
                    <a:lnTo>
                      <a:pt x="119" y="1499"/>
                    </a:lnTo>
                    <a:lnTo>
                      <a:pt x="136" y="1499"/>
                    </a:lnTo>
                    <a:lnTo>
                      <a:pt x="153" y="1497"/>
                    </a:lnTo>
                    <a:lnTo>
                      <a:pt x="169" y="1497"/>
                    </a:lnTo>
                    <a:lnTo>
                      <a:pt x="187" y="1497"/>
                    </a:lnTo>
                    <a:lnTo>
                      <a:pt x="203" y="1497"/>
                    </a:lnTo>
                    <a:lnTo>
                      <a:pt x="221" y="1496"/>
                    </a:lnTo>
                    <a:lnTo>
                      <a:pt x="237" y="1496"/>
                    </a:lnTo>
                    <a:lnTo>
                      <a:pt x="253" y="1496"/>
                    </a:lnTo>
                    <a:lnTo>
                      <a:pt x="271" y="1495"/>
                    </a:lnTo>
                    <a:lnTo>
                      <a:pt x="287" y="1495"/>
                    </a:lnTo>
                    <a:lnTo>
                      <a:pt x="305" y="1495"/>
                    </a:lnTo>
                    <a:lnTo>
                      <a:pt x="321" y="1495"/>
                    </a:lnTo>
                    <a:lnTo>
                      <a:pt x="338" y="1493"/>
                    </a:lnTo>
                    <a:lnTo>
                      <a:pt x="355" y="1493"/>
                    </a:lnTo>
                    <a:lnTo>
                      <a:pt x="372" y="1493"/>
                    </a:lnTo>
                    <a:lnTo>
                      <a:pt x="386" y="1495"/>
                    </a:lnTo>
                    <a:lnTo>
                      <a:pt x="399" y="1496"/>
                    </a:lnTo>
                    <a:lnTo>
                      <a:pt x="414" y="1497"/>
                    </a:lnTo>
                    <a:lnTo>
                      <a:pt x="428" y="1499"/>
                    </a:lnTo>
                    <a:lnTo>
                      <a:pt x="441" y="1500"/>
                    </a:lnTo>
                    <a:lnTo>
                      <a:pt x="456" y="1501"/>
                    </a:lnTo>
                    <a:lnTo>
                      <a:pt x="470" y="1503"/>
                    </a:lnTo>
                    <a:lnTo>
                      <a:pt x="483" y="1504"/>
                    </a:lnTo>
                    <a:lnTo>
                      <a:pt x="493" y="1501"/>
                    </a:lnTo>
                    <a:lnTo>
                      <a:pt x="502" y="1499"/>
                    </a:lnTo>
                    <a:lnTo>
                      <a:pt x="510" y="1496"/>
                    </a:lnTo>
                    <a:lnTo>
                      <a:pt x="520" y="1493"/>
                    </a:lnTo>
                    <a:lnTo>
                      <a:pt x="521" y="1126"/>
                    </a:lnTo>
                    <a:lnTo>
                      <a:pt x="522" y="758"/>
                    </a:lnTo>
                    <a:lnTo>
                      <a:pt x="524" y="390"/>
                    </a:lnTo>
                    <a:lnTo>
                      <a:pt x="526" y="23"/>
                    </a:lnTo>
                    <a:lnTo>
                      <a:pt x="493" y="21"/>
                    </a:lnTo>
                    <a:lnTo>
                      <a:pt x="460" y="20"/>
                    </a:lnTo>
                    <a:lnTo>
                      <a:pt x="428" y="19"/>
                    </a:lnTo>
                    <a:lnTo>
                      <a:pt x="394" y="17"/>
                    </a:lnTo>
                    <a:lnTo>
                      <a:pt x="361" y="16"/>
                    </a:lnTo>
                    <a:lnTo>
                      <a:pt x="328" y="15"/>
                    </a:lnTo>
                    <a:lnTo>
                      <a:pt x="295" y="13"/>
                    </a:lnTo>
                    <a:lnTo>
                      <a:pt x="263" y="12"/>
                    </a:lnTo>
                    <a:lnTo>
                      <a:pt x="229" y="11"/>
                    </a:lnTo>
                    <a:lnTo>
                      <a:pt x="196" y="9"/>
                    </a:lnTo>
                    <a:lnTo>
                      <a:pt x="164" y="8"/>
                    </a:lnTo>
                    <a:lnTo>
                      <a:pt x="132" y="5"/>
                    </a:lnTo>
                    <a:lnTo>
                      <a:pt x="99" y="4"/>
                    </a:lnTo>
                    <a:lnTo>
                      <a:pt x="65" y="3"/>
                    </a:lnTo>
                    <a:lnTo>
                      <a:pt x="3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44"/>
              <p:cNvSpPr/>
              <p:nvPr/>
            </p:nvSpPr>
            <p:spPr>
              <a:xfrm>
                <a:off x="1215000" y="991440"/>
                <a:ext cx="360000" cy="1048680"/>
              </a:xfrm>
              <a:custGeom>
                <a:avLst/>
                <a:gdLst>
                  <a:gd name="textAreaLeft" fmla="*/ 0 w 360000"/>
                  <a:gd name="textAreaRight" fmla="*/ 360360 w 360000"/>
                  <a:gd name="textAreaTop" fmla="*/ 0 h 1048680"/>
                  <a:gd name="textAreaBottom" fmla="*/ 1048680 h 1048680"/>
                </a:gdLst>
                <a:ahLst/>
                <a:rect l="textAreaLeft" t="textAreaTop" r="textAreaRight" b="textAreaBottom"/>
                <a:pathLst>
                  <a:path w="498" h="1415">
                    <a:moveTo>
                      <a:pt x="0" y="0"/>
                    </a:moveTo>
                    <a:lnTo>
                      <a:pt x="3" y="353"/>
                    </a:lnTo>
                    <a:lnTo>
                      <a:pt x="6" y="705"/>
                    </a:lnTo>
                    <a:lnTo>
                      <a:pt x="8" y="1059"/>
                    </a:lnTo>
                    <a:lnTo>
                      <a:pt x="11" y="1412"/>
                    </a:lnTo>
                    <a:lnTo>
                      <a:pt x="18" y="1412"/>
                    </a:lnTo>
                    <a:lnTo>
                      <a:pt x="24" y="1414"/>
                    </a:lnTo>
                    <a:lnTo>
                      <a:pt x="31" y="1414"/>
                    </a:lnTo>
                    <a:lnTo>
                      <a:pt x="38" y="1414"/>
                    </a:lnTo>
                    <a:lnTo>
                      <a:pt x="45" y="1415"/>
                    </a:lnTo>
                    <a:lnTo>
                      <a:pt x="51" y="1415"/>
                    </a:lnTo>
                    <a:lnTo>
                      <a:pt x="58" y="1415"/>
                    </a:lnTo>
                    <a:lnTo>
                      <a:pt x="65" y="1415"/>
                    </a:lnTo>
                    <a:lnTo>
                      <a:pt x="73" y="1412"/>
                    </a:lnTo>
                    <a:lnTo>
                      <a:pt x="81" y="1408"/>
                    </a:lnTo>
                    <a:lnTo>
                      <a:pt x="89" y="1405"/>
                    </a:lnTo>
                    <a:lnTo>
                      <a:pt x="97" y="1403"/>
                    </a:lnTo>
                    <a:lnTo>
                      <a:pt x="114" y="1403"/>
                    </a:lnTo>
                    <a:lnTo>
                      <a:pt x="130" y="1401"/>
                    </a:lnTo>
                    <a:lnTo>
                      <a:pt x="147" y="1401"/>
                    </a:lnTo>
                    <a:lnTo>
                      <a:pt x="164" y="1400"/>
                    </a:lnTo>
                    <a:lnTo>
                      <a:pt x="180" y="1400"/>
                    </a:lnTo>
                    <a:lnTo>
                      <a:pt x="197" y="1400"/>
                    </a:lnTo>
                    <a:lnTo>
                      <a:pt x="214" y="1399"/>
                    </a:lnTo>
                    <a:lnTo>
                      <a:pt x="230" y="1399"/>
                    </a:lnTo>
                    <a:lnTo>
                      <a:pt x="247" y="1399"/>
                    </a:lnTo>
                    <a:lnTo>
                      <a:pt x="264" y="1397"/>
                    </a:lnTo>
                    <a:lnTo>
                      <a:pt x="280" y="1397"/>
                    </a:lnTo>
                    <a:lnTo>
                      <a:pt x="297" y="1396"/>
                    </a:lnTo>
                    <a:lnTo>
                      <a:pt x="314" y="1396"/>
                    </a:lnTo>
                    <a:lnTo>
                      <a:pt x="330" y="1396"/>
                    </a:lnTo>
                    <a:lnTo>
                      <a:pt x="346" y="1395"/>
                    </a:lnTo>
                    <a:lnTo>
                      <a:pt x="362" y="1395"/>
                    </a:lnTo>
                    <a:lnTo>
                      <a:pt x="375" y="1396"/>
                    </a:lnTo>
                    <a:lnTo>
                      <a:pt x="385" y="1399"/>
                    </a:lnTo>
                    <a:lnTo>
                      <a:pt x="398" y="1400"/>
                    </a:lnTo>
                    <a:lnTo>
                      <a:pt x="408" y="1401"/>
                    </a:lnTo>
                    <a:lnTo>
                      <a:pt x="419" y="1404"/>
                    </a:lnTo>
                    <a:lnTo>
                      <a:pt x="431" y="1405"/>
                    </a:lnTo>
                    <a:lnTo>
                      <a:pt x="442" y="1407"/>
                    </a:lnTo>
                    <a:lnTo>
                      <a:pt x="454" y="1408"/>
                    </a:lnTo>
                    <a:lnTo>
                      <a:pt x="464" y="1405"/>
                    </a:lnTo>
                    <a:lnTo>
                      <a:pt x="475" y="1404"/>
                    </a:lnTo>
                    <a:lnTo>
                      <a:pt x="484" y="1401"/>
                    </a:lnTo>
                    <a:lnTo>
                      <a:pt x="494" y="1400"/>
                    </a:lnTo>
                    <a:lnTo>
                      <a:pt x="495" y="1055"/>
                    </a:lnTo>
                    <a:lnTo>
                      <a:pt x="496" y="711"/>
                    </a:lnTo>
                    <a:lnTo>
                      <a:pt x="496" y="367"/>
                    </a:lnTo>
                    <a:lnTo>
                      <a:pt x="498" y="23"/>
                    </a:lnTo>
                    <a:lnTo>
                      <a:pt x="466" y="21"/>
                    </a:lnTo>
                    <a:lnTo>
                      <a:pt x="435" y="20"/>
                    </a:lnTo>
                    <a:lnTo>
                      <a:pt x="404" y="19"/>
                    </a:lnTo>
                    <a:lnTo>
                      <a:pt x="373" y="17"/>
                    </a:lnTo>
                    <a:lnTo>
                      <a:pt x="342" y="16"/>
                    </a:lnTo>
                    <a:lnTo>
                      <a:pt x="311" y="15"/>
                    </a:lnTo>
                    <a:lnTo>
                      <a:pt x="280" y="13"/>
                    </a:lnTo>
                    <a:lnTo>
                      <a:pt x="249" y="12"/>
                    </a:lnTo>
                    <a:lnTo>
                      <a:pt x="218" y="11"/>
                    </a:lnTo>
                    <a:lnTo>
                      <a:pt x="187" y="9"/>
                    </a:lnTo>
                    <a:lnTo>
                      <a:pt x="156" y="8"/>
                    </a:lnTo>
                    <a:lnTo>
                      <a:pt x="124" y="5"/>
                    </a:lnTo>
                    <a:lnTo>
                      <a:pt x="93" y="4"/>
                    </a:lnTo>
                    <a:lnTo>
                      <a:pt x="62" y="3"/>
                    </a:lnTo>
                    <a:lnTo>
                      <a:pt x="3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45"/>
              <p:cNvSpPr/>
              <p:nvPr/>
            </p:nvSpPr>
            <p:spPr>
              <a:xfrm>
                <a:off x="1215000" y="992880"/>
                <a:ext cx="341280" cy="9774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977400"/>
                  <a:gd name="textAreaBottom" fmla="*/ 977760 h 977400"/>
                </a:gdLst>
                <a:ahLst/>
                <a:rect l="textAreaLeft" t="textAreaTop" r="textAreaRight" b="textAreaBottom"/>
                <a:pathLst>
                  <a:path w="472" h="1321">
                    <a:moveTo>
                      <a:pt x="0" y="0"/>
                    </a:moveTo>
                    <a:lnTo>
                      <a:pt x="4" y="330"/>
                    </a:lnTo>
                    <a:lnTo>
                      <a:pt x="7" y="658"/>
                    </a:lnTo>
                    <a:lnTo>
                      <a:pt x="11" y="988"/>
                    </a:lnTo>
                    <a:lnTo>
                      <a:pt x="14" y="1318"/>
                    </a:lnTo>
                    <a:lnTo>
                      <a:pt x="20" y="1318"/>
                    </a:lnTo>
                    <a:lnTo>
                      <a:pt x="26" y="1319"/>
                    </a:lnTo>
                    <a:lnTo>
                      <a:pt x="33" y="1319"/>
                    </a:lnTo>
                    <a:lnTo>
                      <a:pt x="39" y="1319"/>
                    </a:lnTo>
                    <a:lnTo>
                      <a:pt x="45" y="1319"/>
                    </a:lnTo>
                    <a:lnTo>
                      <a:pt x="51" y="1319"/>
                    </a:lnTo>
                    <a:lnTo>
                      <a:pt x="58" y="1321"/>
                    </a:lnTo>
                    <a:lnTo>
                      <a:pt x="65" y="1321"/>
                    </a:lnTo>
                    <a:lnTo>
                      <a:pt x="72" y="1315"/>
                    </a:lnTo>
                    <a:lnTo>
                      <a:pt x="79" y="1311"/>
                    </a:lnTo>
                    <a:lnTo>
                      <a:pt x="85" y="1308"/>
                    </a:lnTo>
                    <a:lnTo>
                      <a:pt x="92" y="1306"/>
                    </a:lnTo>
                    <a:lnTo>
                      <a:pt x="108" y="1306"/>
                    </a:lnTo>
                    <a:lnTo>
                      <a:pt x="124" y="1304"/>
                    </a:lnTo>
                    <a:lnTo>
                      <a:pt x="141" y="1304"/>
                    </a:lnTo>
                    <a:lnTo>
                      <a:pt x="157" y="1303"/>
                    </a:lnTo>
                    <a:lnTo>
                      <a:pt x="173" y="1303"/>
                    </a:lnTo>
                    <a:lnTo>
                      <a:pt x="189" y="1302"/>
                    </a:lnTo>
                    <a:lnTo>
                      <a:pt x="206" y="1302"/>
                    </a:lnTo>
                    <a:lnTo>
                      <a:pt x="222" y="1300"/>
                    </a:lnTo>
                    <a:lnTo>
                      <a:pt x="238" y="1300"/>
                    </a:lnTo>
                    <a:lnTo>
                      <a:pt x="254" y="1300"/>
                    </a:lnTo>
                    <a:lnTo>
                      <a:pt x="270" y="1299"/>
                    </a:lnTo>
                    <a:lnTo>
                      <a:pt x="287" y="1299"/>
                    </a:lnTo>
                    <a:lnTo>
                      <a:pt x="303" y="1298"/>
                    </a:lnTo>
                    <a:lnTo>
                      <a:pt x="319" y="1298"/>
                    </a:lnTo>
                    <a:lnTo>
                      <a:pt x="335" y="1296"/>
                    </a:lnTo>
                    <a:lnTo>
                      <a:pt x="352" y="1296"/>
                    </a:lnTo>
                    <a:lnTo>
                      <a:pt x="361" y="1298"/>
                    </a:lnTo>
                    <a:lnTo>
                      <a:pt x="370" y="1300"/>
                    </a:lnTo>
                    <a:lnTo>
                      <a:pt x="379" y="1302"/>
                    </a:lnTo>
                    <a:lnTo>
                      <a:pt x="388" y="1304"/>
                    </a:lnTo>
                    <a:lnTo>
                      <a:pt x="398" y="1306"/>
                    </a:lnTo>
                    <a:lnTo>
                      <a:pt x="407" y="1308"/>
                    </a:lnTo>
                    <a:lnTo>
                      <a:pt x="416" y="1310"/>
                    </a:lnTo>
                    <a:lnTo>
                      <a:pt x="426" y="1312"/>
                    </a:lnTo>
                    <a:lnTo>
                      <a:pt x="431" y="1311"/>
                    </a:lnTo>
                    <a:lnTo>
                      <a:pt x="437" y="1310"/>
                    </a:lnTo>
                    <a:lnTo>
                      <a:pt x="441" y="1308"/>
                    </a:lnTo>
                    <a:lnTo>
                      <a:pt x="446" y="1308"/>
                    </a:lnTo>
                    <a:lnTo>
                      <a:pt x="452" y="1307"/>
                    </a:lnTo>
                    <a:lnTo>
                      <a:pt x="457" y="1306"/>
                    </a:lnTo>
                    <a:lnTo>
                      <a:pt x="461" y="1306"/>
                    </a:lnTo>
                    <a:lnTo>
                      <a:pt x="466" y="1304"/>
                    </a:lnTo>
                    <a:lnTo>
                      <a:pt x="468" y="984"/>
                    </a:lnTo>
                    <a:lnTo>
                      <a:pt x="469" y="662"/>
                    </a:lnTo>
                    <a:lnTo>
                      <a:pt x="471" y="342"/>
                    </a:lnTo>
                    <a:lnTo>
                      <a:pt x="472" y="22"/>
                    </a:lnTo>
                    <a:lnTo>
                      <a:pt x="442" y="20"/>
                    </a:lnTo>
                    <a:lnTo>
                      <a:pt x="412" y="19"/>
                    </a:lnTo>
                    <a:lnTo>
                      <a:pt x="383" y="18"/>
                    </a:lnTo>
                    <a:lnTo>
                      <a:pt x="353" y="16"/>
                    </a:lnTo>
                    <a:lnTo>
                      <a:pt x="325" y="15"/>
                    </a:lnTo>
                    <a:lnTo>
                      <a:pt x="295" y="14"/>
                    </a:lnTo>
                    <a:lnTo>
                      <a:pt x="265" y="12"/>
                    </a:lnTo>
                    <a:lnTo>
                      <a:pt x="235" y="11"/>
                    </a:lnTo>
                    <a:lnTo>
                      <a:pt x="206" y="10"/>
                    </a:lnTo>
                    <a:lnTo>
                      <a:pt x="177" y="8"/>
                    </a:lnTo>
                    <a:lnTo>
                      <a:pt x="147" y="7"/>
                    </a:lnTo>
                    <a:lnTo>
                      <a:pt x="118" y="6"/>
                    </a:lnTo>
                    <a:lnTo>
                      <a:pt x="88" y="4"/>
                    </a:lnTo>
                    <a:lnTo>
                      <a:pt x="60" y="3"/>
                    </a:lnTo>
                    <a:lnTo>
                      <a:pt x="3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46"/>
              <p:cNvSpPr/>
              <p:nvPr/>
            </p:nvSpPr>
            <p:spPr>
              <a:xfrm>
                <a:off x="1215000" y="992880"/>
                <a:ext cx="319680" cy="907920"/>
              </a:xfrm>
              <a:custGeom>
                <a:avLst/>
                <a:gdLst>
                  <a:gd name="textAreaLeft" fmla="*/ 0 w 319680"/>
                  <a:gd name="textAreaRight" fmla="*/ 320040 w 319680"/>
                  <a:gd name="textAreaTop" fmla="*/ 0 h 907920"/>
                  <a:gd name="textAreaBottom" fmla="*/ 908280 h 907920"/>
                </a:gdLst>
                <a:ahLst/>
                <a:rect l="textAreaLeft" t="textAreaTop" r="textAreaRight" b="textAreaBottom"/>
                <a:pathLst>
                  <a:path w="442" h="1226">
                    <a:moveTo>
                      <a:pt x="0" y="0"/>
                    </a:moveTo>
                    <a:lnTo>
                      <a:pt x="4" y="306"/>
                    </a:lnTo>
                    <a:lnTo>
                      <a:pt x="8" y="612"/>
                    </a:lnTo>
                    <a:lnTo>
                      <a:pt x="12" y="918"/>
                    </a:lnTo>
                    <a:lnTo>
                      <a:pt x="15" y="1225"/>
                    </a:lnTo>
                    <a:lnTo>
                      <a:pt x="22" y="1225"/>
                    </a:lnTo>
                    <a:lnTo>
                      <a:pt x="27" y="1225"/>
                    </a:lnTo>
                    <a:lnTo>
                      <a:pt x="34" y="1225"/>
                    </a:lnTo>
                    <a:lnTo>
                      <a:pt x="39" y="1225"/>
                    </a:lnTo>
                    <a:lnTo>
                      <a:pt x="46" y="1226"/>
                    </a:lnTo>
                    <a:lnTo>
                      <a:pt x="51" y="1226"/>
                    </a:lnTo>
                    <a:lnTo>
                      <a:pt x="58" y="1226"/>
                    </a:lnTo>
                    <a:lnTo>
                      <a:pt x="64" y="1226"/>
                    </a:lnTo>
                    <a:lnTo>
                      <a:pt x="69" y="1222"/>
                    </a:lnTo>
                    <a:lnTo>
                      <a:pt x="74" y="1218"/>
                    </a:lnTo>
                    <a:lnTo>
                      <a:pt x="81" y="1214"/>
                    </a:lnTo>
                    <a:lnTo>
                      <a:pt x="87" y="1208"/>
                    </a:lnTo>
                    <a:lnTo>
                      <a:pt x="103" y="1208"/>
                    </a:lnTo>
                    <a:lnTo>
                      <a:pt x="118" y="1207"/>
                    </a:lnTo>
                    <a:lnTo>
                      <a:pt x="134" y="1207"/>
                    </a:lnTo>
                    <a:lnTo>
                      <a:pt x="150" y="1206"/>
                    </a:lnTo>
                    <a:lnTo>
                      <a:pt x="165" y="1206"/>
                    </a:lnTo>
                    <a:lnTo>
                      <a:pt x="181" y="1204"/>
                    </a:lnTo>
                    <a:lnTo>
                      <a:pt x="197" y="1204"/>
                    </a:lnTo>
                    <a:lnTo>
                      <a:pt x="214" y="1203"/>
                    </a:lnTo>
                    <a:lnTo>
                      <a:pt x="229" y="1203"/>
                    </a:lnTo>
                    <a:lnTo>
                      <a:pt x="245" y="1202"/>
                    </a:lnTo>
                    <a:lnTo>
                      <a:pt x="261" y="1202"/>
                    </a:lnTo>
                    <a:lnTo>
                      <a:pt x="277" y="1200"/>
                    </a:lnTo>
                    <a:lnTo>
                      <a:pt x="293" y="1200"/>
                    </a:lnTo>
                    <a:lnTo>
                      <a:pt x="308" y="1199"/>
                    </a:lnTo>
                    <a:lnTo>
                      <a:pt x="325" y="1199"/>
                    </a:lnTo>
                    <a:lnTo>
                      <a:pt x="341" y="1198"/>
                    </a:lnTo>
                    <a:lnTo>
                      <a:pt x="348" y="1200"/>
                    </a:lnTo>
                    <a:lnTo>
                      <a:pt x="354" y="1203"/>
                    </a:lnTo>
                    <a:lnTo>
                      <a:pt x="361" y="1204"/>
                    </a:lnTo>
                    <a:lnTo>
                      <a:pt x="369" y="1207"/>
                    </a:lnTo>
                    <a:lnTo>
                      <a:pt x="376" y="1210"/>
                    </a:lnTo>
                    <a:lnTo>
                      <a:pt x="383" y="1211"/>
                    </a:lnTo>
                    <a:lnTo>
                      <a:pt x="389" y="1214"/>
                    </a:lnTo>
                    <a:lnTo>
                      <a:pt x="396" y="1217"/>
                    </a:lnTo>
                    <a:lnTo>
                      <a:pt x="402" y="1217"/>
                    </a:lnTo>
                    <a:lnTo>
                      <a:pt x="407" y="1215"/>
                    </a:lnTo>
                    <a:lnTo>
                      <a:pt x="412" y="1215"/>
                    </a:lnTo>
                    <a:lnTo>
                      <a:pt x="418" y="1214"/>
                    </a:lnTo>
                    <a:lnTo>
                      <a:pt x="423" y="1212"/>
                    </a:lnTo>
                    <a:lnTo>
                      <a:pt x="429" y="1212"/>
                    </a:lnTo>
                    <a:lnTo>
                      <a:pt x="434" y="1211"/>
                    </a:lnTo>
                    <a:lnTo>
                      <a:pt x="439" y="1211"/>
                    </a:lnTo>
                    <a:lnTo>
                      <a:pt x="441" y="914"/>
                    </a:lnTo>
                    <a:lnTo>
                      <a:pt x="441" y="616"/>
                    </a:lnTo>
                    <a:lnTo>
                      <a:pt x="441" y="319"/>
                    </a:lnTo>
                    <a:lnTo>
                      <a:pt x="442" y="22"/>
                    </a:lnTo>
                    <a:lnTo>
                      <a:pt x="415" y="20"/>
                    </a:lnTo>
                    <a:lnTo>
                      <a:pt x="387" y="19"/>
                    </a:lnTo>
                    <a:lnTo>
                      <a:pt x="360" y="18"/>
                    </a:lnTo>
                    <a:lnTo>
                      <a:pt x="331" y="16"/>
                    </a:lnTo>
                    <a:lnTo>
                      <a:pt x="304" y="15"/>
                    </a:lnTo>
                    <a:lnTo>
                      <a:pt x="276" y="14"/>
                    </a:lnTo>
                    <a:lnTo>
                      <a:pt x="249" y="12"/>
                    </a:lnTo>
                    <a:lnTo>
                      <a:pt x="222" y="11"/>
                    </a:lnTo>
                    <a:lnTo>
                      <a:pt x="193" y="10"/>
                    </a:lnTo>
                    <a:lnTo>
                      <a:pt x="166" y="8"/>
                    </a:lnTo>
                    <a:lnTo>
                      <a:pt x="138" y="7"/>
                    </a:lnTo>
                    <a:lnTo>
                      <a:pt x="111" y="6"/>
                    </a:lnTo>
                    <a:lnTo>
                      <a:pt x="83" y="4"/>
                    </a:lnTo>
                    <a:lnTo>
                      <a:pt x="56" y="3"/>
                    </a:lnTo>
                    <a:lnTo>
                      <a:pt x="27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47"/>
              <p:cNvSpPr/>
              <p:nvPr/>
            </p:nvSpPr>
            <p:spPr>
              <a:xfrm>
                <a:off x="1215000" y="992880"/>
                <a:ext cx="300960" cy="838440"/>
              </a:xfrm>
              <a:custGeom>
                <a:avLst/>
                <a:gdLst>
                  <a:gd name="textAreaLeft" fmla="*/ 0 w 300960"/>
                  <a:gd name="textAreaRight" fmla="*/ 300960 w 3009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415" h="1133">
                    <a:moveTo>
                      <a:pt x="0" y="0"/>
                    </a:moveTo>
                    <a:lnTo>
                      <a:pt x="4" y="283"/>
                    </a:lnTo>
                    <a:lnTo>
                      <a:pt x="8" y="565"/>
                    </a:lnTo>
                    <a:lnTo>
                      <a:pt x="12" y="849"/>
                    </a:lnTo>
                    <a:lnTo>
                      <a:pt x="16" y="1131"/>
                    </a:lnTo>
                    <a:lnTo>
                      <a:pt x="22" y="1131"/>
                    </a:lnTo>
                    <a:lnTo>
                      <a:pt x="28" y="1131"/>
                    </a:lnTo>
                    <a:lnTo>
                      <a:pt x="34" y="1131"/>
                    </a:lnTo>
                    <a:lnTo>
                      <a:pt x="39" y="1131"/>
                    </a:lnTo>
                    <a:lnTo>
                      <a:pt x="46" y="1131"/>
                    </a:lnTo>
                    <a:lnTo>
                      <a:pt x="51" y="1131"/>
                    </a:lnTo>
                    <a:lnTo>
                      <a:pt x="57" y="1133"/>
                    </a:lnTo>
                    <a:lnTo>
                      <a:pt x="62" y="1133"/>
                    </a:lnTo>
                    <a:lnTo>
                      <a:pt x="66" y="1127"/>
                    </a:lnTo>
                    <a:lnTo>
                      <a:pt x="72" y="1122"/>
                    </a:lnTo>
                    <a:lnTo>
                      <a:pt x="76" y="1118"/>
                    </a:lnTo>
                    <a:lnTo>
                      <a:pt x="81" y="1112"/>
                    </a:lnTo>
                    <a:lnTo>
                      <a:pt x="96" y="1111"/>
                    </a:lnTo>
                    <a:lnTo>
                      <a:pt x="112" y="1111"/>
                    </a:lnTo>
                    <a:lnTo>
                      <a:pt x="127" y="1110"/>
                    </a:lnTo>
                    <a:lnTo>
                      <a:pt x="143" y="1110"/>
                    </a:lnTo>
                    <a:lnTo>
                      <a:pt x="160" y="1108"/>
                    </a:lnTo>
                    <a:lnTo>
                      <a:pt x="174" y="1108"/>
                    </a:lnTo>
                    <a:lnTo>
                      <a:pt x="191" y="1107"/>
                    </a:lnTo>
                    <a:lnTo>
                      <a:pt x="207" y="1106"/>
                    </a:lnTo>
                    <a:lnTo>
                      <a:pt x="222" y="1106"/>
                    </a:lnTo>
                    <a:lnTo>
                      <a:pt x="238" y="1104"/>
                    </a:lnTo>
                    <a:lnTo>
                      <a:pt x="253" y="1104"/>
                    </a:lnTo>
                    <a:lnTo>
                      <a:pt x="269" y="1103"/>
                    </a:lnTo>
                    <a:lnTo>
                      <a:pt x="285" y="1103"/>
                    </a:lnTo>
                    <a:lnTo>
                      <a:pt x="300" y="1102"/>
                    </a:lnTo>
                    <a:lnTo>
                      <a:pt x="316" y="1102"/>
                    </a:lnTo>
                    <a:lnTo>
                      <a:pt x="331" y="1100"/>
                    </a:lnTo>
                    <a:lnTo>
                      <a:pt x="339" y="1106"/>
                    </a:lnTo>
                    <a:lnTo>
                      <a:pt x="349" y="1110"/>
                    </a:lnTo>
                    <a:lnTo>
                      <a:pt x="357" y="1115"/>
                    </a:lnTo>
                    <a:lnTo>
                      <a:pt x="366" y="1121"/>
                    </a:lnTo>
                    <a:lnTo>
                      <a:pt x="372" y="1121"/>
                    </a:lnTo>
                    <a:lnTo>
                      <a:pt x="377" y="1119"/>
                    </a:lnTo>
                    <a:lnTo>
                      <a:pt x="384" y="1119"/>
                    </a:lnTo>
                    <a:lnTo>
                      <a:pt x="389" y="1118"/>
                    </a:lnTo>
                    <a:lnTo>
                      <a:pt x="395" y="1118"/>
                    </a:lnTo>
                    <a:lnTo>
                      <a:pt x="402" y="1118"/>
                    </a:lnTo>
                    <a:lnTo>
                      <a:pt x="407" y="1117"/>
                    </a:lnTo>
                    <a:lnTo>
                      <a:pt x="412" y="1117"/>
                    </a:lnTo>
                    <a:lnTo>
                      <a:pt x="412" y="842"/>
                    </a:lnTo>
                    <a:lnTo>
                      <a:pt x="414" y="569"/>
                    </a:lnTo>
                    <a:lnTo>
                      <a:pt x="414" y="295"/>
                    </a:lnTo>
                    <a:lnTo>
                      <a:pt x="415" y="22"/>
                    </a:lnTo>
                    <a:lnTo>
                      <a:pt x="389" y="20"/>
                    </a:lnTo>
                    <a:lnTo>
                      <a:pt x="364" y="19"/>
                    </a:lnTo>
                    <a:lnTo>
                      <a:pt x="338" y="18"/>
                    </a:lnTo>
                    <a:lnTo>
                      <a:pt x="311" y="16"/>
                    </a:lnTo>
                    <a:lnTo>
                      <a:pt x="285" y="15"/>
                    </a:lnTo>
                    <a:lnTo>
                      <a:pt x="260" y="14"/>
                    </a:lnTo>
                    <a:lnTo>
                      <a:pt x="234" y="12"/>
                    </a:lnTo>
                    <a:lnTo>
                      <a:pt x="208" y="11"/>
                    </a:lnTo>
                    <a:lnTo>
                      <a:pt x="183" y="10"/>
                    </a:lnTo>
                    <a:lnTo>
                      <a:pt x="157" y="8"/>
                    </a:lnTo>
                    <a:lnTo>
                      <a:pt x="130" y="7"/>
                    </a:lnTo>
                    <a:lnTo>
                      <a:pt x="104" y="6"/>
                    </a:lnTo>
                    <a:lnTo>
                      <a:pt x="79" y="4"/>
                    </a:lnTo>
                    <a:lnTo>
                      <a:pt x="53" y="3"/>
                    </a:lnTo>
                    <a:lnTo>
                      <a:pt x="26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48"/>
              <p:cNvSpPr/>
              <p:nvPr/>
            </p:nvSpPr>
            <p:spPr>
              <a:xfrm>
                <a:off x="1215000" y="992880"/>
                <a:ext cx="279000" cy="76896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768960"/>
                  <a:gd name="textAreaBottom" fmla="*/ 769320 h 768960"/>
                </a:gdLst>
                <a:ahLst/>
                <a:rect l="textAreaLeft" t="textAreaTop" r="textAreaRight" b="textAreaBottom"/>
                <a:pathLst>
                  <a:path w="387" h="1038">
                    <a:moveTo>
                      <a:pt x="0" y="0"/>
                    </a:moveTo>
                    <a:lnTo>
                      <a:pt x="6" y="260"/>
                    </a:lnTo>
                    <a:lnTo>
                      <a:pt x="10" y="519"/>
                    </a:lnTo>
                    <a:lnTo>
                      <a:pt x="14" y="779"/>
                    </a:lnTo>
                    <a:lnTo>
                      <a:pt x="19" y="1038"/>
                    </a:lnTo>
                    <a:lnTo>
                      <a:pt x="24" y="1038"/>
                    </a:lnTo>
                    <a:lnTo>
                      <a:pt x="30" y="1038"/>
                    </a:lnTo>
                    <a:lnTo>
                      <a:pt x="35" y="1038"/>
                    </a:lnTo>
                    <a:lnTo>
                      <a:pt x="41" y="1038"/>
                    </a:lnTo>
                    <a:lnTo>
                      <a:pt x="45" y="1038"/>
                    </a:lnTo>
                    <a:lnTo>
                      <a:pt x="50" y="1038"/>
                    </a:lnTo>
                    <a:lnTo>
                      <a:pt x="56" y="1038"/>
                    </a:lnTo>
                    <a:lnTo>
                      <a:pt x="61" y="1038"/>
                    </a:lnTo>
                    <a:lnTo>
                      <a:pt x="64" y="1033"/>
                    </a:lnTo>
                    <a:lnTo>
                      <a:pt x="68" y="1027"/>
                    </a:lnTo>
                    <a:lnTo>
                      <a:pt x="72" y="1022"/>
                    </a:lnTo>
                    <a:lnTo>
                      <a:pt x="74" y="1017"/>
                    </a:lnTo>
                    <a:lnTo>
                      <a:pt x="89" y="1015"/>
                    </a:lnTo>
                    <a:lnTo>
                      <a:pt x="106" y="1015"/>
                    </a:lnTo>
                    <a:lnTo>
                      <a:pt x="120" y="1014"/>
                    </a:lnTo>
                    <a:lnTo>
                      <a:pt x="137" y="1012"/>
                    </a:lnTo>
                    <a:lnTo>
                      <a:pt x="152" y="1012"/>
                    </a:lnTo>
                    <a:lnTo>
                      <a:pt x="166" y="1011"/>
                    </a:lnTo>
                    <a:lnTo>
                      <a:pt x="183" y="1010"/>
                    </a:lnTo>
                    <a:lnTo>
                      <a:pt x="197" y="1010"/>
                    </a:lnTo>
                    <a:lnTo>
                      <a:pt x="212" y="1008"/>
                    </a:lnTo>
                    <a:lnTo>
                      <a:pt x="227" y="1007"/>
                    </a:lnTo>
                    <a:lnTo>
                      <a:pt x="243" y="1007"/>
                    </a:lnTo>
                    <a:lnTo>
                      <a:pt x="258" y="1006"/>
                    </a:lnTo>
                    <a:lnTo>
                      <a:pt x="273" y="1006"/>
                    </a:lnTo>
                    <a:lnTo>
                      <a:pt x="288" y="1004"/>
                    </a:lnTo>
                    <a:lnTo>
                      <a:pt x="304" y="1004"/>
                    </a:lnTo>
                    <a:lnTo>
                      <a:pt x="319" y="1003"/>
                    </a:lnTo>
                    <a:lnTo>
                      <a:pt x="325" y="1008"/>
                    </a:lnTo>
                    <a:lnTo>
                      <a:pt x="329" y="1014"/>
                    </a:lnTo>
                    <a:lnTo>
                      <a:pt x="333" y="1019"/>
                    </a:lnTo>
                    <a:lnTo>
                      <a:pt x="338" y="1025"/>
                    </a:lnTo>
                    <a:lnTo>
                      <a:pt x="343" y="1025"/>
                    </a:lnTo>
                    <a:lnTo>
                      <a:pt x="349" y="1025"/>
                    </a:lnTo>
                    <a:lnTo>
                      <a:pt x="356" y="1025"/>
                    </a:lnTo>
                    <a:lnTo>
                      <a:pt x="361" y="1023"/>
                    </a:lnTo>
                    <a:lnTo>
                      <a:pt x="366" y="1023"/>
                    </a:lnTo>
                    <a:lnTo>
                      <a:pt x="373" y="1023"/>
                    </a:lnTo>
                    <a:lnTo>
                      <a:pt x="379" y="1023"/>
                    </a:lnTo>
                    <a:lnTo>
                      <a:pt x="384" y="1023"/>
                    </a:lnTo>
                    <a:lnTo>
                      <a:pt x="385" y="773"/>
                    </a:lnTo>
                    <a:lnTo>
                      <a:pt x="387" y="522"/>
                    </a:lnTo>
                    <a:lnTo>
                      <a:pt x="387" y="272"/>
                    </a:lnTo>
                    <a:lnTo>
                      <a:pt x="387" y="22"/>
                    </a:lnTo>
                    <a:lnTo>
                      <a:pt x="362" y="20"/>
                    </a:lnTo>
                    <a:lnTo>
                      <a:pt x="338" y="19"/>
                    </a:lnTo>
                    <a:lnTo>
                      <a:pt x="315" y="18"/>
                    </a:lnTo>
                    <a:lnTo>
                      <a:pt x="291" y="16"/>
                    </a:lnTo>
                    <a:lnTo>
                      <a:pt x="266" y="15"/>
                    </a:lnTo>
                    <a:lnTo>
                      <a:pt x="242" y="14"/>
                    </a:lnTo>
                    <a:lnTo>
                      <a:pt x="218" y="12"/>
                    </a:lnTo>
                    <a:lnTo>
                      <a:pt x="193" y="11"/>
                    </a:lnTo>
                    <a:lnTo>
                      <a:pt x="170" y="10"/>
                    </a:lnTo>
                    <a:lnTo>
                      <a:pt x="146" y="8"/>
                    </a:lnTo>
                    <a:lnTo>
                      <a:pt x="122" y="7"/>
                    </a:lnTo>
                    <a:lnTo>
                      <a:pt x="97" y="6"/>
                    </a:lnTo>
                    <a:lnTo>
                      <a:pt x="73" y="4"/>
                    </a:lnTo>
                    <a:lnTo>
                      <a:pt x="49" y="3"/>
                    </a:lnTo>
                    <a:lnTo>
                      <a:pt x="2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b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49"/>
              <p:cNvSpPr/>
              <p:nvPr/>
            </p:nvSpPr>
            <p:spPr>
              <a:xfrm>
                <a:off x="1215000" y="992880"/>
                <a:ext cx="260280" cy="69876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698760"/>
                  <a:gd name="textAreaBottom" fmla="*/ 699120 h 698760"/>
                </a:gdLst>
                <a:ahLst/>
                <a:rect l="textAreaLeft" t="textAreaTop" r="textAreaRight" b="textAreaBottom"/>
                <a:pathLst>
                  <a:path w="360" h="945">
                    <a:moveTo>
                      <a:pt x="0" y="0"/>
                    </a:moveTo>
                    <a:lnTo>
                      <a:pt x="20" y="945"/>
                    </a:lnTo>
                    <a:lnTo>
                      <a:pt x="60" y="945"/>
                    </a:lnTo>
                    <a:lnTo>
                      <a:pt x="69" y="918"/>
                    </a:lnTo>
                    <a:lnTo>
                      <a:pt x="308" y="904"/>
                    </a:lnTo>
                    <a:lnTo>
                      <a:pt x="308" y="929"/>
                    </a:lnTo>
                    <a:lnTo>
                      <a:pt x="358" y="929"/>
                    </a:lnTo>
                    <a:lnTo>
                      <a:pt x="36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b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0"/>
              <p:cNvSpPr/>
              <p:nvPr/>
            </p:nvSpPr>
            <p:spPr>
              <a:xfrm>
                <a:off x="1235160" y="1506960"/>
                <a:ext cx="472680" cy="922680"/>
              </a:xfrm>
              <a:custGeom>
                <a:avLst/>
                <a:gdLst>
                  <a:gd name="textAreaLeft" fmla="*/ 0 w 472680"/>
                  <a:gd name="textAreaRight" fmla="*/ 473040 w 472680"/>
                  <a:gd name="textAreaTop" fmla="*/ 0 h 922680"/>
                  <a:gd name="textAreaBottom" fmla="*/ 923040 h 922680"/>
                </a:gdLst>
                <a:ahLst/>
                <a:rect l="textAreaLeft" t="textAreaTop" r="textAreaRight" b="textAreaBottom"/>
                <a:pathLst>
                  <a:path w="656" h="1246">
                    <a:moveTo>
                      <a:pt x="49" y="0"/>
                    </a:moveTo>
                    <a:lnTo>
                      <a:pt x="0" y="65"/>
                    </a:lnTo>
                    <a:lnTo>
                      <a:pt x="0" y="1215"/>
                    </a:lnTo>
                    <a:lnTo>
                      <a:pt x="62" y="1246"/>
                    </a:lnTo>
                    <a:lnTo>
                      <a:pt x="615" y="1246"/>
                    </a:lnTo>
                    <a:lnTo>
                      <a:pt x="656" y="1162"/>
                    </a:lnTo>
                    <a:lnTo>
                      <a:pt x="656" y="34"/>
                    </a:lnTo>
                    <a:lnTo>
                      <a:pt x="602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51"/>
              <p:cNvSpPr/>
              <p:nvPr/>
            </p:nvSpPr>
            <p:spPr>
              <a:xfrm>
                <a:off x="1513080" y="1486080"/>
                <a:ext cx="180720" cy="921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921240"/>
                  <a:gd name="textAreaBottom" fmla="*/ 921240 h 921240"/>
                </a:gdLst>
                <a:ahLst/>
                <a:rect l="textAreaLeft" t="textAreaTop" r="textAreaRight" b="textAreaBottom"/>
                <a:pathLst>
                  <a:path w="250" h="1245">
                    <a:moveTo>
                      <a:pt x="3" y="81"/>
                    </a:moveTo>
                    <a:lnTo>
                      <a:pt x="0" y="1237"/>
                    </a:lnTo>
                    <a:lnTo>
                      <a:pt x="250" y="1245"/>
                    </a:lnTo>
                    <a:lnTo>
                      <a:pt x="250" y="0"/>
                    </a:lnTo>
                    <a:lnTo>
                      <a:pt x="247" y="1"/>
                    </a:lnTo>
                    <a:lnTo>
                      <a:pt x="239" y="3"/>
                    </a:lnTo>
                    <a:lnTo>
                      <a:pt x="227" y="7"/>
                    </a:lnTo>
                    <a:lnTo>
                      <a:pt x="212" y="12"/>
                    </a:lnTo>
                    <a:lnTo>
                      <a:pt x="193" y="19"/>
                    </a:lnTo>
                    <a:lnTo>
                      <a:pt x="172" y="24"/>
                    </a:lnTo>
                    <a:lnTo>
                      <a:pt x="150" y="33"/>
                    </a:lnTo>
                    <a:lnTo>
                      <a:pt x="127" y="39"/>
                    </a:lnTo>
                    <a:lnTo>
                      <a:pt x="104" y="47"/>
                    </a:lnTo>
                    <a:lnTo>
                      <a:pt x="81" y="54"/>
                    </a:lnTo>
                    <a:lnTo>
                      <a:pt x="61" y="61"/>
                    </a:lnTo>
                    <a:lnTo>
                      <a:pt x="42" y="68"/>
                    </a:lnTo>
                    <a:lnTo>
                      <a:pt x="26" y="73"/>
                    </a:lnTo>
                    <a:lnTo>
                      <a:pt x="14" y="77"/>
                    </a:lnTo>
                    <a:lnTo>
                      <a:pt x="5" y="80"/>
                    </a:lnTo>
                    <a:lnTo>
                      <a:pt x="3" y="81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52"/>
              <p:cNvSpPr/>
              <p:nvPr/>
            </p:nvSpPr>
            <p:spPr>
              <a:xfrm>
                <a:off x="1528920" y="1486080"/>
                <a:ext cx="164880" cy="9212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21240"/>
                  <a:gd name="textAreaBottom" fmla="*/ 921240 h 921240"/>
                </a:gdLst>
                <a:ahLst/>
                <a:rect l="textAreaLeft" t="textAreaTop" r="textAreaRight" b="textAreaBottom"/>
                <a:pathLst>
                  <a:path w="227" h="1245">
                    <a:moveTo>
                      <a:pt x="1" y="78"/>
                    </a:moveTo>
                    <a:lnTo>
                      <a:pt x="1" y="368"/>
                    </a:lnTo>
                    <a:lnTo>
                      <a:pt x="1" y="656"/>
                    </a:lnTo>
                    <a:lnTo>
                      <a:pt x="0" y="943"/>
                    </a:lnTo>
                    <a:lnTo>
                      <a:pt x="0" y="1231"/>
                    </a:lnTo>
                    <a:lnTo>
                      <a:pt x="15" y="1233"/>
                    </a:lnTo>
                    <a:lnTo>
                      <a:pt x="28" y="1233"/>
                    </a:lnTo>
                    <a:lnTo>
                      <a:pt x="43" y="1234"/>
                    </a:lnTo>
                    <a:lnTo>
                      <a:pt x="57" y="1234"/>
                    </a:lnTo>
                    <a:lnTo>
                      <a:pt x="72" y="1235"/>
                    </a:lnTo>
                    <a:lnTo>
                      <a:pt x="85" y="1235"/>
                    </a:lnTo>
                    <a:lnTo>
                      <a:pt x="100" y="1237"/>
                    </a:lnTo>
                    <a:lnTo>
                      <a:pt x="114" y="1238"/>
                    </a:lnTo>
                    <a:lnTo>
                      <a:pt x="128" y="1238"/>
                    </a:lnTo>
                    <a:lnTo>
                      <a:pt x="142" y="1239"/>
                    </a:lnTo>
                    <a:lnTo>
                      <a:pt x="157" y="1241"/>
                    </a:lnTo>
                    <a:lnTo>
                      <a:pt x="170" y="1241"/>
                    </a:lnTo>
                    <a:lnTo>
                      <a:pt x="185" y="1242"/>
                    </a:lnTo>
                    <a:lnTo>
                      <a:pt x="199" y="1244"/>
                    </a:lnTo>
                    <a:lnTo>
                      <a:pt x="214" y="1244"/>
                    </a:lnTo>
                    <a:lnTo>
                      <a:pt x="227" y="1245"/>
                    </a:lnTo>
                    <a:lnTo>
                      <a:pt x="227" y="934"/>
                    </a:lnTo>
                    <a:lnTo>
                      <a:pt x="227" y="622"/>
                    </a:lnTo>
                    <a:lnTo>
                      <a:pt x="227" y="311"/>
                    </a:lnTo>
                    <a:lnTo>
                      <a:pt x="227" y="0"/>
                    </a:lnTo>
                    <a:lnTo>
                      <a:pt x="224" y="1"/>
                    </a:lnTo>
                    <a:lnTo>
                      <a:pt x="218" y="3"/>
                    </a:lnTo>
                    <a:lnTo>
                      <a:pt x="207" y="7"/>
                    </a:lnTo>
                    <a:lnTo>
                      <a:pt x="192" y="12"/>
                    </a:lnTo>
                    <a:lnTo>
                      <a:pt x="174" y="18"/>
                    </a:lnTo>
                    <a:lnTo>
                      <a:pt x="155" y="24"/>
                    </a:lnTo>
                    <a:lnTo>
                      <a:pt x="135" y="31"/>
                    </a:lnTo>
                    <a:lnTo>
                      <a:pt x="115" y="39"/>
                    </a:lnTo>
                    <a:lnTo>
                      <a:pt x="93" y="46"/>
                    </a:lnTo>
                    <a:lnTo>
                      <a:pt x="73" y="53"/>
                    </a:lnTo>
                    <a:lnTo>
                      <a:pt x="54" y="60"/>
                    </a:lnTo>
                    <a:lnTo>
                      <a:pt x="38" y="66"/>
                    </a:lnTo>
                    <a:lnTo>
                      <a:pt x="23" y="70"/>
                    </a:lnTo>
                    <a:lnTo>
                      <a:pt x="11" y="74"/>
                    </a:lnTo>
                    <a:lnTo>
                      <a:pt x="4" y="77"/>
                    </a:lnTo>
                    <a:lnTo>
                      <a:pt x="1" y="78"/>
                    </a:lnTo>
                    <a:close/>
                  </a:path>
                </a:pathLst>
              </a:custGeom>
              <a:solidFill>
                <a:srgbClr val="918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53"/>
              <p:cNvSpPr/>
              <p:nvPr/>
            </p:nvSpPr>
            <p:spPr>
              <a:xfrm>
                <a:off x="1544760" y="1486080"/>
                <a:ext cx="148680" cy="9212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921240"/>
                  <a:gd name="textAreaBottom" fmla="*/ 921240 h 921240"/>
                </a:gdLst>
                <a:ahLst/>
                <a:rect l="textAreaLeft" t="textAreaTop" r="textAreaRight" b="textAreaBottom"/>
                <a:pathLst>
                  <a:path w="205" h="1245">
                    <a:moveTo>
                      <a:pt x="1" y="77"/>
                    </a:moveTo>
                    <a:lnTo>
                      <a:pt x="1" y="364"/>
                    </a:lnTo>
                    <a:lnTo>
                      <a:pt x="1" y="652"/>
                    </a:lnTo>
                    <a:lnTo>
                      <a:pt x="0" y="938"/>
                    </a:lnTo>
                    <a:lnTo>
                      <a:pt x="0" y="1226"/>
                    </a:lnTo>
                    <a:lnTo>
                      <a:pt x="25" y="1229"/>
                    </a:lnTo>
                    <a:lnTo>
                      <a:pt x="51" y="1230"/>
                    </a:lnTo>
                    <a:lnTo>
                      <a:pt x="77" y="1233"/>
                    </a:lnTo>
                    <a:lnTo>
                      <a:pt x="102" y="1235"/>
                    </a:lnTo>
                    <a:lnTo>
                      <a:pt x="128" y="1237"/>
                    </a:lnTo>
                    <a:lnTo>
                      <a:pt x="154" y="1239"/>
                    </a:lnTo>
                    <a:lnTo>
                      <a:pt x="179" y="1242"/>
                    </a:lnTo>
                    <a:lnTo>
                      <a:pt x="205" y="1245"/>
                    </a:lnTo>
                    <a:lnTo>
                      <a:pt x="205" y="934"/>
                    </a:lnTo>
                    <a:lnTo>
                      <a:pt x="205" y="622"/>
                    </a:lnTo>
                    <a:lnTo>
                      <a:pt x="205" y="311"/>
                    </a:lnTo>
                    <a:lnTo>
                      <a:pt x="205" y="0"/>
                    </a:lnTo>
                    <a:lnTo>
                      <a:pt x="197" y="3"/>
                    </a:lnTo>
                    <a:lnTo>
                      <a:pt x="174" y="12"/>
                    </a:lnTo>
                    <a:lnTo>
                      <a:pt x="142" y="24"/>
                    </a:lnTo>
                    <a:lnTo>
                      <a:pt x="104" y="38"/>
                    </a:lnTo>
                    <a:lnTo>
                      <a:pt x="67" y="51"/>
                    </a:lnTo>
                    <a:lnTo>
                      <a:pt x="33" y="64"/>
                    </a:lnTo>
                    <a:lnTo>
                      <a:pt x="10" y="73"/>
                    </a:lnTo>
                    <a:lnTo>
                      <a:pt x="1" y="77"/>
                    </a:lnTo>
                    <a:close/>
                  </a:path>
                </a:pathLst>
              </a:custGeom>
              <a:solidFill>
                <a:srgbClr val="9993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54"/>
              <p:cNvSpPr/>
              <p:nvPr/>
            </p:nvSpPr>
            <p:spPr>
              <a:xfrm>
                <a:off x="1560600" y="1486080"/>
                <a:ext cx="132840" cy="921240"/>
              </a:xfrm>
              <a:custGeom>
                <a:avLst/>
                <a:gdLst/>
                <a:ahLst/>
                <a:rect l="l" t="t" r="r" b="b"/>
                <a:pathLst>
                  <a:path w="184" h="1245">
                    <a:moveTo>
                      <a:pt x="3" y="74"/>
                    </a:moveTo>
                    <a:lnTo>
                      <a:pt x="2" y="361"/>
                    </a:lnTo>
                    <a:lnTo>
                      <a:pt x="2" y="646"/>
                    </a:lnTo>
                    <a:lnTo>
                      <a:pt x="2" y="933"/>
                    </a:lnTo>
                    <a:lnTo>
                      <a:pt x="0" y="1219"/>
                    </a:lnTo>
                    <a:lnTo>
                      <a:pt x="23" y="1222"/>
                    </a:lnTo>
                    <a:lnTo>
                      <a:pt x="46" y="1226"/>
                    </a:lnTo>
                    <a:lnTo>
                      <a:pt x="69" y="1229"/>
                    </a:lnTo>
                    <a:lnTo>
                      <a:pt x="92" y="1231"/>
                    </a:lnTo>
                    <a:lnTo>
                      <a:pt x="115" y="1235"/>
                    </a:lnTo>
                    <a:lnTo>
                      <a:pt x="138" y="1238"/>
                    </a:lnTo>
                    <a:lnTo>
                      <a:pt x="161" y="1242"/>
                    </a:lnTo>
                    <a:lnTo>
                      <a:pt x="184" y="1245"/>
                    </a:lnTo>
                    <a:lnTo>
                      <a:pt x="184" y="934"/>
                    </a:lnTo>
                    <a:lnTo>
                      <a:pt x="184" y="622"/>
                    </a:lnTo>
                    <a:lnTo>
                      <a:pt x="184" y="311"/>
                    </a:lnTo>
                    <a:lnTo>
                      <a:pt x="184" y="0"/>
                    </a:lnTo>
                    <a:lnTo>
                      <a:pt x="176" y="3"/>
                    </a:lnTo>
                    <a:lnTo>
                      <a:pt x="156" y="11"/>
                    </a:lnTo>
                    <a:lnTo>
                      <a:pt x="127" y="23"/>
                    </a:lnTo>
                    <a:lnTo>
                      <a:pt x="94" y="37"/>
                    </a:lnTo>
                    <a:lnTo>
                      <a:pt x="61" y="50"/>
                    </a:lnTo>
                    <a:lnTo>
                      <a:pt x="31" y="62"/>
                    </a:lnTo>
                    <a:lnTo>
                      <a:pt x="11" y="70"/>
                    </a:lnTo>
                    <a:lnTo>
                      <a:pt x="3" y="74"/>
                    </a:lnTo>
                    <a:close/>
                  </a:path>
                </a:pathLst>
              </a:custGeom>
              <a:solidFill>
                <a:srgbClr val="9e9b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55"/>
              <p:cNvSpPr/>
              <p:nvPr/>
            </p:nvSpPr>
            <p:spPr>
              <a:xfrm>
                <a:off x="1576800" y="1486080"/>
                <a:ext cx="117000" cy="921240"/>
              </a:xfrm>
              <a:custGeom>
                <a:avLst/>
                <a:gdLst>
                  <a:gd name="textAreaLeft" fmla="*/ 0 w 117000"/>
                  <a:gd name="textAreaRight" fmla="*/ 117360 w 117000"/>
                  <a:gd name="textAreaTop" fmla="*/ 0 h 921240"/>
                  <a:gd name="textAreaBottom" fmla="*/ 921240 h 921240"/>
                </a:gdLst>
                <a:ahLst/>
                <a:rect l="textAreaLeft" t="textAreaTop" r="textAreaRight" b="textAreaBottom"/>
                <a:pathLst>
                  <a:path w="161" h="1245">
                    <a:moveTo>
                      <a:pt x="2" y="72"/>
                    </a:moveTo>
                    <a:lnTo>
                      <a:pt x="0" y="357"/>
                    </a:lnTo>
                    <a:lnTo>
                      <a:pt x="0" y="642"/>
                    </a:lnTo>
                    <a:lnTo>
                      <a:pt x="0" y="929"/>
                    </a:lnTo>
                    <a:lnTo>
                      <a:pt x="0" y="1214"/>
                    </a:lnTo>
                    <a:lnTo>
                      <a:pt x="21" y="1218"/>
                    </a:lnTo>
                    <a:lnTo>
                      <a:pt x="39" y="1222"/>
                    </a:lnTo>
                    <a:lnTo>
                      <a:pt x="60" y="1226"/>
                    </a:lnTo>
                    <a:lnTo>
                      <a:pt x="80" y="1229"/>
                    </a:lnTo>
                    <a:lnTo>
                      <a:pt x="100" y="1233"/>
                    </a:lnTo>
                    <a:lnTo>
                      <a:pt x="121" y="1237"/>
                    </a:lnTo>
                    <a:lnTo>
                      <a:pt x="141" y="1241"/>
                    </a:lnTo>
                    <a:lnTo>
                      <a:pt x="161" y="1245"/>
                    </a:lnTo>
                    <a:lnTo>
                      <a:pt x="161" y="934"/>
                    </a:lnTo>
                    <a:lnTo>
                      <a:pt x="161" y="622"/>
                    </a:lnTo>
                    <a:lnTo>
                      <a:pt x="161" y="311"/>
                    </a:lnTo>
                    <a:lnTo>
                      <a:pt x="161" y="0"/>
                    </a:lnTo>
                    <a:lnTo>
                      <a:pt x="154" y="3"/>
                    </a:lnTo>
                    <a:lnTo>
                      <a:pt x="137" y="11"/>
                    </a:lnTo>
                    <a:lnTo>
                      <a:pt x="111" y="22"/>
                    </a:lnTo>
                    <a:lnTo>
                      <a:pt x="81" y="35"/>
                    </a:lnTo>
                    <a:lnTo>
                      <a:pt x="53" y="47"/>
                    </a:lnTo>
                    <a:lnTo>
                      <a:pt x="27" y="60"/>
                    </a:lnTo>
                    <a:lnTo>
                      <a:pt x="8" y="68"/>
                    </a:lnTo>
                    <a:lnTo>
                      <a:pt x="2" y="72"/>
                    </a:lnTo>
                    <a:close/>
                  </a:path>
                </a:pathLst>
              </a:custGeom>
              <a:solidFill>
                <a:srgbClr val="a5a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56"/>
              <p:cNvSpPr/>
              <p:nvPr/>
            </p:nvSpPr>
            <p:spPr>
              <a:xfrm>
                <a:off x="1592280" y="1486080"/>
                <a:ext cx="101160" cy="921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921240"/>
                  <a:gd name="textAreaBottom" fmla="*/ 921240 h 921240"/>
                </a:gdLst>
                <a:ahLst/>
                <a:rect l="textAreaLeft" t="textAreaTop" r="textAreaRight" b="textAreaBottom"/>
                <a:pathLst>
                  <a:path w="139" h="1245">
                    <a:moveTo>
                      <a:pt x="1" y="70"/>
                    </a:moveTo>
                    <a:lnTo>
                      <a:pt x="1" y="354"/>
                    </a:lnTo>
                    <a:lnTo>
                      <a:pt x="1" y="639"/>
                    </a:lnTo>
                    <a:lnTo>
                      <a:pt x="0" y="923"/>
                    </a:lnTo>
                    <a:lnTo>
                      <a:pt x="0" y="1208"/>
                    </a:lnTo>
                    <a:lnTo>
                      <a:pt x="17" y="1212"/>
                    </a:lnTo>
                    <a:lnTo>
                      <a:pt x="35" y="1218"/>
                    </a:lnTo>
                    <a:lnTo>
                      <a:pt x="53" y="1222"/>
                    </a:lnTo>
                    <a:lnTo>
                      <a:pt x="70" y="1226"/>
                    </a:lnTo>
                    <a:lnTo>
                      <a:pt x="86" y="1231"/>
                    </a:lnTo>
                    <a:lnTo>
                      <a:pt x="104" y="1235"/>
                    </a:lnTo>
                    <a:lnTo>
                      <a:pt x="122" y="1241"/>
                    </a:lnTo>
                    <a:lnTo>
                      <a:pt x="139" y="1245"/>
                    </a:lnTo>
                    <a:lnTo>
                      <a:pt x="139" y="934"/>
                    </a:lnTo>
                    <a:lnTo>
                      <a:pt x="139" y="622"/>
                    </a:lnTo>
                    <a:lnTo>
                      <a:pt x="139" y="311"/>
                    </a:lnTo>
                    <a:lnTo>
                      <a:pt x="139" y="0"/>
                    </a:lnTo>
                    <a:lnTo>
                      <a:pt x="134" y="3"/>
                    </a:lnTo>
                    <a:lnTo>
                      <a:pt x="118" y="11"/>
                    </a:lnTo>
                    <a:lnTo>
                      <a:pt x="96" y="22"/>
                    </a:lnTo>
                    <a:lnTo>
                      <a:pt x="70" y="34"/>
                    </a:lnTo>
                    <a:lnTo>
                      <a:pt x="46" y="47"/>
                    </a:lnTo>
                    <a:lnTo>
                      <a:pt x="23" y="58"/>
                    </a:lnTo>
                    <a:lnTo>
                      <a:pt x="8" y="66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ada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57"/>
              <p:cNvSpPr/>
              <p:nvPr/>
            </p:nvSpPr>
            <p:spPr>
              <a:xfrm>
                <a:off x="1608480" y="1486080"/>
                <a:ext cx="84960" cy="92124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921240"/>
                  <a:gd name="textAreaBottom" fmla="*/ 921240 h 921240"/>
                </a:gdLst>
                <a:ahLst/>
                <a:rect l="textAreaLeft" t="textAreaTop" r="textAreaRight" b="textAreaBottom"/>
                <a:pathLst>
                  <a:path w="117" h="1245">
                    <a:moveTo>
                      <a:pt x="1" y="68"/>
                    </a:moveTo>
                    <a:lnTo>
                      <a:pt x="1" y="352"/>
                    </a:lnTo>
                    <a:lnTo>
                      <a:pt x="1" y="635"/>
                    </a:lnTo>
                    <a:lnTo>
                      <a:pt x="0" y="919"/>
                    </a:lnTo>
                    <a:lnTo>
                      <a:pt x="0" y="1202"/>
                    </a:lnTo>
                    <a:lnTo>
                      <a:pt x="14" y="1207"/>
                    </a:lnTo>
                    <a:lnTo>
                      <a:pt x="29" y="1212"/>
                    </a:lnTo>
                    <a:lnTo>
                      <a:pt x="44" y="1218"/>
                    </a:lnTo>
                    <a:lnTo>
                      <a:pt x="59" y="1223"/>
                    </a:lnTo>
                    <a:lnTo>
                      <a:pt x="73" y="1229"/>
                    </a:lnTo>
                    <a:lnTo>
                      <a:pt x="87" y="1234"/>
                    </a:lnTo>
                    <a:lnTo>
                      <a:pt x="102" y="1239"/>
                    </a:lnTo>
                    <a:lnTo>
                      <a:pt x="117" y="1245"/>
                    </a:lnTo>
                    <a:lnTo>
                      <a:pt x="117" y="934"/>
                    </a:lnTo>
                    <a:lnTo>
                      <a:pt x="117" y="622"/>
                    </a:lnTo>
                    <a:lnTo>
                      <a:pt x="117" y="311"/>
                    </a:lnTo>
                    <a:lnTo>
                      <a:pt x="117" y="0"/>
                    </a:lnTo>
                    <a:lnTo>
                      <a:pt x="112" y="3"/>
                    </a:lnTo>
                    <a:lnTo>
                      <a:pt x="100" y="11"/>
                    </a:lnTo>
                    <a:lnTo>
                      <a:pt x="81" y="20"/>
                    </a:lnTo>
                    <a:lnTo>
                      <a:pt x="60" y="33"/>
                    </a:lnTo>
                    <a:lnTo>
                      <a:pt x="39" y="45"/>
                    </a:lnTo>
                    <a:lnTo>
                      <a:pt x="20" y="56"/>
                    </a:lnTo>
                    <a:lnTo>
                      <a:pt x="6" y="64"/>
                    </a:lnTo>
                    <a:lnTo>
                      <a:pt x="1" y="68"/>
                    </a:lnTo>
                    <a:close/>
                  </a:path>
                </a:pathLst>
              </a:custGeom>
              <a:solidFill>
                <a:srgbClr val="b5aa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58"/>
              <p:cNvSpPr/>
              <p:nvPr/>
            </p:nvSpPr>
            <p:spPr>
              <a:xfrm>
                <a:off x="1624320" y="1486080"/>
                <a:ext cx="69480" cy="9212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921240"/>
                  <a:gd name="textAreaBottom" fmla="*/ 921240 h 921240"/>
                </a:gdLst>
                <a:ahLst/>
                <a:rect l="textAreaLeft" t="textAreaTop" r="textAreaRight" b="textAreaBottom"/>
                <a:pathLst>
                  <a:path w="96" h="1245">
                    <a:moveTo>
                      <a:pt x="3" y="65"/>
                    </a:moveTo>
                    <a:lnTo>
                      <a:pt x="2" y="347"/>
                    </a:lnTo>
                    <a:lnTo>
                      <a:pt x="2" y="630"/>
                    </a:lnTo>
                    <a:lnTo>
                      <a:pt x="2" y="912"/>
                    </a:lnTo>
                    <a:lnTo>
                      <a:pt x="0" y="1196"/>
                    </a:lnTo>
                    <a:lnTo>
                      <a:pt x="12" y="1202"/>
                    </a:lnTo>
                    <a:lnTo>
                      <a:pt x="24" y="1208"/>
                    </a:lnTo>
                    <a:lnTo>
                      <a:pt x="37" y="1214"/>
                    </a:lnTo>
                    <a:lnTo>
                      <a:pt x="49" y="1221"/>
                    </a:lnTo>
                    <a:lnTo>
                      <a:pt x="61" y="1226"/>
                    </a:lnTo>
                    <a:lnTo>
                      <a:pt x="73" y="1233"/>
                    </a:lnTo>
                    <a:lnTo>
                      <a:pt x="84" y="1238"/>
                    </a:lnTo>
                    <a:lnTo>
                      <a:pt x="96" y="1245"/>
                    </a:lnTo>
                    <a:lnTo>
                      <a:pt x="96" y="934"/>
                    </a:lnTo>
                    <a:lnTo>
                      <a:pt x="96" y="622"/>
                    </a:lnTo>
                    <a:lnTo>
                      <a:pt x="96" y="311"/>
                    </a:lnTo>
                    <a:lnTo>
                      <a:pt x="96" y="0"/>
                    </a:lnTo>
                    <a:lnTo>
                      <a:pt x="92" y="3"/>
                    </a:lnTo>
                    <a:lnTo>
                      <a:pt x="81" y="10"/>
                    </a:lnTo>
                    <a:lnTo>
                      <a:pt x="66" y="20"/>
                    </a:lnTo>
                    <a:lnTo>
                      <a:pt x="50" y="31"/>
                    </a:lnTo>
                    <a:lnTo>
                      <a:pt x="33" y="43"/>
                    </a:lnTo>
                    <a:lnTo>
                      <a:pt x="18" y="54"/>
                    </a:lnTo>
                    <a:lnTo>
                      <a:pt x="7" y="61"/>
                    </a:lnTo>
                    <a:lnTo>
                      <a:pt x="3" y="65"/>
                    </a:lnTo>
                    <a:close/>
                  </a:path>
                </a:pathLst>
              </a:custGeom>
              <a:solidFill>
                <a:srgbClr val="bab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59"/>
              <p:cNvSpPr/>
              <p:nvPr/>
            </p:nvSpPr>
            <p:spPr>
              <a:xfrm>
                <a:off x="1638720" y="1486080"/>
                <a:ext cx="55080" cy="9212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921240"/>
                  <a:gd name="textAreaBottom" fmla="*/ 921240 h 921240"/>
                </a:gdLst>
                <a:ahLst/>
                <a:rect l="textAreaLeft" t="textAreaTop" r="textAreaRight" b="textAreaBottom"/>
                <a:pathLst>
                  <a:path w="74" h="1245">
                    <a:moveTo>
                      <a:pt x="2" y="62"/>
                    </a:moveTo>
                    <a:lnTo>
                      <a:pt x="1" y="345"/>
                    </a:lnTo>
                    <a:lnTo>
                      <a:pt x="1" y="626"/>
                    </a:lnTo>
                    <a:lnTo>
                      <a:pt x="1" y="908"/>
                    </a:lnTo>
                    <a:lnTo>
                      <a:pt x="0" y="1191"/>
                    </a:lnTo>
                    <a:lnTo>
                      <a:pt x="9" y="1198"/>
                    </a:lnTo>
                    <a:lnTo>
                      <a:pt x="20" y="1204"/>
                    </a:lnTo>
                    <a:lnTo>
                      <a:pt x="28" y="1211"/>
                    </a:lnTo>
                    <a:lnTo>
                      <a:pt x="38" y="1218"/>
                    </a:lnTo>
                    <a:lnTo>
                      <a:pt x="47" y="1225"/>
                    </a:lnTo>
                    <a:lnTo>
                      <a:pt x="57" y="1231"/>
                    </a:lnTo>
                    <a:lnTo>
                      <a:pt x="65" y="1238"/>
                    </a:lnTo>
                    <a:lnTo>
                      <a:pt x="74" y="1245"/>
                    </a:lnTo>
                    <a:lnTo>
                      <a:pt x="74" y="934"/>
                    </a:lnTo>
                    <a:lnTo>
                      <a:pt x="74" y="622"/>
                    </a:lnTo>
                    <a:lnTo>
                      <a:pt x="74" y="311"/>
                    </a:lnTo>
                    <a:lnTo>
                      <a:pt x="74" y="0"/>
                    </a:lnTo>
                    <a:lnTo>
                      <a:pt x="71" y="3"/>
                    </a:lnTo>
                    <a:lnTo>
                      <a:pt x="63" y="10"/>
                    </a:lnTo>
                    <a:lnTo>
                      <a:pt x="51" y="19"/>
                    </a:lnTo>
                    <a:lnTo>
                      <a:pt x="39" y="30"/>
                    </a:lnTo>
                    <a:lnTo>
                      <a:pt x="25" y="42"/>
                    </a:lnTo>
                    <a:lnTo>
                      <a:pt x="15" y="51"/>
                    </a:lnTo>
                    <a:lnTo>
                      <a:pt x="7" y="58"/>
                    </a:lnTo>
                    <a:lnTo>
                      <a:pt x="2" y="62"/>
                    </a:lnTo>
                    <a:close/>
                  </a:path>
                </a:pathLst>
              </a:custGeom>
              <a:solidFill>
                <a:srgbClr val="c1b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0"/>
              <p:cNvSpPr/>
              <p:nvPr/>
            </p:nvSpPr>
            <p:spPr>
              <a:xfrm>
                <a:off x="1656000" y="1486080"/>
                <a:ext cx="37440" cy="921240"/>
              </a:xfrm>
              <a:custGeom>
                <a:avLst/>
                <a:gdLst/>
                <a:ahLst/>
                <a:rect l="l" t="t" r="r" b="b"/>
                <a:pathLst>
                  <a:path w="51" h="1245">
                    <a:moveTo>
                      <a:pt x="1" y="61"/>
                    </a:moveTo>
                    <a:lnTo>
                      <a:pt x="0" y="1185"/>
                    </a:lnTo>
                    <a:lnTo>
                      <a:pt x="51" y="1245"/>
                    </a:lnTo>
                    <a:lnTo>
                      <a:pt x="51" y="0"/>
                    </a:lnTo>
                    <a:lnTo>
                      <a:pt x="48" y="3"/>
                    </a:lnTo>
                    <a:lnTo>
                      <a:pt x="44" y="10"/>
                    </a:lnTo>
                    <a:lnTo>
                      <a:pt x="36" y="19"/>
                    </a:lnTo>
                    <a:lnTo>
                      <a:pt x="27" y="30"/>
                    </a:lnTo>
                    <a:lnTo>
                      <a:pt x="19" y="41"/>
                    </a:lnTo>
                    <a:lnTo>
                      <a:pt x="11" y="50"/>
                    </a:lnTo>
                    <a:lnTo>
                      <a:pt x="4" y="57"/>
                    </a:lnTo>
                    <a:lnTo>
                      <a:pt x="1" y="61"/>
                    </a:lnTo>
                    <a:close/>
                  </a:path>
                </a:pathLst>
              </a:custGeom>
              <a:solidFill>
                <a:srgbClr val="c9b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61"/>
              <p:cNvSpPr/>
              <p:nvPr/>
            </p:nvSpPr>
            <p:spPr>
              <a:xfrm>
                <a:off x="1248480" y="1529280"/>
                <a:ext cx="426600" cy="888840"/>
              </a:xfrm>
              <a:custGeom>
                <a:avLst/>
                <a:gdLst>
                  <a:gd name="textAreaLeft" fmla="*/ 0 w 426600"/>
                  <a:gd name="textAreaRight" fmla="*/ 426960 w 426600"/>
                  <a:gd name="textAreaTop" fmla="*/ 0 h 888840"/>
                  <a:gd name="textAreaBottom" fmla="*/ 888840 h 888840"/>
                </a:gdLst>
                <a:ahLst/>
                <a:rect l="textAreaLeft" t="textAreaTop" r="textAreaRight" b="textAreaBottom"/>
                <a:pathLst>
                  <a:path w="591" h="1200">
                    <a:moveTo>
                      <a:pt x="23" y="0"/>
                    </a:moveTo>
                    <a:lnTo>
                      <a:pt x="0" y="53"/>
                    </a:lnTo>
                    <a:lnTo>
                      <a:pt x="0" y="1165"/>
                    </a:lnTo>
                    <a:lnTo>
                      <a:pt x="41" y="1194"/>
                    </a:lnTo>
                    <a:lnTo>
                      <a:pt x="591" y="1200"/>
                    </a:lnTo>
                    <a:lnTo>
                      <a:pt x="591" y="1102"/>
                    </a:lnTo>
                    <a:lnTo>
                      <a:pt x="23" y="110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62"/>
              <p:cNvSpPr/>
              <p:nvPr/>
            </p:nvSpPr>
            <p:spPr>
              <a:xfrm>
                <a:off x="1629000" y="1379520"/>
                <a:ext cx="138600" cy="11088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92" h="150">
                    <a:moveTo>
                      <a:pt x="20" y="21"/>
                    </a:moveTo>
                    <a:lnTo>
                      <a:pt x="35" y="0"/>
                    </a:lnTo>
                    <a:lnTo>
                      <a:pt x="192" y="143"/>
                    </a:lnTo>
                    <a:lnTo>
                      <a:pt x="163" y="150"/>
                    </a:lnTo>
                    <a:lnTo>
                      <a:pt x="62" y="47"/>
                    </a:lnTo>
                    <a:lnTo>
                      <a:pt x="38" y="86"/>
                    </a:lnTo>
                    <a:lnTo>
                      <a:pt x="0" y="47"/>
                    </a:lnTo>
                    <a:lnTo>
                      <a:pt x="3" y="42"/>
                    </a:lnTo>
                    <a:lnTo>
                      <a:pt x="11" y="32"/>
                    </a:lnTo>
                    <a:lnTo>
                      <a:pt x="17" y="23"/>
                    </a:lnTo>
                    <a:lnTo>
                      <a:pt x="20" y="21"/>
                    </a:lnTo>
                    <a:close/>
                  </a:path>
                </a:pathLst>
              </a:custGeom>
              <a:solidFill>
                <a:srgbClr val="59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63"/>
              <p:cNvSpPr/>
              <p:nvPr/>
            </p:nvSpPr>
            <p:spPr>
              <a:xfrm>
                <a:off x="1227960" y="1051920"/>
                <a:ext cx="483120" cy="45036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450360"/>
                  <a:gd name="textAreaBottom" fmla="*/ 450720 h 450360"/>
                </a:gdLst>
                <a:ahLst/>
                <a:rect l="textAreaLeft" t="textAreaTop" r="textAreaRight" b="textAreaBottom"/>
                <a:pathLst>
                  <a:path w="669" h="608">
                    <a:moveTo>
                      <a:pt x="61" y="0"/>
                    </a:moveTo>
                    <a:lnTo>
                      <a:pt x="0" y="42"/>
                    </a:lnTo>
                    <a:lnTo>
                      <a:pt x="0" y="546"/>
                    </a:lnTo>
                    <a:lnTo>
                      <a:pt x="40" y="596"/>
                    </a:lnTo>
                    <a:lnTo>
                      <a:pt x="651" y="608"/>
                    </a:lnTo>
                    <a:lnTo>
                      <a:pt x="669" y="554"/>
                    </a:lnTo>
                    <a:lnTo>
                      <a:pt x="669" y="82"/>
                    </a:lnTo>
                    <a:lnTo>
                      <a:pt x="628" y="3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64"/>
              <p:cNvSpPr/>
              <p:nvPr/>
            </p:nvSpPr>
            <p:spPr>
              <a:xfrm>
                <a:off x="1524600" y="1098000"/>
                <a:ext cx="165960" cy="35820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230" h="484">
                    <a:moveTo>
                      <a:pt x="190" y="0"/>
                    </a:moveTo>
                    <a:lnTo>
                      <a:pt x="0" y="80"/>
                    </a:lnTo>
                    <a:lnTo>
                      <a:pt x="0" y="453"/>
                    </a:lnTo>
                    <a:lnTo>
                      <a:pt x="230" y="484"/>
                    </a:lnTo>
                    <a:lnTo>
                      <a:pt x="230" y="41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65"/>
              <p:cNvSpPr/>
              <p:nvPr/>
            </p:nvSpPr>
            <p:spPr>
              <a:xfrm>
                <a:off x="1534680" y="1098000"/>
                <a:ext cx="155880" cy="35820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215" h="484">
                    <a:moveTo>
                      <a:pt x="175" y="0"/>
                    </a:moveTo>
                    <a:lnTo>
                      <a:pt x="153" y="10"/>
                    </a:lnTo>
                    <a:lnTo>
                      <a:pt x="131" y="19"/>
                    </a:lnTo>
                    <a:lnTo>
                      <a:pt x="110" y="30"/>
                    </a:lnTo>
                    <a:lnTo>
                      <a:pt x="88" y="39"/>
                    </a:lnTo>
                    <a:lnTo>
                      <a:pt x="65" y="50"/>
                    </a:lnTo>
                    <a:lnTo>
                      <a:pt x="43" y="60"/>
                    </a:lnTo>
                    <a:lnTo>
                      <a:pt x="22" y="70"/>
                    </a:lnTo>
                    <a:lnTo>
                      <a:pt x="0" y="80"/>
                    </a:lnTo>
                    <a:lnTo>
                      <a:pt x="0" y="173"/>
                    </a:lnTo>
                    <a:lnTo>
                      <a:pt x="0" y="266"/>
                    </a:lnTo>
                    <a:lnTo>
                      <a:pt x="0" y="360"/>
                    </a:lnTo>
                    <a:lnTo>
                      <a:pt x="0" y="453"/>
                    </a:lnTo>
                    <a:lnTo>
                      <a:pt x="27" y="457"/>
                    </a:lnTo>
                    <a:lnTo>
                      <a:pt x="54" y="460"/>
                    </a:lnTo>
                    <a:lnTo>
                      <a:pt x="81" y="464"/>
                    </a:lnTo>
                    <a:lnTo>
                      <a:pt x="108" y="468"/>
                    </a:lnTo>
                    <a:lnTo>
                      <a:pt x="134" y="472"/>
                    </a:lnTo>
                    <a:lnTo>
                      <a:pt x="161" y="476"/>
                    </a:lnTo>
                    <a:lnTo>
                      <a:pt x="188" y="480"/>
                    </a:lnTo>
                    <a:lnTo>
                      <a:pt x="215" y="484"/>
                    </a:lnTo>
                    <a:lnTo>
                      <a:pt x="215" y="373"/>
                    </a:lnTo>
                    <a:lnTo>
                      <a:pt x="215" y="262"/>
                    </a:lnTo>
                    <a:lnTo>
                      <a:pt x="215" y="151"/>
                    </a:lnTo>
                    <a:lnTo>
                      <a:pt x="215" y="41"/>
                    </a:lnTo>
                    <a:lnTo>
                      <a:pt x="210" y="35"/>
                    </a:lnTo>
                    <a:lnTo>
                      <a:pt x="206" y="30"/>
                    </a:lnTo>
                    <a:lnTo>
                      <a:pt x="200" y="26"/>
                    </a:lnTo>
                    <a:lnTo>
                      <a:pt x="195" y="20"/>
                    </a:lnTo>
                    <a:lnTo>
                      <a:pt x="189" y="15"/>
                    </a:lnTo>
                    <a:lnTo>
                      <a:pt x="185" y="10"/>
                    </a:lnTo>
                    <a:lnTo>
                      <a:pt x="180" y="5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918e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66"/>
              <p:cNvSpPr/>
              <p:nvPr/>
            </p:nvSpPr>
            <p:spPr>
              <a:xfrm>
                <a:off x="1546200" y="1098000"/>
                <a:ext cx="144360" cy="3582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199" h="484">
                    <a:moveTo>
                      <a:pt x="159" y="0"/>
                    </a:moveTo>
                    <a:lnTo>
                      <a:pt x="138" y="10"/>
                    </a:lnTo>
                    <a:lnTo>
                      <a:pt x="119" y="19"/>
                    </a:lnTo>
                    <a:lnTo>
                      <a:pt x="99" y="30"/>
                    </a:lnTo>
                    <a:lnTo>
                      <a:pt x="80" y="39"/>
                    </a:lnTo>
                    <a:lnTo>
                      <a:pt x="60" y="49"/>
                    </a:lnTo>
                    <a:lnTo>
                      <a:pt x="40" y="60"/>
                    </a:lnTo>
                    <a:lnTo>
                      <a:pt x="21" y="69"/>
                    </a:lnTo>
                    <a:lnTo>
                      <a:pt x="0" y="78"/>
                    </a:lnTo>
                    <a:lnTo>
                      <a:pt x="0" y="172"/>
                    </a:lnTo>
                    <a:lnTo>
                      <a:pt x="0" y="265"/>
                    </a:lnTo>
                    <a:lnTo>
                      <a:pt x="0" y="358"/>
                    </a:lnTo>
                    <a:lnTo>
                      <a:pt x="0" y="451"/>
                    </a:lnTo>
                    <a:lnTo>
                      <a:pt x="25" y="456"/>
                    </a:lnTo>
                    <a:lnTo>
                      <a:pt x="50" y="460"/>
                    </a:lnTo>
                    <a:lnTo>
                      <a:pt x="75" y="464"/>
                    </a:lnTo>
                    <a:lnTo>
                      <a:pt x="100" y="468"/>
                    </a:lnTo>
                    <a:lnTo>
                      <a:pt x="125" y="472"/>
                    </a:lnTo>
                    <a:lnTo>
                      <a:pt x="149" y="476"/>
                    </a:lnTo>
                    <a:lnTo>
                      <a:pt x="175" y="480"/>
                    </a:lnTo>
                    <a:lnTo>
                      <a:pt x="199" y="484"/>
                    </a:lnTo>
                    <a:lnTo>
                      <a:pt x="199" y="373"/>
                    </a:lnTo>
                    <a:lnTo>
                      <a:pt x="199" y="262"/>
                    </a:lnTo>
                    <a:lnTo>
                      <a:pt x="199" y="151"/>
                    </a:lnTo>
                    <a:lnTo>
                      <a:pt x="199" y="41"/>
                    </a:lnTo>
                    <a:lnTo>
                      <a:pt x="194" y="35"/>
                    </a:lnTo>
                    <a:lnTo>
                      <a:pt x="190" y="30"/>
                    </a:lnTo>
                    <a:lnTo>
                      <a:pt x="184" y="26"/>
                    </a:lnTo>
                    <a:lnTo>
                      <a:pt x="179" y="20"/>
                    </a:lnTo>
                    <a:lnTo>
                      <a:pt x="173" y="15"/>
                    </a:lnTo>
                    <a:lnTo>
                      <a:pt x="169" y="10"/>
                    </a:lnTo>
                    <a:lnTo>
                      <a:pt x="164" y="5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939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67"/>
              <p:cNvSpPr/>
              <p:nvPr/>
            </p:nvSpPr>
            <p:spPr>
              <a:xfrm>
                <a:off x="1557720" y="1098000"/>
                <a:ext cx="132840" cy="358200"/>
              </a:xfrm>
              <a:custGeom>
                <a:avLst/>
                <a:gdLst>
                  <a:gd name="textAreaLeft" fmla="*/ 0 w 132840"/>
                  <a:gd name="textAreaRight" fmla="*/ 132840 w 13284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184" h="484">
                    <a:moveTo>
                      <a:pt x="144" y="0"/>
                    </a:moveTo>
                    <a:lnTo>
                      <a:pt x="126" y="10"/>
                    </a:lnTo>
                    <a:lnTo>
                      <a:pt x="108" y="19"/>
                    </a:lnTo>
                    <a:lnTo>
                      <a:pt x="89" y="28"/>
                    </a:lnTo>
                    <a:lnTo>
                      <a:pt x="72" y="38"/>
                    </a:lnTo>
                    <a:lnTo>
                      <a:pt x="54" y="49"/>
                    </a:lnTo>
                    <a:lnTo>
                      <a:pt x="35" y="58"/>
                    </a:lnTo>
                    <a:lnTo>
                      <a:pt x="18" y="68"/>
                    </a:lnTo>
                    <a:lnTo>
                      <a:pt x="0" y="77"/>
                    </a:lnTo>
                    <a:lnTo>
                      <a:pt x="0" y="170"/>
                    </a:lnTo>
                    <a:lnTo>
                      <a:pt x="0" y="264"/>
                    </a:lnTo>
                    <a:lnTo>
                      <a:pt x="0" y="357"/>
                    </a:lnTo>
                    <a:lnTo>
                      <a:pt x="0" y="450"/>
                    </a:lnTo>
                    <a:lnTo>
                      <a:pt x="23" y="454"/>
                    </a:lnTo>
                    <a:lnTo>
                      <a:pt x="46" y="458"/>
                    </a:lnTo>
                    <a:lnTo>
                      <a:pt x="69" y="462"/>
                    </a:lnTo>
                    <a:lnTo>
                      <a:pt x="92" y="466"/>
                    </a:lnTo>
                    <a:lnTo>
                      <a:pt x="115" y="472"/>
                    </a:lnTo>
                    <a:lnTo>
                      <a:pt x="138" y="476"/>
                    </a:lnTo>
                    <a:lnTo>
                      <a:pt x="161" y="480"/>
                    </a:lnTo>
                    <a:lnTo>
                      <a:pt x="184" y="484"/>
                    </a:lnTo>
                    <a:lnTo>
                      <a:pt x="184" y="373"/>
                    </a:lnTo>
                    <a:lnTo>
                      <a:pt x="184" y="262"/>
                    </a:lnTo>
                    <a:lnTo>
                      <a:pt x="184" y="151"/>
                    </a:lnTo>
                    <a:lnTo>
                      <a:pt x="184" y="41"/>
                    </a:lnTo>
                    <a:lnTo>
                      <a:pt x="179" y="35"/>
                    </a:lnTo>
                    <a:lnTo>
                      <a:pt x="175" y="30"/>
                    </a:lnTo>
                    <a:lnTo>
                      <a:pt x="169" y="26"/>
                    </a:lnTo>
                    <a:lnTo>
                      <a:pt x="164" y="20"/>
                    </a:lnTo>
                    <a:lnTo>
                      <a:pt x="158" y="15"/>
                    </a:lnTo>
                    <a:lnTo>
                      <a:pt x="154" y="10"/>
                    </a:lnTo>
                    <a:lnTo>
                      <a:pt x="149" y="5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b9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68"/>
              <p:cNvSpPr/>
              <p:nvPr/>
            </p:nvSpPr>
            <p:spPr>
              <a:xfrm>
                <a:off x="1567800" y="1098000"/>
                <a:ext cx="122760" cy="358200"/>
              </a:xfrm>
              <a:custGeom>
                <a:avLst/>
                <a:gdLst>
                  <a:gd name="textAreaLeft" fmla="*/ 0 w 122760"/>
                  <a:gd name="textAreaRight" fmla="*/ 123120 w 12276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169" h="484">
                    <a:moveTo>
                      <a:pt x="129" y="0"/>
                    </a:moveTo>
                    <a:lnTo>
                      <a:pt x="112" y="10"/>
                    </a:lnTo>
                    <a:lnTo>
                      <a:pt x="96" y="19"/>
                    </a:lnTo>
                    <a:lnTo>
                      <a:pt x="80" y="28"/>
                    </a:lnTo>
                    <a:lnTo>
                      <a:pt x="65" y="38"/>
                    </a:lnTo>
                    <a:lnTo>
                      <a:pt x="49" y="49"/>
                    </a:lnTo>
                    <a:lnTo>
                      <a:pt x="33" y="58"/>
                    </a:lnTo>
                    <a:lnTo>
                      <a:pt x="16" y="68"/>
                    </a:lnTo>
                    <a:lnTo>
                      <a:pt x="0" y="77"/>
                    </a:lnTo>
                    <a:lnTo>
                      <a:pt x="0" y="170"/>
                    </a:lnTo>
                    <a:lnTo>
                      <a:pt x="0" y="264"/>
                    </a:lnTo>
                    <a:lnTo>
                      <a:pt x="0" y="357"/>
                    </a:lnTo>
                    <a:lnTo>
                      <a:pt x="0" y="450"/>
                    </a:lnTo>
                    <a:lnTo>
                      <a:pt x="22" y="454"/>
                    </a:lnTo>
                    <a:lnTo>
                      <a:pt x="42" y="458"/>
                    </a:lnTo>
                    <a:lnTo>
                      <a:pt x="64" y="462"/>
                    </a:lnTo>
                    <a:lnTo>
                      <a:pt x="85" y="466"/>
                    </a:lnTo>
                    <a:lnTo>
                      <a:pt x="106" y="470"/>
                    </a:lnTo>
                    <a:lnTo>
                      <a:pt x="127" y="474"/>
                    </a:lnTo>
                    <a:lnTo>
                      <a:pt x="147" y="480"/>
                    </a:lnTo>
                    <a:lnTo>
                      <a:pt x="169" y="484"/>
                    </a:lnTo>
                    <a:lnTo>
                      <a:pt x="169" y="373"/>
                    </a:lnTo>
                    <a:lnTo>
                      <a:pt x="169" y="262"/>
                    </a:lnTo>
                    <a:lnTo>
                      <a:pt x="169" y="151"/>
                    </a:lnTo>
                    <a:lnTo>
                      <a:pt x="169" y="41"/>
                    </a:lnTo>
                    <a:lnTo>
                      <a:pt x="164" y="35"/>
                    </a:lnTo>
                    <a:lnTo>
                      <a:pt x="160" y="30"/>
                    </a:lnTo>
                    <a:lnTo>
                      <a:pt x="154" y="26"/>
                    </a:lnTo>
                    <a:lnTo>
                      <a:pt x="149" y="20"/>
                    </a:lnTo>
                    <a:lnTo>
                      <a:pt x="143" y="15"/>
                    </a:lnTo>
                    <a:lnTo>
                      <a:pt x="139" y="10"/>
                    </a:lnTo>
                    <a:lnTo>
                      <a:pt x="134" y="5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39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69"/>
              <p:cNvSpPr/>
              <p:nvPr/>
            </p:nvSpPr>
            <p:spPr>
              <a:xfrm>
                <a:off x="1579680" y="1098000"/>
                <a:ext cx="110880" cy="3582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153" h="484">
                    <a:moveTo>
                      <a:pt x="113" y="0"/>
                    </a:moveTo>
                    <a:lnTo>
                      <a:pt x="99" y="10"/>
                    </a:lnTo>
                    <a:lnTo>
                      <a:pt x="84" y="19"/>
                    </a:lnTo>
                    <a:lnTo>
                      <a:pt x="71" y="28"/>
                    </a:lnTo>
                    <a:lnTo>
                      <a:pt x="57" y="38"/>
                    </a:lnTo>
                    <a:lnTo>
                      <a:pt x="42" y="47"/>
                    </a:lnTo>
                    <a:lnTo>
                      <a:pt x="29" y="57"/>
                    </a:lnTo>
                    <a:lnTo>
                      <a:pt x="14" y="66"/>
                    </a:lnTo>
                    <a:lnTo>
                      <a:pt x="0" y="76"/>
                    </a:lnTo>
                    <a:lnTo>
                      <a:pt x="0" y="169"/>
                    </a:lnTo>
                    <a:lnTo>
                      <a:pt x="0" y="262"/>
                    </a:lnTo>
                    <a:lnTo>
                      <a:pt x="0" y="356"/>
                    </a:lnTo>
                    <a:lnTo>
                      <a:pt x="0" y="449"/>
                    </a:lnTo>
                    <a:lnTo>
                      <a:pt x="19" y="453"/>
                    </a:lnTo>
                    <a:lnTo>
                      <a:pt x="38" y="458"/>
                    </a:lnTo>
                    <a:lnTo>
                      <a:pt x="57" y="462"/>
                    </a:lnTo>
                    <a:lnTo>
                      <a:pt x="77" y="466"/>
                    </a:lnTo>
                    <a:lnTo>
                      <a:pt x="96" y="470"/>
                    </a:lnTo>
                    <a:lnTo>
                      <a:pt x="115" y="474"/>
                    </a:lnTo>
                    <a:lnTo>
                      <a:pt x="134" y="480"/>
                    </a:lnTo>
                    <a:lnTo>
                      <a:pt x="153" y="484"/>
                    </a:lnTo>
                    <a:lnTo>
                      <a:pt x="153" y="373"/>
                    </a:lnTo>
                    <a:lnTo>
                      <a:pt x="153" y="262"/>
                    </a:lnTo>
                    <a:lnTo>
                      <a:pt x="153" y="151"/>
                    </a:lnTo>
                    <a:lnTo>
                      <a:pt x="153" y="41"/>
                    </a:lnTo>
                    <a:lnTo>
                      <a:pt x="148" y="35"/>
                    </a:lnTo>
                    <a:lnTo>
                      <a:pt x="144" y="30"/>
                    </a:lnTo>
                    <a:lnTo>
                      <a:pt x="138" y="26"/>
                    </a:lnTo>
                    <a:lnTo>
                      <a:pt x="133" y="20"/>
                    </a:lnTo>
                    <a:lnTo>
                      <a:pt x="127" y="15"/>
                    </a:lnTo>
                    <a:lnTo>
                      <a:pt x="123" y="10"/>
                    </a:lnTo>
                    <a:lnTo>
                      <a:pt x="118" y="5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a5a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0"/>
              <p:cNvSpPr/>
              <p:nvPr/>
            </p:nvSpPr>
            <p:spPr>
              <a:xfrm>
                <a:off x="1591200" y="1098000"/>
                <a:ext cx="99720" cy="3582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138" h="484">
                    <a:moveTo>
                      <a:pt x="98" y="0"/>
                    </a:moveTo>
                    <a:lnTo>
                      <a:pt x="85" y="10"/>
                    </a:lnTo>
                    <a:lnTo>
                      <a:pt x="73" y="19"/>
                    </a:lnTo>
                    <a:lnTo>
                      <a:pt x="61" y="28"/>
                    </a:lnTo>
                    <a:lnTo>
                      <a:pt x="49" y="37"/>
                    </a:lnTo>
                    <a:lnTo>
                      <a:pt x="37" y="46"/>
                    </a:lnTo>
                    <a:lnTo>
                      <a:pt x="25" y="55"/>
                    </a:lnTo>
                    <a:lnTo>
                      <a:pt x="12" y="65"/>
                    </a:lnTo>
                    <a:lnTo>
                      <a:pt x="0" y="74"/>
                    </a:lnTo>
                    <a:lnTo>
                      <a:pt x="0" y="168"/>
                    </a:lnTo>
                    <a:lnTo>
                      <a:pt x="0" y="261"/>
                    </a:lnTo>
                    <a:lnTo>
                      <a:pt x="0" y="354"/>
                    </a:lnTo>
                    <a:lnTo>
                      <a:pt x="0" y="447"/>
                    </a:lnTo>
                    <a:lnTo>
                      <a:pt x="18" y="451"/>
                    </a:lnTo>
                    <a:lnTo>
                      <a:pt x="35" y="457"/>
                    </a:lnTo>
                    <a:lnTo>
                      <a:pt x="52" y="461"/>
                    </a:lnTo>
                    <a:lnTo>
                      <a:pt x="69" y="465"/>
                    </a:lnTo>
                    <a:lnTo>
                      <a:pt x="87" y="470"/>
                    </a:lnTo>
                    <a:lnTo>
                      <a:pt x="104" y="474"/>
                    </a:lnTo>
                    <a:lnTo>
                      <a:pt x="121" y="480"/>
                    </a:lnTo>
                    <a:lnTo>
                      <a:pt x="138" y="484"/>
                    </a:lnTo>
                    <a:lnTo>
                      <a:pt x="138" y="373"/>
                    </a:lnTo>
                    <a:lnTo>
                      <a:pt x="138" y="262"/>
                    </a:lnTo>
                    <a:lnTo>
                      <a:pt x="138" y="151"/>
                    </a:lnTo>
                    <a:lnTo>
                      <a:pt x="138" y="41"/>
                    </a:lnTo>
                    <a:lnTo>
                      <a:pt x="133" y="35"/>
                    </a:lnTo>
                    <a:lnTo>
                      <a:pt x="129" y="30"/>
                    </a:lnTo>
                    <a:lnTo>
                      <a:pt x="123" y="26"/>
                    </a:lnTo>
                    <a:lnTo>
                      <a:pt x="118" y="20"/>
                    </a:lnTo>
                    <a:lnTo>
                      <a:pt x="112" y="15"/>
                    </a:lnTo>
                    <a:lnTo>
                      <a:pt x="108" y="10"/>
                    </a:lnTo>
                    <a:lnTo>
                      <a:pt x="103" y="5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da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71"/>
              <p:cNvSpPr/>
              <p:nvPr/>
            </p:nvSpPr>
            <p:spPr>
              <a:xfrm>
                <a:off x="1602720" y="1098000"/>
                <a:ext cx="88200" cy="358200"/>
              </a:xfrm>
              <a:custGeom>
                <a:avLst/>
                <a:gdLst>
                  <a:gd name="textAreaLeft" fmla="*/ 0 w 88200"/>
                  <a:gd name="textAreaRight" fmla="*/ 88200 w 8820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122" h="484">
                    <a:moveTo>
                      <a:pt x="82" y="0"/>
                    </a:moveTo>
                    <a:lnTo>
                      <a:pt x="72" y="10"/>
                    </a:lnTo>
                    <a:lnTo>
                      <a:pt x="61" y="19"/>
                    </a:lnTo>
                    <a:lnTo>
                      <a:pt x="52" y="27"/>
                    </a:lnTo>
                    <a:lnTo>
                      <a:pt x="41" y="37"/>
                    </a:lnTo>
                    <a:lnTo>
                      <a:pt x="32" y="46"/>
                    </a:lnTo>
                    <a:lnTo>
                      <a:pt x="21" y="55"/>
                    </a:lnTo>
                    <a:lnTo>
                      <a:pt x="11" y="65"/>
                    </a:lnTo>
                    <a:lnTo>
                      <a:pt x="0" y="74"/>
                    </a:lnTo>
                    <a:lnTo>
                      <a:pt x="0" y="168"/>
                    </a:lnTo>
                    <a:lnTo>
                      <a:pt x="0" y="261"/>
                    </a:lnTo>
                    <a:lnTo>
                      <a:pt x="0" y="354"/>
                    </a:lnTo>
                    <a:lnTo>
                      <a:pt x="0" y="447"/>
                    </a:lnTo>
                    <a:lnTo>
                      <a:pt x="15" y="451"/>
                    </a:lnTo>
                    <a:lnTo>
                      <a:pt x="32" y="457"/>
                    </a:lnTo>
                    <a:lnTo>
                      <a:pt x="46" y="461"/>
                    </a:lnTo>
                    <a:lnTo>
                      <a:pt x="61" y="465"/>
                    </a:lnTo>
                    <a:lnTo>
                      <a:pt x="76" y="470"/>
                    </a:lnTo>
                    <a:lnTo>
                      <a:pt x="92" y="474"/>
                    </a:lnTo>
                    <a:lnTo>
                      <a:pt x="107" y="480"/>
                    </a:lnTo>
                    <a:lnTo>
                      <a:pt x="122" y="484"/>
                    </a:lnTo>
                    <a:lnTo>
                      <a:pt x="122" y="373"/>
                    </a:lnTo>
                    <a:lnTo>
                      <a:pt x="122" y="262"/>
                    </a:lnTo>
                    <a:lnTo>
                      <a:pt x="122" y="151"/>
                    </a:lnTo>
                    <a:lnTo>
                      <a:pt x="122" y="41"/>
                    </a:lnTo>
                    <a:lnTo>
                      <a:pt x="117" y="35"/>
                    </a:lnTo>
                    <a:lnTo>
                      <a:pt x="113" y="30"/>
                    </a:lnTo>
                    <a:lnTo>
                      <a:pt x="107" y="26"/>
                    </a:lnTo>
                    <a:lnTo>
                      <a:pt x="102" y="20"/>
                    </a:lnTo>
                    <a:lnTo>
                      <a:pt x="96" y="15"/>
                    </a:lnTo>
                    <a:lnTo>
                      <a:pt x="92" y="10"/>
                    </a:lnTo>
                    <a:lnTo>
                      <a:pt x="87" y="5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af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2"/>
              <p:cNvSpPr/>
              <p:nvPr/>
            </p:nvSpPr>
            <p:spPr>
              <a:xfrm>
                <a:off x="1612800" y="1098000"/>
                <a:ext cx="77760" cy="3582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107" h="484">
                    <a:moveTo>
                      <a:pt x="67" y="0"/>
                    </a:moveTo>
                    <a:lnTo>
                      <a:pt x="58" y="10"/>
                    </a:lnTo>
                    <a:lnTo>
                      <a:pt x="50" y="18"/>
                    </a:lnTo>
                    <a:lnTo>
                      <a:pt x="42" y="27"/>
                    </a:lnTo>
                    <a:lnTo>
                      <a:pt x="34" y="37"/>
                    </a:lnTo>
                    <a:lnTo>
                      <a:pt x="25" y="46"/>
                    </a:lnTo>
                    <a:lnTo>
                      <a:pt x="17" y="54"/>
                    </a:lnTo>
                    <a:lnTo>
                      <a:pt x="8" y="64"/>
                    </a:lnTo>
                    <a:lnTo>
                      <a:pt x="0" y="73"/>
                    </a:lnTo>
                    <a:lnTo>
                      <a:pt x="0" y="166"/>
                    </a:lnTo>
                    <a:lnTo>
                      <a:pt x="0" y="260"/>
                    </a:lnTo>
                    <a:lnTo>
                      <a:pt x="0" y="353"/>
                    </a:lnTo>
                    <a:lnTo>
                      <a:pt x="0" y="446"/>
                    </a:lnTo>
                    <a:lnTo>
                      <a:pt x="14" y="450"/>
                    </a:lnTo>
                    <a:lnTo>
                      <a:pt x="27" y="456"/>
                    </a:lnTo>
                    <a:lnTo>
                      <a:pt x="39" y="460"/>
                    </a:lnTo>
                    <a:lnTo>
                      <a:pt x="53" y="465"/>
                    </a:lnTo>
                    <a:lnTo>
                      <a:pt x="67" y="469"/>
                    </a:lnTo>
                    <a:lnTo>
                      <a:pt x="80" y="474"/>
                    </a:lnTo>
                    <a:lnTo>
                      <a:pt x="94" y="479"/>
                    </a:lnTo>
                    <a:lnTo>
                      <a:pt x="107" y="484"/>
                    </a:lnTo>
                    <a:lnTo>
                      <a:pt x="107" y="373"/>
                    </a:lnTo>
                    <a:lnTo>
                      <a:pt x="107" y="262"/>
                    </a:lnTo>
                    <a:lnTo>
                      <a:pt x="107" y="151"/>
                    </a:lnTo>
                    <a:lnTo>
                      <a:pt x="107" y="41"/>
                    </a:lnTo>
                    <a:lnTo>
                      <a:pt x="102" y="35"/>
                    </a:lnTo>
                    <a:lnTo>
                      <a:pt x="98" y="30"/>
                    </a:lnTo>
                    <a:lnTo>
                      <a:pt x="92" y="26"/>
                    </a:lnTo>
                    <a:lnTo>
                      <a:pt x="87" y="20"/>
                    </a:lnTo>
                    <a:lnTo>
                      <a:pt x="81" y="15"/>
                    </a:lnTo>
                    <a:lnTo>
                      <a:pt x="77" y="10"/>
                    </a:lnTo>
                    <a:lnTo>
                      <a:pt x="72" y="5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7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73"/>
              <p:cNvSpPr/>
              <p:nvPr/>
            </p:nvSpPr>
            <p:spPr>
              <a:xfrm>
                <a:off x="1624320" y="1098000"/>
                <a:ext cx="66240" cy="358200"/>
              </a:xfrm>
              <a:custGeom>
                <a:avLst/>
                <a:gdLst>
                  <a:gd name="textAreaLeft" fmla="*/ 0 w 66240"/>
                  <a:gd name="textAreaRight" fmla="*/ 66240 w 6624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92" h="484">
                    <a:moveTo>
                      <a:pt x="52" y="0"/>
                    </a:moveTo>
                    <a:lnTo>
                      <a:pt x="45" y="10"/>
                    </a:lnTo>
                    <a:lnTo>
                      <a:pt x="38" y="18"/>
                    </a:lnTo>
                    <a:lnTo>
                      <a:pt x="33" y="27"/>
                    </a:lnTo>
                    <a:lnTo>
                      <a:pt x="26" y="37"/>
                    </a:lnTo>
                    <a:lnTo>
                      <a:pt x="19" y="46"/>
                    </a:lnTo>
                    <a:lnTo>
                      <a:pt x="14" y="54"/>
                    </a:lnTo>
                    <a:lnTo>
                      <a:pt x="7" y="64"/>
                    </a:lnTo>
                    <a:lnTo>
                      <a:pt x="0" y="72"/>
                    </a:lnTo>
                    <a:lnTo>
                      <a:pt x="0" y="165"/>
                    </a:lnTo>
                    <a:lnTo>
                      <a:pt x="0" y="258"/>
                    </a:lnTo>
                    <a:lnTo>
                      <a:pt x="0" y="351"/>
                    </a:lnTo>
                    <a:lnTo>
                      <a:pt x="0" y="445"/>
                    </a:lnTo>
                    <a:lnTo>
                      <a:pt x="12" y="450"/>
                    </a:lnTo>
                    <a:lnTo>
                      <a:pt x="23" y="454"/>
                    </a:lnTo>
                    <a:lnTo>
                      <a:pt x="35" y="460"/>
                    </a:lnTo>
                    <a:lnTo>
                      <a:pt x="46" y="464"/>
                    </a:lnTo>
                    <a:lnTo>
                      <a:pt x="57" y="469"/>
                    </a:lnTo>
                    <a:lnTo>
                      <a:pt x="69" y="474"/>
                    </a:lnTo>
                    <a:lnTo>
                      <a:pt x="80" y="479"/>
                    </a:lnTo>
                    <a:lnTo>
                      <a:pt x="92" y="484"/>
                    </a:lnTo>
                    <a:lnTo>
                      <a:pt x="92" y="373"/>
                    </a:lnTo>
                    <a:lnTo>
                      <a:pt x="92" y="262"/>
                    </a:lnTo>
                    <a:lnTo>
                      <a:pt x="92" y="151"/>
                    </a:lnTo>
                    <a:lnTo>
                      <a:pt x="92" y="41"/>
                    </a:lnTo>
                    <a:lnTo>
                      <a:pt x="87" y="35"/>
                    </a:lnTo>
                    <a:lnTo>
                      <a:pt x="83" y="30"/>
                    </a:lnTo>
                    <a:lnTo>
                      <a:pt x="77" y="26"/>
                    </a:lnTo>
                    <a:lnTo>
                      <a:pt x="72" y="20"/>
                    </a:lnTo>
                    <a:lnTo>
                      <a:pt x="66" y="15"/>
                    </a:lnTo>
                    <a:lnTo>
                      <a:pt x="62" y="10"/>
                    </a:lnTo>
                    <a:lnTo>
                      <a:pt x="57" y="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bfb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4"/>
              <p:cNvSpPr/>
              <p:nvPr/>
            </p:nvSpPr>
            <p:spPr>
              <a:xfrm>
                <a:off x="1636200" y="1098000"/>
                <a:ext cx="54720" cy="3582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76" h="484">
                    <a:moveTo>
                      <a:pt x="36" y="0"/>
                    </a:moveTo>
                    <a:lnTo>
                      <a:pt x="26" y="18"/>
                    </a:lnTo>
                    <a:lnTo>
                      <a:pt x="18" y="35"/>
                    </a:lnTo>
                    <a:lnTo>
                      <a:pt x="10" y="54"/>
                    </a:lnTo>
                    <a:lnTo>
                      <a:pt x="0" y="72"/>
                    </a:lnTo>
                    <a:lnTo>
                      <a:pt x="0" y="165"/>
                    </a:lnTo>
                    <a:lnTo>
                      <a:pt x="0" y="258"/>
                    </a:lnTo>
                    <a:lnTo>
                      <a:pt x="0" y="351"/>
                    </a:lnTo>
                    <a:lnTo>
                      <a:pt x="0" y="445"/>
                    </a:lnTo>
                    <a:lnTo>
                      <a:pt x="10" y="449"/>
                    </a:lnTo>
                    <a:lnTo>
                      <a:pt x="19" y="454"/>
                    </a:lnTo>
                    <a:lnTo>
                      <a:pt x="29" y="458"/>
                    </a:lnTo>
                    <a:lnTo>
                      <a:pt x="38" y="464"/>
                    </a:lnTo>
                    <a:lnTo>
                      <a:pt x="48" y="469"/>
                    </a:lnTo>
                    <a:lnTo>
                      <a:pt x="57" y="474"/>
                    </a:lnTo>
                    <a:lnTo>
                      <a:pt x="67" y="479"/>
                    </a:lnTo>
                    <a:lnTo>
                      <a:pt x="76" y="484"/>
                    </a:lnTo>
                    <a:lnTo>
                      <a:pt x="76" y="373"/>
                    </a:lnTo>
                    <a:lnTo>
                      <a:pt x="76" y="262"/>
                    </a:lnTo>
                    <a:lnTo>
                      <a:pt x="76" y="151"/>
                    </a:lnTo>
                    <a:lnTo>
                      <a:pt x="76" y="41"/>
                    </a:lnTo>
                    <a:lnTo>
                      <a:pt x="71" y="35"/>
                    </a:lnTo>
                    <a:lnTo>
                      <a:pt x="67" y="30"/>
                    </a:lnTo>
                    <a:lnTo>
                      <a:pt x="61" y="26"/>
                    </a:lnTo>
                    <a:lnTo>
                      <a:pt x="56" y="20"/>
                    </a:lnTo>
                    <a:lnTo>
                      <a:pt x="50" y="15"/>
                    </a:lnTo>
                    <a:lnTo>
                      <a:pt x="46" y="10"/>
                    </a:lnTo>
                    <a:lnTo>
                      <a:pt x="41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c1b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75"/>
              <p:cNvSpPr/>
              <p:nvPr/>
            </p:nvSpPr>
            <p:spPr>
              <a:xfrm>
                <a:off x="1645920" y="1098000"/>
                <a:ext cx="44640" cy="3582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358200"/>
                  <a:gd name="textAreaBottom" fmla="*/ 358560 h 358200"/>
                </a:gdLst>
                <a:ahLst/>
                <a:rect l="textAreaLeft" t="textAreaTop" r="textAreaRight" b="textAreaBottom"/>
                <a:pathLst>
                  <a:path w="61" h="484">
                    <a:moveTo>
                      <a:pt x="21" y="0"/>
                    </a:moveTo>
                    <a:lnTo>
                      <a:pt x="0" y="70"/>
                    </a:lnTo>
                    <a:lnTo>
                      <a:pt x="0" y="443"/>
                    </a:lnTo>
                    <a:lnTo>
                      <a:pt x="61" y="484"/>
                    </a:lnTo>
                    <a:lnTo>
                      <a:pt x="61" y="4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c9b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76"/>
              <p:cNvSpPr/>
              <p:nvPr/>
            </p:nvSpPr>
            <p:spPr>
              <a:xfrm>
                <a:off x="1666440" y="1578240"/>
                <a:ext cx="41760" cy="62928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629280"/>
                  <a:gd name="textAreaBottom" fmla="*/ 629640 h 629280"/>
                </a:gdLst>
                <a:ahLst/>
                <a:rect l="textAreaLeft" t="textAreaTop" r="textAreaRight" b="textAreaBottom"/>
                <a:pathLst>
                  <a:path w="60" h="850">
                    <a:moveTo>
                      <a:pt x="19" y="0"/>
                    </a:moveTo>
                    <a:lnTo>
                      <a:pt x="0" y="97"/>
                    </a:lnTo>
                    <a:lnTo>
                      <a:pt x="0" y="722"/>
                    </a:lnTo>
                    <a:lnTo>
                      <a:pt x="60" y="850"/>
                    </a:lnTo>
                    <a:lnTo>
                      <a:pt x="60" y="10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9b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77"/>
              <p:cNvSpPr/>
              <p:nvPr/>
            </p:nvSpPr>
            <p:spPr>
              <a:xfrm>
                <a:off x="1245240" y="1046520"/>
                <a:ext cx="435240" cy="103320"/>
              </a:xfrm>
              <a:custGeom>
                <a:avLst/>
                <a:gdLst>
                  <a:gd name="textAreaLeft" fmla="*/ 0 w 435240"/>
                  <a:gd name="textAreaRight" fmla="*/ 435600 w 4352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603" h="140">
                    <a:moveTo>
                      <a:pt x="43" y="0"/>
                    </a:moveTo>
                    <a:lnTo>
                      <a:pt x="0" y="34"/>
                    </a:lnTo>
                    <a:lnTo>
                      <a:pt x="3" y="125"/>
                    </a:lnTo>
                    <a:lnTo>
                      <a:pt x="395" y="140"/>
                    </a:lnTo>
                    <a:lnTo>
                      <a:pt x="584" y="70"/>
                    </a:lnTo>
                    <a:lnTo>
                      <a:pt x="603" y="2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78"/>
              <p:cNvSpPr/>
              <p:nvPr/>
            </p:nvSpPr>
            <p:spPr>
              <a:xfrm>
                <a:off x="1242360" y="1420920"/>
                <a:ext cx="452520" cy="70920"/>
              </a:xfrm>
              <a:custGeom>
                <a:avLst/>
                <a:gdLst>
                  <a:gd name="textAreaLeft" fmla="*/ 0 w 452520"/>
                  <a:gd name="textAreaRight" fmla="*/ 452520 w 4525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626" h="96">
                    <a:moveTo>
                      <a:pt x="9" y="0"/>
                    </a:moveTo>
                    <a:lnTo>
                      <a:pt x="626" y="13"/>
                    </a:lnTo>
                    <a:lnTo>
                      <a:pt x="624" y="75"/>
                    </a:lnTo>
                    <a:lnTo>
                      <a:pt x="622" y="81"/>
                    </a:lnTo>
                    <a:lnTo>
                      <a:pt x="618" y="86"/>
                    </a:lnTo>
                    <a:lnTo>
                      <a:pt x="614" y="89"/>
                    </a:lnTo>
                    <a:lnTo>
                      <a:pt x="608" y="90"/>
                    </a:lnTo>
                    <a:lnTo>
                      <a:pt x="603" y="92"/>
                    </a:lnTo>
                    <a:lnTo>
                      <a:pt x="595" y="93"/>
                    </a:lnTo>
                    <a:lnTo>
                      <a:pt x="587" y="93"/>
                    </a:lnTo>
                    <a:lnTo>
                      <a:pt x="577" y="96"/>
                    </a:lnTo>
                    <a:lnTo>
                      <a:pt x="41" y="87"/>
                    </a:lnTo>
                    <a:lnTo>
                      <a:pt x="0" y="3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79"/>
              <p:cNvSpPr/>
              <p:nvPr/>
            </p:nvSpPr>
            <p:spPr>
              <a:xfrm>
                <a:off x="1594080" y="960480"/>
                <a:ext cx="240120" cy="49788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497880"/>
                  <a:gd name="textAreaBottom" fmla="*/ 498240 h 497880"/>
                </a:gdLst>
                <a:ahLst/>
                <a:rect l="textAreaLeft" t="textAreaTop" r="textAreaRight" b="textAreaBottom"/>
                <a:pathLst>
                  <a:path w="331" h="671">
                    <a:moveTo>
                      <a:pt x="109" y="96"/>
                    </a:moveTo>
                    <a:lnTo>
                      <a:pt x="89" y="116"/>
                    </a:lnTo>
                    <a:lnTo>
                      <a:pt x="75" y="132"/>
                    </a:lnTo>
                    <a:lnTo>
                      <a:pt x="67" y="148"/>
                    </a:lnTo>
                    <a:lnTo>
                      <a:pt x="62" y="164"/>
                    </a:lnTo>
                    <a:lnTo>
                      <a:pt x="59" y="181"/>
                    </a:lnTo>
                    <a:lnTo>
                      <a:pt x="58" y="201"/>
                    </a:lnTo>
                    <a:lnTo>
                      <a:pt x="56" y="225"/>
                    </a:lnTo>
                    <a:lnTo>
                      <a:pt x="52" y="255"/>
                    </a:lnTo>
                    <a:lnTo>
                      <a:pt x="56" y="474"/>
                    </a:lnTo>
                    <a:lnTo>
                      <a:pt x="0" y="532"/>
                    </a:lnTo>
                    <a:lnTo>
                      <a:pt x="9" y="644"/>
                    </a:lnTo>
                    <a:lnTo>
                      <a:pt x="192" y="671"/>
                    </a:lnTo>
                    <a:lnTo>
                      <a:pt x="331" y="579"/>
                    </a:lnTo>
                    <a:lnTo>
                      <a:pt x="261" y="0"/>
                    </a:lnTo>
                    <a:lnTo>
                      <a:pt x="109" y="96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0"/>
              <p:cNvSpPr/>
              <p:nvPr/>
            </p:nvSpPr>
            <p:spPr>
              <a:xfrm>
                <a:off x="1617120" y="1476000"/>
                <a:ext cx="260280" cy="97596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975960"/>
                  <a:gd name="textAreaBottom" fmla="*/ 976320 h 975960"/>
                </a:gdLst>
                <a:ahLst/>
                <a:rect l="textAreaLeft" t="textAreaTop" r="textAreaRight" b="textAreaBottom"/>
                <a:pathLst>
                  <a:path w="359" h="1316">
                    <a:moveTo>
                      <a:pt x="105" y="5"/>
                    </a:moveTo>
                    <a:lnTo>
                      <a:pt x="85" y="18"/>
                    </a:lnTo>
                    <a:lnTo>
                      <a:pt x="71" y="32"/>
                    </a:lnTo>
                    <a:lnTo>
                      <a:pt x="63" y="51"/>
                    </a:lnTo>
                    <a:lnTo>
                      <a:pt x="59" y="72"/>
                    </a:lnTo>
                    <a:lnTo>
                      <a:pt x="58" y="99"/>
                    </a:lnTo>
                    <a:lnTo>
                      <a:pt x="56" y="131"/>
                    </a:lnTo>
                    <a:lnTo>
                      <a:pt x="55" y="170"/>
                    </a:lnTo>
                    <a:lnTo>
                      <a:pt x="52" y="216"/>
                    </a:lnTo>
                    <a:lnTo>
                      <a:pt x="50" y="1015"/>
                    </a:lnTo>
                    <a:lnTo>
                      <a:pt x="1" y="1045"/>
                    </a:lnTo>
                    <a:lnTo>
                      <a:pt x="0" y="1245"/>
                    </a:lnTo>
                    <a:lnTo>
                      <a:pt x="200" y="1281"/>
                    </a:lnTo>
                    <a:lnTo>
                      <a:pt x="359" y="1316"/>
                    </a:lnTo>
                    <a:lnTo>
                      <a:pt x="257" y="0"/>
                    </a:lnTo>
                    <a:lnTo>
                      <a:pt x="105" y="5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81"/>
              <p:cNvSpPr/>
              <p:nvPr/>
            </p:nvSpPr>
            <p:spPr>
              <a:xfrm>
                <a:off x="1682280" y="896400"/>
                <a:ext cx="264600" cy="57456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574560"/>
                  <a:gd name="textAreaBottom" fmla="*/ 574560 h 574560"/>
                </a:gdLst>
                <a:ahLst/>
                <a:rect l="textAreaLeft" t="textAreaTop" r="textAreaRight" b="textAreaBottom"/>
                <a:pathLst>
                  <a:path w="367" h="776">
                    <a:moveTo>
                      <a:pt x="10" y="187"/>
                    </a:moveTo>
                    <a:lnTo>
                      <a:pt x="268" y="0"/>
                    </a:lnTo>
                    <a:lnTo>
                      <a:pt x="337" y="0"/>
                    </a:lnTo>
                    <a:lnTo>
                      <a:pt x="367" y="61"/>
                    </a:lnTo>
                    <a:lnTo>
                      <a:pt x="367" y="746"/>
                    </a:lnTo>
                    <a:lnTo>
                      <a:pt x="317" y="764"/>
                    </a:lnTo>
                    <a:lnTo>
                      <a:pt x="71" y="776"/>
                    </a:lnTo>
                    <a:lnTo>
                      <a:pt x="0" y="715"/>
                    </a:lnTo>
                    <a:lnTo>
                      <a:pt x="10" y="187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82"/>
              <p:cNvSpPr/>
              <p:nvPr/>
            </p:nvSpPr>
            <p:spPr>
              <a:xfrm>
                <a:off x="1696680" y="1469880"/>
                <a:ext cx="270000" cy="995400"/>
              </a:xfrm>
              <a:custGeom>
                <a:avLst/>
                <a:gdLst>
                  <a:gd name="textAreaLeft" fmla="*/ 0 w 270000"/>
                  <a:gd name="textAreaRight" fmla="*/ 270000 w 270000"/>
                  <a:gd name="textAreaTop" fmla="*/ 0 h 995400"/>
                  <a:gd name="textAreaBottom" fmla="*/ 995760 h 995400"/>
                </a:gdLst>
                <a:ahLst/>
                <a:rect l="textAreaLeft" t="textAreaTop" r="textAreaRight" b="textAreaBottom"/>
                <a:pathLst>
                  <a:path w="373" h="1343">
                    <a:moveTo>
                      <a:pt x="14" y="31"/>
                    </a:moveTo>
                    <a:lnTo>
                      <a:pt x="273" y="8"/>
                    </a:lnTo>
                    <a:lnTo>
                      <a:pt x="343" y="0"/>
                    </a:lnTo>
                    <a:lnTo>
                      <a:pt x="373" y="197"/>
                    </a:lnTo>
                    <a:lnTo>
                      <a:pt x="373" y="1343"/>
                    </a:lnTo>
                    <a:lnTo>
                      <a:pt x="335" y="1338"/>
                    </a:lnTo>
                    <a:lnTo>
                      <a:pt x="70" y="1285"/>
                    </a:lnTo>
                    <a:lnTo>
                      <a:pt x="0" y="1114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83"/>
              <p:cNvSpPr/>
              <p:nvPr/>
            </p:nvSpPr>
            <p:spPr>
              <a:xfrm>
                <a:off x="1938240" y="890640"/>
                <a:ext cx="47880" cy="15847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584720"/>
                  <a:gd name="textAreaBottom" fmla="*/ 1585080 h 1584720"/>
                </a:gdLst>
                <a:ahLst/>
                <a:rect l="textAreaLeft" t="textAreaTop" r="textAreaRight" b="textAreaBottom"/>
                <a:pathLst>
                  <a:path w="65" h="2140">
                    <a:moveTo>
                      <a:pt x="0" y="12"/>
                    </a:moveTo>
                    <a:lnTo>
                      <a:pt x="25" y="54"/>
                    </a:lnTo>
                    <a:lnTo>
                      <a:pt x="25" y="2137"/>
                    </a:lnTo>
                    <a:lnTo>
                      <a:pt x="64" y="2140"/>
                    </a:lnTo>
                    <a:lnTo>
                      <a:pt x="6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84"/>
              <p:cNvSpPr/>
              <p:nvPr/>
            </p:nvSpPr>
            <p:spPr>
              <a:xfrm>
                <a:off x="1638720" y="926280"/>
                <a:ext cx="241560" cy="50940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336" h="689">
                    <a:moveTo>
                      <a:pt x="88" y="162"/>
                    </a:moveTo>
                    <a:lnTo>
                      <a:pt x="311" y="0"/>
                    </a:lnTo>
                    <a:lnTo>
                      <a:pt x="311" y="71"/>
                    </a:lnTo>
                    <a:lnTo>
                      <a:pt x="260" y="121"/>
                    </a:lnTo>
                    <a:lnTo>
                      <a:pt x="260" y="565"/>
                    </a:lnTo>
                    <a:lnTo>
                      <a:pt x="329" y="615"/>
                    </a:lnTo>
                    <a:lnTo>
                      <a:pt x="336" y="688"/>
                    </a:lnTo>
                    <a:lnTo>
                      <a:pt x="263" y="689"/>
                    </a:lnTo>
                    <a:lnTo>
                      <a:pt x="133" y="683"/>
                    </a:lnTo>
                    <a:lnTo>
                      <a:pt x="122" y="681"/>
                    </a:lnTo>
                    <a:lnTo>
                      <a:pt x="115" y="675"/>
                    </a:lnTo>
                    <a:lnTo>
                      <a:pt x="111" y="669"/>
                    </a:lnTo>
                    <a:lnTo>
                      <a:pt x="105" y="661"/>
                    </a:lnTo>
                    <a:lnTo>
                      <a:pt x="96" y="655"/>
                    </a:lnTo>
                    <a:lnTo>
                      <a:pt x="83" y="652"/>
                    </a:lnTo>
                    <a:lnTo>
                      <a:pt x="63" y="652"/>
                    </a:lnTo>
                    <a:lnTo>
                      <a:pt x="32" y="659"/>
                    </a:lnTo>
                    <a:lnTo>
                      <a:pt x="14" y="655"/>
                    </a:lnTo>
                    <a:lnTo>
                      <a:pt x="3" y="635"/>
                    </a:lnTo>
                    <a:lnTo>
                      <a:pt x="0" y="604"/>
                    </a:lnTo>
                    <a:lnTo>
                      <a:pt x="4" y="565"/>
                    </a:lnTo>
                    <a:lnTo>
                      <a:pt x="57" y="524"/>
                    </a:lnTo>
                    <a:lnTo>
                      <a:pt x="53" y="193"/>
                    </a:lnTo>
                    <a:lnTo>
                      <a:pt x="88" y="162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85"/>
              <p:cNvSpPr/>
              <p:nvPr/>
            </p:nvSpPr>
            <p:spPr>
              <a:xfrm>
                <a:off x="1683720" y="1502640"/>
                <a:ext cx="217080" cy="92448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924480"/>
                  <a:gd name="textAreaBottom" fmla="*/ 924840 h 924480"/>
                </a:gdLst>
                <a:ahLst/>
                <a:rect l="textAreaLeft" t="textAreaTop" r="textAreaRight" b="textAreaBottom"/>
                <a:pathLst>
                  <a:path w="300" h="1249">
                    <a:moveTo>
                      <a:pt x="51" y="3"/>
                    </a:moveTo>
                    <a:lnTo>
                      <a:pt x="274" y="0"/>
                    </a:lnTo>
                    <a:lnTo>
                      <a:pt x="274" y="118"/>
                    </a:lnTo>
                    <a:lnTo>
                      <a:pt x="223" y="150"/>
                    </a:lnTo>
                    <a:lnTo>
                      <a:pt x="204" y="1061"/>
                    </a:lnTo>
                    <a:lnTo>
                      <a:pt x="281" y="1100"/>
                    </a:lnTo>
                    <a:lnTo>
                      <a:pt x="300" y="1249"/>
                    </a:lnTo>
                    <a:lnTo>
                      <a:pt x="236" y="1226"/>
                    </a:lnTo>
                    <a:lnTo>
                      <a:pt x="97" y="1200"/>
                    </a:lnTo>
                    <a:lnTo>
                      <a:pt x="85" y="1198"/>
                    </a:lnTo>
                    <a:lnTo>
                      <a:pt x="71" y="1193"/>
                    </a:lnTo>
                    <a:lnTo>
                      <a:pt x="59" y="1187"/>
                    </a:lnTo>
                    <a:lnTo>
                      <a:pt x="47" y="1179"/>
                    </a:lnTo>
                    <a:lnTo>
                      <a:pt x="35" y="1166"/>
                    </a:lnTo>
                    <a:lnTo>
                      <a:pt x="24" y="1150"/>
                    </a:lnTo>
                    <a:lnTo>
                      <a:pt x="14" y="1130"/>
                    </a:lnTo>
                    <a:lnTo>
                      <a:pt x="6" y="1103"/>
                    </a:lnTo>
                    <a:lnTo>
                      <a:pt x="0" y="1053"/>
                    </a:lnTo>
                    <a:lnTo>
                      <a:pt x="1" y="998"/>
                    </a:lnTo>
                    <a:lnTo>
                      <a:pt x="6" y="939"/>
                    </a:lnTo>
                    <a:lnTo>
                      <a:pt x="14" y="881"/>
                    </a:lnTo>
                    <a:lnTo>
                      <a:pt x="36" y="866"/>
                    </a:lnTo>
                    <a:lnTo>
                      <a:pt x="16" y="60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86"/>
              <p:cNvSpPr/>
              <p:nvPr/>
            </p:nvSpPr>
            <p:spPr>
              <a:xfrm>
                <a:off x="1837080" y="911160"/>
                <a:ext cx="82080" cy="5094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115" h="690">
                    <a:moveTo>
                      <a:pt x="70" y="0"/>
                    </a:moveTo>
                    <a:lnTo>
                      <a:pt x="44" y="122"/>
                    </a:lnTo>
                    <a:lnTo>
                      <a:pt x="1" y="172"/>
                    </a:lnTo>
                    <a:lnTo>
                      <a:pt x="0" y="556"/>
                    </a:lnTo>
                    <a:lnTo>
                      <a:pt x="62" y="606"/>
                    </a:lnTo>
                    <a:lnTo>
                      <a:pt x="70" y="686"/>
                    </a:lnTo>
                    <a:lnTo>
                      <a:pt x="115" y="690"/>
                    </a:lnTo>
                    <a:lnTo>
                      <a:pt x="113" y="7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87"/>
              <p:cNvSpPr/>
              <p:nvPr/>
            </p:nvSpPr>
            <p:spPr>
              <a:xfrm>
                <a:off x="1857240" y="1504080"/>
                <a:ext cx="86760" cy="943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119" h="1275">
                    <a:moveTo>
                      <a:pt x="69" y="0"/>
                    </a:moveTo>
                    <a:lnTo>
                      <a:pt x="43" y="177"/>
                    </a:lnTo>
                    <a:lnTo>
                      <a:pt x="0" y="218"/>
                    </a:lnTo>
                    <a:lnTo>
                      <a:pt x="2" y="1059"/>
                    </a:lnTo>
                    <a:lnTo>
                      <a:pt x="54" y="1092"/>
                    </a:lnTo>
                    <a:lnTo>
                      <a:pt x="69" y="1241"/>
                    </a:lnTo>
                    <a:lnTo>
                      <a:pt x="119" y="1275"/>
                    </a:lnTo>
                    <a:lnTo>
                      <a:pt x="111" y="56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88"/>
              <p:cNvSpPr/>
              <p:nvPr/>
            </p:nvSpPr>
            <p:spPr>
              <a:xfrm>
                <a:off x="1627200" y="1022400"/>
                <a:ext cx="92160" cy="4042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128" h="546">
                    <a:moveTo>
                      <a:pt x="128" y="61"/>
                    </a:moveTo>
                    <a:lnTo>
                      <a:pt x="128" y="546"/>
                    </a:lnTo>
                    <a:lnTo>
                      <a:pt x="77" y="544"/>
                    </a:lnTo>
                    <a:lnTo>
                      <a:pt x="0" y="544"/>
                    </a:lnTo>
                    <a:lnTo>
                      <a:pt x="0" y="463"/>
                    </a:lnTo>
                    <a:lnTo>
                      <a:pt x="43" y="417"/>
                    </a:lnTo>
                    <a:lnTo>
                      <a:pt x="44" y="121"/>
                    </a:lnTo>
                    <a:lnTo>
                      <a:pt x="70" y="20"/>
                    </a:lnTo>
                    <a:lnTo>
                      <a:pt x="120" y="0"/>
                    </a:lnTo>
                    <a:lnTo>
                      <a:pt x="128" y="61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89"/>
              <p:cNvSpPr/>
              <p:nvPr/>
            </p:nvSpPr>
            <p:spPr>
              <a:xfrm>
                <a:off x="1641600" y="1495080"/>
                <a:ext cx="96840" cy="9050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05040"/>
                  <a:gd name="textAreaBottom" fmla="*/ 905400 h 905040"/>
                </a:gdLst>
                <a:ahLst/>
                <a:rect l="textAreaLeft" t="textAreaTop" r="textAreaRight" b="textAreaBottom"/>
                <a:pathLst>
                  <a:path w="134" h="1220">
                    <a:moveTo>
                      <a:pt x="134" y="128"/>
                    </a:moveTo>
                    <a:lnTo>
                      <a:pt x="134" y="1220"/>
                    </a:lnTo>
                    <a:lnTo>
                      <a:pt x="71" y="1217"/>
                    </a:lnTo>
                    <a:lnTo>
                      <a:pt x="0" y="1193"/>
                    </a:lnTo>
                    <a:lnTo>
                      <a:pt x="0" y="1058"/>
                    </a:lnTo>
                    <a:lnTo>
                      <a:pt x="54" y="1024"/>
                    </a:lnTo>
                    <a:lnTo>
                      <a:pt x="50" y="144"/>
                    </a:lnTo>
                    <a:lnTo>
                      <a:pt x="74" y="0"/>
                    </a:lnTo>
                    <a:lnTo>
                      <a:pt x="126" y="19"/>
                    </a:lnTo>
                    <a:lnTo>
                      <a:pt x="134" y="128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0"/>
              <p:cNvSpPr/>
              <p:nvPr/>
            </p:nvSpPr>
            <p:spPr>
              <a:xfrm>
                <a:off x="1693800" y="1065600"/>
                <a:ext cx="119880" cy="993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65" h="136">
                    <a:moveTo>
                      <a:pt x="0" y="84"/>
                    </a:moveTo>
                    <a:lnTo>
                      <a:pt x="165" y="0"/>
                    </a:lnTo>
                    <a:lnTo>
                      <a:pt x="165" y="86"/>
                    </a:lnTo>
                    <a:lnTo>
                      <a:pt x="0" y="136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91"/>
              <p:cNvSpPr/>
              <p:nvPr/>
            </p:nvSpPr>
            <p:spPr>
              <a:xfrm>
                <a:off x="1714320" y="1671480"/>
                <a:ext cx="118080" cy="116640"/>
              </a:xfrm>
              <a:custGeom>
                <a:avLst/>
                <a:gdLst>
                  <a:gd name="textAreaLeft" fmla="*/ 0 w 118080"/>
                  <a:gd name="textAreaRight" fmla="*/ 118080 w 11808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64" h="160">
                    <a:moveTo>
                      <a:pt x="0" y="0"/>
                    </a:moveTo>
                    <a:lnTo>
                      <a:pt x="164" y="16"/>
                    </a:lnTo>
                    <a:lnTo>
                      <a:pt x="164" y="160"/>
                    </a:lnTo>
                    <a:lnTo>
                      <a:pt x="0" y="1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92"/>
              <p:cNvSpPr/>
              <p:nvPr/>
            </p:nvSpPr>
            <p:spPr>
              <a:xfrm>
                <a:off x="1690920" y="1170720"/>
                <a:ext cx="114480" cy="576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60" h="77">
                    <a:moveTo>
                      <a:pt x="5" y="44"/>
                    </a:moveTo>
                    <a:lnTo>
                      <a:pt x="160" y="0"/>
                    </a:lnTo>
                    <a:lnTo>
                      <a:pt x="160" y="38"/>
                    </a:lnTo>
                    <a:lnTo>
                      <a:pt x="0" y="77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93"/>
              <p:cNvSpPr/>
              <p:nvPr/>
            </p:nvSpPr>
            <p:spPr>
              <a:xfrm>
                <a:off x="1714320" y="1849320"/>
                <a:ext cx="110880" cy="5004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54" h="67">
                    <a:moveTo>
                      <a:pt x="0" y="0"/>
                    </a:moveTo>
                    <a:lnTo>
                      <a:pt x="154" y="6"/>
                    </a:lnTo>
                    <a:lnTo>
                      <a:pt x="154" y="67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94"/>
              <p:cNvSpPr/>
              <p:nvPr/>
            </p:nvSpPr>
            <p:spPr>
              <a:xfrm>
                <a:off x="1690920" y="1338120"/>
                <a:ext cx="154800" cy="666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15" h="92">
                    <a:moveTo>
                      <a:pt x="0" y="34"/>
                    </a:moveTo>
                    <a:lnTo>
                      <a:pt x="170" y="0"/>
                    </a:lnTo>
                    <a:lnTo>
                      <a:pt x="170" y="34"/>
                    </a:lnTo>
                    <a:lnTo>
                      <a:pt x="215" y="60"/>
                    </a:lnTo>
                    <a:lnTo>
                      <a:pt x="215" y="92"/>
                    </a:lnTo>
                    <a:lnTo>
                      <a:pt x="0" y="9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95"/>
              <p:cNvSpPr/>
              <p:nvPr/>
            </p:nvSpPr>
            <p:spPr>
              <a:xfrm>
                <a:off x="1708200" y="2148480"/>
                <a:ext cx="140040" cy="1051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93" h="142">
                    <a:moveTo>
                      <a:pt x="0" y="0"/>
                    </a:moveTo>
                    <a:lnTo>
                      <a:pt x="171" y="15"/>
                    </a:lnTo>
                    <a:lnTo>
                      <a:pt x="171" y="90"/>
                    </a:lnTo>
                    <a:lnTo>
                      <a:pt x="193" y="98"/>
                    </a:lnTo>
                    <a:lnTo>
                      <a:pt x="193" y="142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96"/>
              <p:cNvSpPr/>
              <p:nvPr/>
            </p:nvSpPr>
            <p:spPr>
              <a:xfrm>
                <a:off x="1997640" y="881640"/>
                <a:ext cx="33120" cy="1588320"/>
              </a:xfrm>
              <a:prstGeom prst="rect">
                <a:avLst/>
              </a:pr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97"/>
              <p:cNvSpPr/>
              <p:nvPr/>
            </p:nvSpPr>
            <p:spPr>
              <a:xfrm>
                <a:off x="1679400" y="2421000"/>
                <a:ext cx="103680" cy="842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145" h="115">
                    <a:moveTo>
                      <a:pt x="18" y="0"/>
                    </a:moveTo>
                    <a:lnTo>
                      <a:pt x="30" y="14"/>
                    </a:lnTo>
                    <a:lnTo>
                      <a:pt x="22" y="61"/>
                    </a:lnTo>
                    <a:lnTo>
                      <a:pt x="0" y="73"/>
                    </a:lnTo>
                    <a:lnTo>
                      <a:pt x="0" y="115"/>
                    </a:lnTo>
                    <a:lnTo>
                      <a:pt x="110" y="115"/>
                    </a:lnTo>
                    <a:lnTo>
                      <a:pt x="110" y="68"/>
                    </a:lnTo>
                    <a:lnTo>
                      <a:pt x="88" y="68"/>
                    </a:lnTo>
                    <a:lnTo>
                      <a:pt x="88" y="50"/>
                    </a:lnTo>
                    <a:lnTo>
                      <a:pt x="118" y="56"/>
                    </a:lnTo>
                    <a:lnTo>
                      <a:pt x="121" y="32"/>
                    </a:lnTo>
                    <a:lnTo>
                      <a:pt x="145" y="25"/>
                    </a:lnTo>
                    <a:lnTo>
                      <a:pt x="41" y="1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98"/>
              <p:cNvSpPr/>
              <p:nvPr/>
            </p:nvSpPr>
            <p:spPr>
              <a:xfrm>
                <a:off x="925560" y="2428560"/>
                <a:ext cx="105480" cy="8424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146" h="114">
                    <a:moveTo>
                      <a:pt x="20" y="0"/>
                    </a:moveTo>
                    <a:lnTo>
                      <a:pt x="32" y="12"/>
                    </a:lnTo>
                    <a:lnTo>
                      <a:pt x="23" y="61"/>
                    </a:lnTo>
                    <a:lnTo>
                      <a:pt x="0" y="73"/>
                    </a:lnTo>
                    <a:lnTo>
                      <a:pt x="0" y="114"/>
                    </a:lnTo>
                    <a:lnTo>
                      <a:pt x="111" y="114"/>
                    </a:lnTo>
                    <a:lnTo>
                      <a:pt x="111" y="66"/>
                    </a:lnTo>
                    <a:lnTo>
                      <a:pt x="91" y="66"/>
                    </a:lnTo>
                    <a:lnTo>
                      <a:pt x="91" y="48"/>
                    </a:lnTo>
                    <a:lnTo>
                      <a:pt x="120" y="54"/>
                    </a:lnTo>
                    <a:lnTo>
                      <a:pt x="122" y="30"/>
                    </a:lnTo>
                    <a:lnTo>
                      <a:pt x="146" y="23"/>
                    </a:lnTo>
                    <a:lnTo>
                      <a:pt x="42" y="1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9"/>
              <p:cNvSpPr/>
              <p:nvPr/>
            </p:nvSpPr>
            <p:spPr>
              <a:xfrm>
                <a:off x="1692360" y="2480040"/>
                <a:ext cx="51480" cy="19440"/>
              </a:xfrm>
              <a:prstGeom prst="rect">
                <a:avLst/>
              </a:pr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0"/>
              <p:cNvSpPr/>
              <p:nvPr/>
            </p:nvSpPr>
            <p:spPr>
              <a:xfrm>
                <a:off x="938520" y="2486160"/>
                <a:ext cx="51840" cy="19080"/>
              </a:xfrm>
              <a:prstGeom prst="rect">
                <a:avLst/>
              </a:pr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01"/>
              <p:cNvSpPr/>
              <p:nvPr/>
            </p:nvSpPr>
            <p:spPr>
              <a:xfrm>
                <a:off x="1702440" y="2480040"/>
                <a:ext cx="33120" cy="19440"/>
              </a:xfrm>
              <a:prstGeom prst="rect">
                <a:avLst/>
              </a:pr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02"/>
              <p:cNvSpPr/>
              <p:nvPr/>
            </p:nvSpPr>
            <p:spPr>
              <a:xfrm>
                <a:off x="950040" y="2486160"/>
                <a:ext cx="33120" cy="19080"/>
              </a:xfrm>
              <a:prstGeom prst="rect">
                <a:avLst/>
              </a:pr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03"/>
              <p:cNvSpPr/>
              <p:nvPr/>
            </p:nvSpPr>
            <p:spPr>
              <a:xfrm>
                <a:off x="1708200" y="2480040"/>
                <a:ext cx="21600" cy="19440"/>
              </a:xfrm>
              <a:prstGeom prst="rect">
                <a:avLst/>
              </a:pr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04"/>
              <p:cNvSpPr/>
              <p:nvPr/>
            </p:nvSpPr>
            <p:spPr>
              <a:xfrm>
                <a:off x="957240" y="2486160"/>
                <a:ext cx="20160" cy="19080"/>
              </a:xfrm>
              <a:prstGeom prst="rect">
                <a:avLst/>
              </a:pr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05"/>
              <p:cNvSpPr/>
              <p:nvPr/>
            </p:nvSpPr>
            <p:spPr>
              <a:xfrm>
                <a:off x="1714320" y="2480040"/>
                <a:ext cx="10080" cy="19440"/>
              </a:xfrm>
              <a:prstGeom prst="rect">
                <a:avLst/>
              </a:pr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06"/>
              <p:cNvSpPr/>
              <p:nvPr/>
            </p:nvSpPr>
            <p:spPr>
              <a:xfrm>
                <a:off x="963360" y="2486160"/>
                <a:ext cx="7200" cy="19080"/>
              </a:xfrm>
              <a:prstGeom prst="rect">
                <a:avLst/>
              </a:pr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07"/>
              <p:cNvSpPr/>
              <p:nvPr/>
            </p:nvSpPr>
            <p:spPr>
              <a:xfrm>
                <a:off x="1015560" y="2566080"/>
                <a:ext cx="730440" cy="19080"/>
              </a:xfrm>
              <a:custGeom>
                <a:avLst/>
                <a:gdLst>
                  <a:gd name="textAreaLeft" fmla="*/ 0 w 730440"/>
                  <a:gd name="textAreaRight" fmla="*/ 730800 w 7304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010" h="27">
                    <a:moveTo>
                      <a:pt x="0" y="10"/>
                    </a:moveTo>
                    <a:lnTo>
                      <a:pt x="1010" y="0"/>
                    </a:lnTo>
                    <a:lnTo>
                      <a:pt x="1001" y="18"/>
                    </a:lnTo>
                    <a:lnTo>
                      <a:pt x="10" y="2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c2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08"/>
              <p:cNvSpPr/>
              <p:nvPr/>
            </p:nvSpPr>
            <p:spPr>
              <a:xfrm>
                <a:off x="779760" y="1000440"/>
                <a:ext cx="167760" cy="145764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1457640"/>
                  <a:gd name="textAreaBottom" fmla="*/ 1458000 h 1457640"/>
                </a:gdLst>
                <a:ahLst/>
                <a:rect l="textAreaLeft" t="textAreaTop" r="textAreaRight" b="textAreaBottom"/>
                <a:pathLst>
                  <a:path w="231" h="1967">
                    <a:moveTo>
                      <a:pt x="0" y="120"/>
                    </a:moveTo>
                    <a:lnTo>
                      <a:pt x="1" y="1909"/>
                    </a:lnTo>
                    <a:lnTo>
                      <a:pt x="231" y="1967"/>
                    </a:lnTo>
                    <a:lnTo>
                      <a:pt x="221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09"/>
              <p:cNvSpPr/>
              <p:nvPr/>
            </p:nvSpPr>
            <p:spPr>
              <a:xfrm>
                <a:off x="779760" y="1006200"/>
                <a:ext cx="154800" cy="14482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448280"/>
                  <a:gd name="textAreaBottom" fmla="*/ 1448280 h 1448280"/>
                </a:gdLst>
                <a:ahLst/>
                <a:rect l="textAreaLeft" t="textAreaTop" r="textAreaRight" b="textAreaBottom"/>
                <a:pathLst>
                  <a:path w="213" h="1957">
                    <a:moveTo>
                      <a:pt x="0" y="113"/>
                    </a:moveTo>
                    <a:lnTo>
                      <a:pt x="0" y="561"/>
                    </a:lnTo>
                    <a:lnTo>
                      <a:pt x="0" y="1008"/>
                    </a:lnTo>
                    <a:lnTo>
                      <a:pt x="0" y="1455"/>
                    </a:lnTo>
                    <a:lnTo>
                      <a:pt x="1" y="1903"/>
                    </a:lnTo>
                    <a:lnTo>
                      <a:pt x="28" y="1909"/>
                    </a:lnTo>
                    <a:lnTo>
                      <a:pt x="54" y="1916"/>
                    </a:lnTo>
                    <a:lnTo>
                      <a:pt x="81" y="1923"/>
                    </a:lnTo>
                    <a:lnTo>
                      <a:pt x="108" y="1930"/>
                    </a:lnTo>
                    <a:lnTo>
                      <a:pt x="133" y="1936"/>
                    </a:lnTo>
                    <a:lnTo>
                      <a:pt x="160" y="1943"/>
                    </a:lnTo>
                    <a:lnTo>
                      <a:pt x="186" y="1950"/>
                    </a:lnTo>
                    <a:lnTo>
                      <a:pt x="213" y="1957"/>
                    </a:lnTo>
                    <a:lnTo>
                      <a:pt x="212" y="1467"/>
                    </a:lnTo>
                    <a:lnTo>
                      <a:pt x="209" y="978"/>
                    </a:lnTo>
                    <a:lnTo>
                      <a:pt x="208" y="489"/>
                    </a:lnTo>
                    <a:lnTo>
                      <a:pt x="205" y="0"/>
                    </a:lnTo>
                    <a:lnTo>
                      <a:pt x="179" y="13"/>
                    </a:lnTo>
                    <a:lnTo>
                      <a:pt x="154" y="28"/>
                    </a:lnTo>
                    <a:lnTo>
                      <a:pt x="128" y="42"/>
                    </a:lnTo>
                    <a:lnTo>
                      <a:pt x="102" y="56"/>
                    </a:lnTo>
                    <a:lnTo>
                      <a:pt x="77" y="70"/>
                    </a:lnTo>
                    <a:lnTo>
                      <a:pt x="51" y="85"/>
                    </a:lnTo>
                    <a:lnTo>
                      <a:pt x="25" y="98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353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10"/>
              <p:cNvSpPr/>
              <p:nvPr/>
            </p:nvSpPr>
            <p:spPr>
              <a:xfrm>
                <a:off x="779760" y="1013760"/>
                <a:ext cx="143280" cy="143820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1438200"/>
                  <a:gd name="textAreaBottom" fmla="*/ 1438200 h 1438200"/>
                </a:gdLst>
                <a:ahLst/>
                <a:rect l="textAreaLeft" t="textAreaTop" r="textAreaRight" b="textAreaBottom"/>
                <a:pathLst>
                  <a:path w="197" h="1944">
                    <a:moveTo>
                      <a:pt x="0" y="104"/>
                    </a:moveTo>
                    <a:lnTo>
                      <a:pt x="0" y="552"/>
                    </a:lnTo>
                    <a:lnTo>
                      <a:pt x="0" y="999"/>
                    </a:lnTo>
                    <a:lnTo>
                      <a:pt x="0" y="1448"/>
                    </a:lnTo>
                    <a:lnTo>
                      <a:pt x="0" y="1895"/>
                    </a:lnTo>
                    <a:lnTo>
                      <a:pt x="24" y="1900"/>
                    </a:lnTo>
                    <a:lnTo>
                      <a:pt x="50" y="1907"/>
                    </a:lnTo>
                    <a:lnTo>
                      <a:pt x="74" y="1913"/>
                    </a:lnTo>
                    <a:lnTo>
                      <a:pt x="98" y="1919"/>
                    </a:lnTo>
                    <a:lnTo>
                      <a:pt x="123" y="1925"/>
                    </a:lnTo>
                    <a:lnTo>
                      <a:pt x="147" y="1932"/>
                    </a:lnTo>
                    <a:lnTo>
                      <a:pt x="173" y="1937"/>
                    </a:lnTo>
                    <a:lnTo>
                      <a:pt x="197" y="1944"/>
                    </a:lnTo>
                    <a:lnTo>
                      <a:pt x="196" y="1458"/>
                    </a:lnTo>
                    <a:lnTo>
                      <a:pt x="193" y="972"/>
                    </a:lnTo>
                    <a:lnTo>
                      <a:pt x="192" y="485"/>
                    </a:lnTo>
                    <a:lnTo>
                      <a:pt x="189" y="0"/>
                    </a:lnTo>
                    <a:lnTo>
                      <a:pt x="164" y="14"/>
                    </a:lnTo>
                    <a:lnTo>
                      <a:pt x="141" y="26"/>
                    </a:lnTo>
                    <a:lnTo>
                      <a:pt x="117" y="39"/>
                    </a:lnTo>
                    <a:lnTo>
                      <a:pt x="94" y="53"/>
                    </a:lnTo>
                    <a:lnTo>
                      <a:pt x="70" y="66"/>
                    </a:lnTo>
                    <a:lnTo>
                      <a:pt x="47" y="79"/>
                    </a:lnTo>
                    <a:lnTo>
                      <a:pt x="23" y="92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3a4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11"/>
              <p:cNvSpPr/>
              <p:nvPr/>
            </p:nvSpPr>
            <p:spPr>
              <a:xfrm>
                <a:off x="779760" y="1019520"/>
                <a:ext cx="129960" cy="142956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429560"/>
                  <a:gd name="textAreaBottom" fmla="*/ 1429920 h 1429560"/>
                </a:gdLst>
                <a:ahLst/>
                <a:rect l="textAreaLeft" t="textAreaTop" r="textAreaRight" b="textAreaBottom"/>
                <a:pathLst>
                  <a:path w="181" h="1930">
                    <a:moveTo>
                      <a:pt x="0" y="94"/>
                    </a:moveTo>
                    <a:lnTo>
                      <a:pt x="2" y="542"/>
                    </a:lnTo>
                    <a:lnTo>
                      <a:pt x="2" y="990"/>
                    </a:lnTo>
                    <a:lnTo>
                      <a:pt x="2" y="1438"/>
                    </a:lnTo>
                    <a:lnTo>
                      <a:pt x="2" y="1885"/>
                    </a:lnTo>
                    <a:lnTo>
                      <a:pt x="25" y="1890"/>
                    </a:lnTo>
                    <a:lnTo>
                      <a:pt x="46" y="1896"/>
                    </a:lnTo>
                    <a:lnTo>
                      <a:pt x="69" y="1901"/>
                    </a:lnTo>
                    <a:lnTo>
                      <a:pt x="92" y="1907"/>
                    </a:lnTo>
                    <a:lnTo>
                      <a:pt x="114" y="1913"/>
                    </a:lnTo>
                    <a:lnTo>
                      <a:pt x="137" y="1919"/>
                    </a:lnTo>
                    <a:lnTo>
                      <a:pt x="158" y="1924"/>
                    </a:lnTo>
                    <a:lnTo>
                      <a:pt x="181" y="1930"/>
                    </a:lnTo>
                    <a:lnTo>
                      <a:pt x="180" y="1447"/>
                    </a:lnTo>
                    <a:lnTo>
                      <a:pt x="179" y="965"/>
                    </a:lnTo>
                    <a:lnTo>
                      <a:pt x="176" y="482"/>
                    </a:lnTo>
                    <a:lnTo>
                      <a:pt x="175" y="0"/>
                    </a:lnTo>
                    <a:lnTo>
                      <a:pt x="153" y="12"/>
                    </a:lnTo>
                    <a:lnTo>
                      <a:pt x="131" y="24"/>
                    </a:lnTo>
                    <a:lnTo>
                      <a:pt x="110" y="36"/>
                    </a:lnTo>
                    <a:lnTo>
                      <a:pt x="88" y="47"/>
                    </a:lnTo>
                    <a:lnTo>
                      <a:pt x="65" y="59"/>
                    </a:lnTo>
                    <a:lnTo>
                      <a:pt x="43" y="71"/>
                    </a:lnTo>
                    <a:lnTo>
                      <a:pt x="22" y="82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3d4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12"/>
              <p:cNvSpPr/>
              <p:nvPr/>
            </p:nvSpPr>
            <p:spPr>
              <a:xfrm>
                <a:off x="779760" y="1026720"/>
                <a:ext cx="118440" cy="141912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419120"/>
                  <a:gd name="textAreaBottom" fmla="*/ 1419120 h 1419120"/>
                </a:gdLst>
                <a:ahLst/>
                <a:rect l="textAreaLeft" t="textAreaTop" r="textAreaRight" b="textAreaBottom"/>
                <a:pathLst>
                  <a:path w="165" h="1917">
                    <a:moveTo>
                      <a:pt x="0" y="85"/>
                    </a:moveTo>
                    <a:lnTo>
                      <a:pt x="0" y="534"/>
                    </a:lnTo>
                    <a:lnTo>
                      <a:pt x="0" y="981"/>
                    </a:lnTo>
                    <a:lnTo>
                      <a:pt x="0" y="1430"/>
                    </a:lnTo>
                    <a:lnTo>
                      <a:pt x="0" y="1877"/>
                    </a:lnTo>
                    <a:lnTo>
                      <a:pt x="20" y="1881"/>
                    </a:lnTo>
                    <a:lnTo>
                      <a:pt x="42" y="1887"/>
                    </a:lnTo>
                    <a:lnTo>
                      <a:pt x="62" y="1891"/>
                    </a:lnTo>
                    <a:lnTo>
                      <a:pt x="83" y="1896"/>
                    </a:lnTo>
                    <a:lnTo>
                      <a:pt x="103" y="1902"/>
                    </a:lnTo>
                    <a:lnTo>
                      <a:pt x="123" y="1907"/>
                    </a:lnTo>
                    <a:lnTo>
                      <a:pt x="145" y="1911"/>
                    </a:lnTo>
                    <a:lnTo>
                      <a:pt x="165" y="1917"/>
                    </a:lnTo>
                    <a:lnTo>
                      <a:pt x="164" y="1437"/>
                    </a:lnTo>
                    <a:lnTo>
                      <a:pt x="162" y="958"/>
                    </a:lnTo>
                    <a:lnTo>
                      <a:pt x="160" y="480"/>
                    </a:lnTo>
                    <a:lnTo>
                      <a:pt x="158" y="0"/>
                    </a:lnTo>
                    <a:lnTo>
                      <a:pt x="138" y="11"/>
                    </a:lnTo>
                    <a:lnTo>
                      <a:pt x="119" y="20"/>
                    </a:lnTo>
                    <a:lnTo>
                      <a:pt x="99" y="31"/>
                    </a:lnTo>
                    <a:lnTo>
                      <a:pt x="80" y="42"/>
                    </a:lnTo>
                    <a:lnTo>
                      <a:pt x="60" y="54"/>
                    </a:lnTo>
                    <a:lnTo>
                      <a:pt x="39" y="65"/>
                    </a:lnTo>
                    <a:lnTo>
                      <a:pt x="20" y="74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3f4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13"/>
              <p:cNvSpPr/>
              <p:nvPr/>
            </p:nvSpPr>
            <p:spPr>
              <a:xfrm>
                <a:off x="779760" y="1032840"/>
                <a:ext cx="105480" cy="14101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410120"/>
                  <a:gd name="textAreaBottom" fmla="*/ 1410480 h 1410120"/>
                </a:gdLst>
                <a:ahLst/>
                <a:rect l="textAreaLeft" t="textAreaTop" r="textAreaRight" b="textAreaBottom"/>
                <a:pathLst>
                  <a:path w="148" h="1905">
                    <a:moveTo>
                      <a:pt x="0" y="77"/>
                    </a:moveTo>
                    <a:lnTo>
                      <a:pt x="0" y="526"/>
                    </a:lnTo>
                    <a:lnTo>
                      <a:pt x="0" y="975"/>
                    </a:lnTo>
                    <a:lnTo>
                      <a:pt x="0" y="1422"/>
                    </a:lnTo>
                    <a:lnTo>
                      <a:pt x="0" y="1869"/>
                    </a:lnTo>
                    <a:lnTo>
                      <a:pt x="19" y="1873"/>
                    </a:lnTo>
                    <a:lnTo>
                      <a:pt x="37" y="1879"/>
                    </a:lnTo>
                    <a:lnTo>
                      <a:pt x="56" y="1883"/>
                    </a:lnTo>
                    <a:lnTo>
                      <a:pt x="75" y="1887"/>
                    </a:lnTo>
                    <a:lnTo>
                      <a:pt x="92" y="1892"/>
                    </a:lnTo>
                    <a:lnTo>
                      <a:pt x="111" y="1896"/>
                    </a:lnTo>
                    <a:lnTo>
                      <a:pt x="129" y="1900"/>
                    </a:lnTo>
                    <a:lnTo>
                      <a:pt x="148" y="1905"/>
                    </a:lnTo>
                    <a:lnTo>
                      <a:pt x="146" y="1429"/>
                    </a:lnTo>
                    <a:lnTo>
                      <a:pt x="145" y="953"/>
                    </a:lnTo>
                    <a:lnTo>
                      <a:pt x="143" y="476"/>
                    </a:lnTo>
                    <a:lnTo>
                      <a:pt x="142" y="0"/>
                    </a:lnTo>
                    <a:lnTo>
                      <a:pt x="125" y="10"/>
                    </a:lnTo>
                    <a:lnTo>
                      <a:pt x="107" y="20"/>
                    </a:lnTo>
                    <a:lnTo>
                      <a:pt x="89" y="30"/>
                    </a:lnTo>
                    <a:lnTo>
                      <a:pt x="72" y="39"/>
                    </a:lnTo>
                    <a:lnTo>
                      <a:pt x="53" y="49"/>
                    </a:lnTo>
                    <a:lnTo>
                      <a:pt x="35" y="58"/>
                    </a:lnTo>
                    <a:lnTo>
                      <a:pt x="18" y="68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444f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14"/>
              <p:cNvSpPr/>
              <p:nvPr/>
            </p:nvSpPr>
            <p:spPr>
              <a:xfrm>
                <a:off x="778320" y="1040400"/>
                <a:ext cx="93600" cy="14014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401480"/>
                  <a:gd name="textAreaBottom" fmla="*/ 1401840 h 1401480"/>
                </a:gdLst>
                <a:ahLst/>
                <a:rect l="textAreaLeft" t="textAreaTop" r="textAreaRight" b="textAreaBottom"/>
                <a:pathLst>
                  <a:path w="131" h="1892">
                    <a:moveTo>
                      <a:pt x="1" y="70"/>
                    </a:moveTo>
                    <a:lnTo>
                      <a:pt x="1" y="517"/>
                    </a:lnTo>
                    <a:lnTo>
                      <a:pt x="1" y="965"/>
                    </a:lnTo>
                    <a:lnTo>
                      <a:pt x="1" y="1413"/>
                    </a:lnTo>
                    <a:lnTo>
                      <a:pt x="0" y="1861"/>
                    </a:lnTo>
                    <a:lnTo>
                      <a:pt x="16" y="1865"/>
                    </a:lnTo>
                    <a:lnTo>
                      <a:pt x="34" y="1868"/>
                    </a:lnTo>
                    <a:lnTo>
                      <a:pt x="50" y="1872"/>
                    </a:lnTo>
                    <a:lnTo>
                      <a:pt x="66" y="1876"/>
                    </a:lnTo>
                    <a:lnTo>
                      <a:pt x="82" y="1880"/>
                    </a:lnTo>
                    <a:lnTo>
                      <a:pt x="99" y="1884"/>
                    </a:lnTo>
                    <a:lnTo>
                      <a:pt x="115" y="1888"/>
                    </a:lnTo>
                    <a:lnTo>
                      <a:pt x="131" y="1892"/>
                    </a:lnTo>
                    <a:lnTo>
                      <a:pt x="130" y="1419"/>
                    </a:lnTo>
                    <a:lnTo>
                      <a:pt x="130" y="946"/>
                    </a:lnTo>
                    <a:lnTo>
                      <a:pt x="128" y="473"/>
                    </a:lnTo>
                    <a:lnTo>
                      <a:pt x="128" y="0"/>
                    </a:lnTo>
                    <a:lnTo>
                      <a:pt x="112" y="8"/>
                    </a:lnTo>
                    <a:lnTo>
                      <a:pt x="96" y="17"/>
                    </a:lnTo>
                    <a:lnTo>
                      <a:pt x="80" y="25"/>
                    </a:lnTo>
                    <a:lnTo>
                      <a:pt x="65" y="35"/>
                    </a:lnTo>
                    <a:lnTo>
                      <a:pt x="49" y="43"/>
                    </a:lnTo>
                    <a:lnTo>
                      <a:pt x="32" y="52"/>
                    </a:lnTo>
                    <a:lnTo>
                      <a:pt x="17" y="60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4751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15"/>
              <p:cNvSpPr/>
              <p:nvPr/>
            </p:nvSpPr>
            <p:spPr>
              <a:xfrm>
                <a:off x="778320" y="1046520"/>
                <a:ext cx="82080" cy="139248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392480"/>
                  <a:gd name="textAreaBottom" fmla="*/ 1392840 h 1392480"/>
                </a:gdLst>
                <a:ahLst/>
                <a:rect l="textAreaLeft" t="textAreaTop" r="textAreaRight" b="textAreaBottom"/>
                <a:pathLst>
                  <a:path w="115" h="1880">
                    <a:moveTo>
                      <a:pt x="1" y="62"/>
                    </a:moveTo>
                    <a:lnTo>
                      <a:pt x="0" y="509"/>
                    </a:lnTo>
                    <a:lnTo>
                      <a:pt x="0" y="958"/>
                    </a:lnTo>
                    <a:lnTo>
                      <a:pt x="0" y="1405"/>
                    </a:lnTo>
                    <a:lnTo>
                      <a:pt x="0" y="1853"/>
                    </a:lnTo>
                    <a:lnTo>
                      <a:pt x="15" y="1857"/>
                    </a:lnTo>
                    <a:lnTo>
                      <a:pt x="28" y="1860"/>
                    </a:lnTo>
                    <a:lnTo>
                      <a:pt x="43" y="1864"/>
                    </a:lnTo>
                    <a:lnTo>
                      <a:pt x="57" y="1866"/>
                    </a:lnTo>
                    <a:lnTo>
                      <a:pt x="71" y="1869"/>
                    </a:lnTo>
                    <a:lnTo>
                      <a:pt x="85" y="1873"/>
                    </a:lnTo>
                    <a:lnTo>
                      <a:pt x="100" y="1876"/>
                    </a:lnTo>
                    <a:lnTo>
                      <a:pt x="115" y="1880"/>
                    </a:lnTo>
                    <a:lnTo>
                      <a:pt x="113" y="1409"/>
                    </a:lnTo>
                    <a:lnTo>
                      <a:pt x="113" y="939"/>
                    </a:lnTo>
                    <a:lnTo>
                      <a:pt x="112" y="470"/>
                    </a:lnTo>
                    <a:lnTo>
                      <a:pt x="112" y="0"/>
                    </a:lnTo>
                    <a:lnTo>
                      <a:pt x="99" y="8"/>
                    </a:lnTo>
                    <a:lnTo>
                      <a:pt x="84" y="16"/>
                    </a:lnTo>
                    <a:lnTo>
                      <a:pt x="70" y="24"/>
                    </a:lnTo>
                    <a:lnTo>
                      <a:pt x="57" y="31"/>
                    </a:lnTo>
                    <a:lnTo>
                      <a:pt x="42" y="39"/>
                    </a:lnTo>
                    <a:lnTo>
                      <a:pt x="28" y="47"/>
                    </a:lnTo>
                    <a:lnTo>
                      <a:pt x="15" y="54"/>
                    </a:lnTo>
                    <a:lnTo>
                      <a:pt x="1" y="62"/>
                    </a:lnTo>
                    <a:close/>
                  </a:path>
                </a:pathLst>
              </a:custGeom>
              <a:solidFill>
                <a:srgbClr val="4c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16"/>
              <p:cNvSpPr/>
              <p:nvPr/>
            </p:nvSpPr>
            <p:spPr>
              <a:xfrm>
                <a:off x="776520" y="1053720"/>
                <a:ext cx="72360" cy="1382040"/>
              </a:xfrm>
              <a:custGeom>
                <a:avLst/>
                <a:gdLst>
                  <a:gd name="textAreaLeft" fmla="*/ 0 w 72360"/>
                  <a:gd name="textAreaRight" fmla="*/ 72360 w 72360"/>
                  <a:gd name="textAreaTop" fmla="*/ 0 h 1382040"/>
                  <a:gd name="textAreaBottom" fmla="*/ 1382400 h 1382040"/>
                </a:gdLst>
                <a:ahLst/>
                <a:rect l="textAreaLeft" t="textAreaTop" r="textAreaRight" b="textAreaBottom"/>
                <a:pathLst>
                  <a:path w="99" h="1865">
                    <a:moveTo>
                      <a:pt x="3" y="51"/>
                    </a:moveTo>
                    <a:lnTo>
                      <a:pt x="2" y="498"/>
                    </a:lnTo>
                    <a:lnTo>
                      <a:pt x="2" y="947"/>
                    </a:lnTo>
                    <a:lnTo>
                      <a:pt x="2" y="1394"/>
                    </a:lnTo>
                    <a:lnTo>
                      <a:pt x="0" y="1843"/>
                    </a:lnTo>
                    <a:lnTo>
                      <a:pt x="13" y="1846"/>
                    </a:lnTo>
                    <a:lnTo>
                      <a:pt x="26" y="1847"/>
                    </a:lnTo>
                    <a:lnTo>
                      <a:pt x="38" y="1851"/>
                    </a:lnTo>
                    <a:lnTo>
                      <a:pt x="51" y="1854"/>
                    </a:lnTo>
                    <a:lnTo>
                      <a:pt x="63" y="1857"/>
                    </a:lnTo>
                    <a:lnTo>
                      <a:pt x="75" y="1859"/>
                    </a:lnTo>
                    <a:lnTo>
                      <a:pt x="87" y="1862"/>
                    </a:lnTo>
                    <a:lnTo>
                      <a:pt x="99" y="1865"/>
                    </a:lnTo>
                    <a:lnTo>
                      <a:pt x="99" y="1398"/>
                    </a:lnTo>
                    <a:lnTo>
                      <a:pt x="99" y="932"/>
                    </a:lnTo>
                    <a:lnTo>
                      <a:pt x="98" y="466"/>
                    </a:lnTo>
                    <a:lnTo>
                      <a:pt x="98" y="0"/>
                    </a:lnTo>
                    <a:lnTo>
                      <a:pt x="86" y="6"/>
                    </a:lnTo>
                    <a:lnTo>
                      <a:pt x="75" y="12"/>
                    </a:lnTo>
                    <a:lnTo>
                      <a:pt x="63" y="19"/>
                    </a:lnTo>
                    <a:lnTo>
                      <a:pt x="51" y="25"/>
                    </a:lnTo>
                    <a:lnTo>
                      <a:pt x="38" y="31"/>
                    </a:lnTo>
                    <a:lnTo>
                      <a:pt x="26" y="37"/>
                    </a:lnTo>
                    <a:lnTo>
                      <a:pt x="15" y="44"/>
                    </a:lnTo>
                    <a:lnTo>
                      <a:pt x="3" y="51"/>
                    </a:lnTo>
                    <a:close/>
                  </a:path>
                </a:pathLst>
              </a:custGeom>
              <a:solidFill>
                <a:srgbClr val="4f5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17"/>
              <p:cNvSpPr/>
              <p:nvPr/>
            </p:nvSpPr>
            <p:spPr>
              <a:xfrm>
                <a:off x="776520" y="1059480"/>
                <a:ext cx="59040" cy="13730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1373040"/>
                  <a:gd name="textAreaBottom" fmla="*/ 1373040 h 1373040"/>
                </a:gdLst>
                <a:ahLst/>
                <a:rect l="textAreaLeft" t="textAreaTop" r="textAreaRight" b="textAreaBottom"/>
                <a:pathLst>
                  <a:path w="82" h="1853">
                    <a:moveTo>
                      <a:pt x="2" y="43"/>
                    </a:moveTo>
                    <a:lnTo>
                      <a:pt x="2" y="492"/>
                    </a:lnTo>
                    <a:lnTo>
                      <a:pt x="2" y="939"/>
                    </a:lnTo>
                    <a:lnTo>
                      <a:pt x="0" y="1388"/>
                    </a:lnTo>
                    <a:lnTo>
                      <a:pt x="0" y="1836"/>
                    </a:lnTo>
                    <a:lnTo>
                      <a:pt x="11" y="1838"/>
                    </a:lnTo>
                    <a:lnTo>
                      <a:pt x="21" y="1841"/>
                    </a:lnTo>
                    <a:lnTo>
                      <a:pt x="32" y="1842"/>
                    </a:lnTo>
                    <a:lnTo>
                      <a:pt x="41" y="1845"/>
                    </a:lnTo>
                    <a:lnTo>
                      <a:pt x="52" y="1846"/>
                    </a:lnTo>
                    <a:lnTo>
                      <a:pt x="61" y="1849"/>
                    </a:lnTo>
                    <a:lnTo>
                      <a:pt x="72" y="1850"/>
                    </a:lnTo>
                    <a:lnTo>
                      <a:pt x="82" y="1853"/>
                    </a:lnTo>
                    <a:lnTo>
                      <a:pt x="82" y="1389"/>
                    </a:lnTo>
                    <a:lnTo>
                      <a:pt x="82" y="926"/>
                    </a:lnTo>
                    <a:lnTo>
                      <a:pt x="82" y="463"/>
                    </a:lnTo>
                    <a:lnTo>
                      <a:pt x="82" y="0"/>
                    </a:lnTo>
                    <a:lnTo>
                      <a:pt x="72" y="5"/>
                    </a:lnTo>
                    <a:lnTo>
                      <a:pt x="63" y="11"/>
                    </a:lnTo>
                    <a:lnTo>
                      <a:pt x="52" y="16"/>
                    </a:lnTo>
                    <a:lnTo>
                      <a:pt x="42" y="21"/>
                    </a:lnTo>
                    <a:lnTo>
                      <a:pt x="32" y="27"/>
                    </a:lnTo>
                    <a:lnTo>
                      <a:pt x="22" y="32"/>
                    </a:lnTo>
                    <a:lnTo>
                      <a:pt x="11" y="38"/>
                    </a:lnTo>
                    <a:lnTo>
                      <a:pt x="2" y="43"/>
                    </a:lnTo>
                    <a:close/>
                  </a:path>
                </a:pathLst>
              </a:custGeom>
              <a:solidFill>
                <a:srgbClr val="515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18"/>
              <p:cNvSpPr/>
              <p:nvPr/>
            </p:nvSpPr>
            <p:spPr>
              <a:xfrm>
                <a:off x="776520" y="1067040"/>
                <a:ext cx="47880" cy="13626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362600"/>
                  <a:gd name="textAreaBottom" fmla="*/ 1362600 h 1362600"/>
                </a:gdLst>
                <a:ahLst/>
                <a:rect l="textAreaLeft" t="textAreaTop" r="textAreaRight" b="textAreaBottom"/>
                <a:pathLst>
                  <a:path w="66" h="1840">
                    <a:moveTo>
                      <a:pt x="3" y="34"/>
                    </a:moveTo>
                    <a:lnTo>
                      <a:pt x="3" y="483"/>
                    </a:lnTo>
                    <a:lnTo>
                      <a:pt x="1" y="931"/>
                    </a:lnTo>
                    <a:lnTo>
                      <a:pt x="1" y="1379"/>
                    </a:lnTo>
                    <a:lnTo>
                      <a:pt x="0" y="1827"/>
                    </a:lnTo>
                    <a:lnTo>
                      <a:pt x="8" y="1829"/>
                    </a:lnTo>
                    <a:lnTo>
                      <a:pt x="18" y="1830"/>
                    </a:lnTo>
                    <a:lnTo>
                      <a:pt x="26" y="1832"/>
                    </a:lnTo>
                    <a:lnTo>
                      <a:pt x="34" y="1833"/>
                    </a:lnTo>
                    <a:lnTo>
                      <a:pt x="42" y="1834"/>
                    </a:lnTo>
                    <a:lnTo>
                      <a:pt x="50" y="1837"/>
                    </a:lnTo>
                    <a:lnTo>
                      <a:pt x="58" y="1838"/>
                    </a:lnTo>
                    <a:lnTo>
                      <a:pt x="66" y="1840"/>
                    </a:lnTo>
                    <a:lnTo>
                      <a:pt x="66" y="1380"/>
                    </a:lnTo>
                    <a:lnTo>
                      <a:pt x="66" y="921"/>
                    </a:lnTo>
                    <a:lnTo>
                      <a:pt x="66" y="460"/>
                    </a:lnTo>
                    <a:lnTo>
                      <a:pt x="66" y="0"/>
                    </a:lnTo>
                    <a:lnTo>
                      <a:pt x="58" y="4"/>
                    </a:lnTo>
                    <a:lnTo>
                      <a:pt x="52" y="10"/>
                    </a:lnTo>
                    <a:lnTo>
                      <a:pt x="43" y="14"/>
                    </a:lnTo>
                    <a:lnTo>
                      <a:pt x="35" y="18"/>
                    </a:lnTo>
                    <a:lnTo>
                      <a:pt x="27" y="22"/>
                    </a:lnTo>
                    <a:lnTo>
                      <a:pt x="19" y="26"/>
                    </a:lnTo>
                    <a:lnTo>
                      <a:pt x="11" y="30"/>
                    </a:lnTo>
                    <a:lnTo>
                      <a:pt x="3" y="34"/>
                    </a:lnTo>
                    <a:close/>
                  </a:path>
                </a:pathLst>
              </a:custGeom>
              <a:solidFill>
                <a:srgbClr val="56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19"/>
              <p:cNvSpPr/>
              <p:nvPr/>
            </p:nvSpPr>
            <p:spPr>
              <a:xfrm>
                <a:off x="776520" y="1074600"/>
                <a:ext cx="36000" cy="13525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1352520"/>
                  <a:gd name="textAreaBottom" fmla="*/ 1352520 h 1352520"/>
                </a:gdLst>
                <a:ahLst/>
                <a:rect l="textAreaLeft" t="textAreaTop" r="textAreaRight" b="textAreaBottom"/>
                <a:pathLst>
                  <a:path w="52" h="1826">
                    <a:moveTo>
                      <a:pt x="3" y="25"/>
                    </a:moveTo>
                    <a:lnTo>
                      <a:pt x="0" y="1817"/>
                    </a:lnTo>
                    <a:lnTo>
                      <a:pt x="49" y="1826"/>
                    </a:lnTo>
                    <a:lnTo>
                      <a:pt x="52" y="0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220"/>
              <p:cNvSpPr/>
              <p:nvPr/>
            </p:nvSpPr>
            <p:spPr>
              <a:xfrm>
                <a:off x="1242360" y="1089360"/>
                <a:ext cx="14400" cy="359640"/>
              </a:xfrm>
              <a:prstGeom prst="rect">
                <a:avLst/>
              </a:pr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21"/>
              <p:cNvSpPr/>
              <p:nvPr/>
            </p:nvSpPr>
            <p:spPr>
              <a:xfrm>
                <a:off x="932760" y="979560"/>
                <a:ext cx="271800" cy="14738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473840"/>
                  <a:gd name="textAreaBottom" fmla="*/ 1473840 h 1473840"/>
                </a:gdLst>
                <a:ahLst/>
                <a:rect l="textAreaLeft" t="textAreaTop" r="textAreaRight" b="textAreaBottom"/>
                <a:pathLst>
                  <a:path w="376" h="1989">
                    <a:moveTo>
                      <a:pt x="0" y="0"/>
                    </a:moveTo>
                    <a:lnTo>
                      <a:pt x="2" y="1989"/>
                    </a:lnTo>
                    <a:lnTo>
                      <a:pt x="375" y="1989"/>
                    </a:lnTo>
                    <a:lnTo>
                      <a:pt x="376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22"/>
              <p:cNvSpPr/>
              <p:nvPr/>
            </p:nvSpPr>
            <p:spPr>
              <a:xfrm>
                <a:off x="932760" y="979560"/>
                <a:ext cx="260280" cy="133308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1333080"/>
                  <a:gd name="textAreaBottom" fmla="*/ 1333440 h 1333080"/>
                </a:gdLst>
                <a:ahLst/>
                <a:rect l="textAreaLeft" t="textAreaTop" r="textAreaRight" b="textAreaBottom"/>
                <a:pathLst>
                  <a:path w="361" h="1800">
                    <a:moveTo>
                      <a:pt x="0" y="0"/>
                    </a:moveTo>
                    <a:lnTo>
                      <a:pt x="0" y="450"/>
                    </a:lnTo>
                    <a:lnTo>
                      <a:pt x="2" y="900"/>
                    </a:lnTo>
                    <a:lnTo>
                      <a:pt x="2" y="1350"/>
                    </a:lnTo>
                    <a:lnTo>
                      <a:pt x="2" y="1800"/>
                    </a:lnTo>
                    <a:lnTo>
                      <a:pt x="25" y="1800"/>
                    </a:lnTo>
                    <a:lnTo>
                      <a:pt x="46" y="1800"/>
                    </a:lnTo>
                    <a:lnTo>
                      <a:pt x="69" y="1800"/>
                    </a:lnTo>
                    <a:lnTo>
                      <a:pt x="92" y="1800"/>
                    </a:lnTo>
                    <a:lnTo>
                      <a:pt x="114" y="1800"/>
                    </a:lnTo>
                    <a:lnTo>
                      <a:pt x="137" y="1800"/>
                    </a:lnTo>
                    <a:lnTo>
                      <a:pt x="159" y="1800"/>
                    </a:lnTo>
                    <a:lnTo>
                      <a:pt x="182" y="1800"/>
                    </a:lnTo>
                    <a:lnTo>
                      <a:pt x="205" y="1800"/>
                    </a:lnTo>
                    <a:lnTo>
                      <a:pt x="226" y="1800"/>
                    </a:lnTo>
                    <a:lnTo>
                      <a:pt x="249" y="1800"/>
                    </a:lnTo>
                    <a:lnTo>
                      <a:pt x="271" y="1800"/>
                    </a:lnTo>
                    <a:lnTo>
                      <a:pt x="294" y="1800"/>
                    </a:lnTo>
                    <a:lnTo>
                      <a:pt x="317" y="1800"/>
                    </a:lnTo>
                    <a:lnTo>
                      <a:pt x="338" y="1800"/>
                    </a:lnTo>
                    <a:lnTo>
                      <a:pt x="361" y="1800"/>
                    </a:lnTo>
                    <a:lnTo>
                      <a:pt x="360" y="1354"/>
                    </a:lnTo>
                    <a:lnTo>
                      <a:pt x="360" y="908"/>
                    </a:lnTo>
                    <a:lnTo>
                      <a:pt x="360" y="462"/>
                    </a:lnTo>
                    <a:lnTo>
                      <a:pt x="360" y="16"/>
                    </a:lnTo>
                    <a:lnTo>
                      <a:pt x="337" y="14"/>
                    </a:lnTo>
                    <a:lnTo>
                      <a:pt x="315" y="13"/>
                    </a:lnTo>
                    <a:lnTo>
                      <a:pt x="292" y="13"/>
                    </a:lnTo>
                    <a:lnTo>
                      <a:pt x="269" y="12"/>
                    </a:lnTo>
                    <a:lnTo>
                      <a:pt x="248" y="10"/>
                    </a:lnTo>
                    <a:lnTo>
                      <a:pt x="225" y="9"/>
                    </a:lnTo>
                    <a:lnTo>
                      <a:pt x="203" y="9"/>
                    </a:lnTo>
                    <a:lnTo>
                      <a:pt x="180" y="8"/>
                    </a:lnTo>
                    <a:lnTo>
                      <a:pt x="157" y="6"/>
                    </a:lnTo>
                    <a:lnTo>
                      <a:pt x="136" y="5"/>
                    </a:lnTo>
                    <a:lnTo>
                      <a:pt x="113" y="5"/>
                    </a:lnTo>
                    <a:lnTo>
                      <a:pt x="91" y="4"/>
                    </a:lnTo>
                    <a:lnTo>
                      <a:pt x="68" y="2"/>
                    </a:lnTo>
                    <a:lnTo>
                      <a:pt x="45" y="1"/>
                    </a:lnTo>
                    <a:lnTo>
                      <a:pt x="2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23"/>
              <p:cNvSpPr/>
              <p:nvPr/>
            </p:nvSpPr>
            <p:spPr>
              <a:xfrm>
                <a:off x="932760" y="979560"/>
                <a:ext cx="250200" cy="1194120"/>
              </a:xfrm>
              <a:custGeom>
                <a:avLst/>
                <a:gdLst>
                  <a:gd name="textAreaLeft" fmla="*/ 0 w 250200"/>
                  <a:gd name="textAreaRight" fmla="*/ 250560 w 250200"/>
                  <a:gd name="textAreaTop" fmla="*/ 0 h 1194120"/>
                  <a:gd name="textAreaBottom" fmla="*/ 1194480 h 1194120"/>
                </a:gdLst>
                <a:ahLst/>
                <a:rect l="textAreaLeft" t="textAreaTop" r="textAreaRight" b="textAreaBottom"/>
                <a:pathLst>
                  <a:path w="348" h="1611">
                    <a:moveTo>
                      <a:pt x="0" y="0"/>
                    </a:moveTo>
                    <a:lnTo>
                      <a:pt x="0" y="402"/>
                    </a:lnTo>
                    <a:lnTo>
                      <a:pt x="0" y="805"/>
                    </a:lnTo>
                    <a:lnTo>
                      <a:pt x="0" y="1208"/>
                    </a:lnTo>
                    <a:lnTo>
                      <a:pt x="2" y="1611"/>
                    </a:lnTo>
                    <a:lnTo>
                      <a:pt x="23" y="1611"/>
                    </a:lnTo>
                    <a:lnTo>
                      <a:pt x="45" y="1611"/>
                    </a:lnTo>
                    <a:lnTo>
                      <a:pt x="67" y="1611"/>
                    </a:lnTo>
                    <a:lnTo>
                      <a:pt x="88" y="1609"/>
                    </a:lnTo>
                    <a:lnTo>
                      <a:pt x="110" y="1609"/>
                    </a:lnTo>
                    <a:lnTo>
                      <a:pt x="132" y="1609"/>
                    </a:lnTo>
                    <a:lnTo>
                      <a:pt x="153" y="1609"/>
                    </a:lnTo>
                    <a:lnTo>
                      <a:pt x="175" y="1609"/>
                    </a:lnTo>
                    <a:lnTo>
                      <a:pt x="196" y="1609"/>
                    </a:lnTo>
                    <a:lnTo>
                      <a:pt x="218" y="1609"/>
                    </a:lnTo>
                    <a:lnTo>
                      <a:pt x="240" y="1609"/>
                    </a:lnTo>
                    <a:lnTo>
                      <a:pt x="261" y="1609"/>
                    </a:lnTo>
                    <a:lnTo>
                      <a:pt x="283" y="1609"/>
                    </a:lnTo>
                    <a:lnTo>
                      <a:pt x="305" y="1609"/>
                    </a:lnTo>
                    <a:lnTo>
                      <a:pt x="326" y="1609"/>
                    </a:lnTo>
                    <a:lnTo>
                      <a:pt x="348" y="1609"/>
                    </a:lnTo>
                    <a:lnTo>
                      <a:pt x="346" y="1211"/>
                    </a:lnTo>
                    <a:lnTo>
                      <a:pt x="346" y="812"/>
                    </a:lnTo>
                    <a:lnTo>
                      <a:pt x="345" y="415"/>
                    </a:lnTo>
                    <a:lnTo>
                      <a:pt x="344" y="16"/>
                    </a:lnTo>
                    <a:lnTo>
                      <a:pt x="322" y="14"/>
                    </a:lnTo>
                    <a:lnTo>
                      <a:pt x="301" y="13"/>
                    </a:lnTo>
                    <a:lnTo>
                      <a:pt x="280" y="13"/>
                    </a:lnTo>
                    <a:lnTo>
                      <a:pt x="259" y="12"/>
                    </a:lnTo>
                    <a:lnTo>
                      <a:pt x="237" y="10"/>
                    </a:lnTo>
                    <a:lnTo>
                      <a:pt x="215" y="9"/>
                    </a:lnTo>
                    <a:lnTo>
                      <a:pt x="194" y="9"/>
                    </a:lnTo>
                    <a:lnTo>
                      <a:pt x="172" y="8"/>
                    </a:lnTo>
                    <a:lnTo>
                      <a:pt x="150" y="6"/>
                    </a:lnTo>
                    <a:lnTo>
                      <a:pt x="130" y="5"/>
                    </a:lnTo>
                    <a:lnTo>
                      <a:pt x="109" y="5"/>
                    </a:lnTo>
                    <a:lnTo>
                      <a:pt x="87" y="4"/>
                    </a:lnTo>
                    <a:lnTo>
                      <a:pt x="65" y="2"/>
                    </a:lnTo>
                    <a:lnTo>
                      <a:pt x="44" y="1"/>
                    </a:lnTo>
                    <a:lnTo>
                      <a:pt x="2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7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24"/>
              <p:cNvSpPr/>
              <p:nvPr/>
            </p:nvSpPr>
            <p:spPr>
              <a:xfrm>
                <a:off x="932760" y="979560"/>
                <a:ext cx="240120" cy="105480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1054800"/>
                  <a:gd name="textAreaBottom" fmla="*/ 1055160 h 1054800"/>
                </a:gdLst>
                <a:ahLst/>
                <a:rect l="textAreaLeft" t="textAreaTop" r="textAreaRight" b="textAreaBottom"/>
                <a:pathLst>
                  <a:path w="333" h="1423">
                    <a:moveTo>
                      <a:pt x="0" y="0"/>
                    </a:moveTo>
                    <a:lnTo>
                      <a:pt x="0" y="355"/>
                    </a:lnTo>
                    <a:lnTo>
                      <a:pt x="0" y="710"/>
                    </a:lnTo>
                    <a:lnTo>
                      <a:pt x="0" y="1067"/>
                    </a:lnTo>
                    <a:lnTo>
                      <a:pt x="2" y="1423"/>
                    </a:lnTo>
                    <a:lnTo>
                      <a:pt x="22" y="1423"/>
                    </a:lnTo>
                    <a:lnTo>
                      <a:pt x="44" y="1423"/>
                    </a:lnTo>
                    <a:lnTo>
                      <a:pt x="64" y="1423"/>
                    </a:lnTo>
                    <a:lnTo>
                      <a:pt x="84" y="1423"/>
                    </a:lnTo>
                    <a:lnTo>
                      <a:pt x="106" y="1423"/>
                    </a:lnTo>
                    <a:lnTo>
                      <a:pt x="126" y="1423"/>
                    </a:lnTo>
                    <a:lnTo>
                      <a:pt x="148" y="1423"/>
                    </a:lnTo>
                    <a:lnTo>
                      <a:pt x="168" y="1421"/>
                    </a:lnTo>
                    <a:lnTo>
                      <a:pt x="188" y="1421"/>
                    </a:lnTo>
                    <a:lnTo>
                      <a:pt x="210" y="1421"/>
                    </a:lnTo>
                    <a:lnTo>
                      <a:pt x="230" y="1421"/>
                    </a:lnTo>
                    <a:lnTo>
                      <a:pt x="251" y="1421"/>
                    </a:lnTo>
                    <a:lnTo>
                      <a:pt x="271" y="1421"/>
                    </a:lnTo>
                    <a:lnTo>
                      <a:pt x="292" y="1421"/>
                    </a:lnTo>
                    <a:lnTo>
                      <a:pt x="313" y="1421"/>
                    </a:lnTo>
                    <a:lnTo>
                      <a:pt x="333" y="1421"/>
                    </a:lnTo>
                    <a:lnTo>
                      <a:pt x="332" y="1070"/>
                    </a:lnTo>
                    <a:lnTo>
                      <a:pt x="332" y="717"/>
                    </a:lnTo>
                    <a:lnTo>
                      <a:pt x="330" y="366"/>
                    </a:lnTo>
                    <a:lnTo>
                      <a:pt x="329" y="14"/>
                    </a:lnTo>
                    <a:lnTo>
                      <a:pt x="309" y="13"/>
                    </a:lnTo>
                    <a:lnTo>
                      <a:pt x="288" y="13"/>
                    </a:lnTo>
                    <a:lnTo>
                      <a:pt x="267" y="12"/>
                    </a:lnTo>
                    <a:lnTo>
                      <a:pt x="246" y="10"/>
                    </a:lnTo>
                    <a:lnTo>
                      <a:pt x="226" y="9"/>
                    </a:lnTo>
                    <a:lnTo>
                      <a:pt x="206" y="9"/>
                    </a:lnTo>
                    <a:lnTo>
                      <a:pt x="186" y="8"/>
                    </a:lnTo>
                    <a:lnTo>
                      <a:pt x="165" y="6"/>
                    </a:lnTo>
                    <a:lnTo>
                      <a:pt x="144" y="6"/>
                    </a:lnTo>
                    <a:lnTo>
                      <a:pt x="123" y="5"/>
                    </a:lnTo>
                    <a:lnTo>
                      <a:pt x="103" y="5"/>
                    </a:lnTo>
                    <a:lnTo>
                      <a:pt x="83" y="4"/>
                    </a:lnTo>
                    <a:lnTo>
                      <a:pt x="63" y="2"/>
                    </a:lnTo>
                    <a:lnTo>
                      <a:pt x="41" y="1"/>
                    </a:lnTo>
                    <a:lnTo>
                      <a:pt x="2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8e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25"/>
              <p:cNvSpPr/>
              <p:nvPr/>
            </p:nvSpPr>
            <p:spPr>
              <a:xfrm>
                <a:off x="931320" y="979560"/>
                <a:ext cx="231480" cy="9140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914040"/>
                  <a:gd name="textAreaBottom" fmla="*/ 914400 h 914040"/>
                </a:gdLst>
                <a:ahLst/>
                <a:rect l="textAreaLeft" t="textAreaTop" r="textAreaRight" b="textAreaBottom"/>
                <a:pathLst>
                  <a:path w="320" h="1234">
                    <a:moveTo>
                      <a:pt x="0" y="0"/>
                    </a:moveTo>
                    <a:lnTo>
                      <a:pt x="1" y="309"/>
                    </a:lnTo>
                    <a:lnTo>
                      <a:pt x="1" y="617"/>
                    </a:lnTo>
                    <a:lnTo>
                      <a:pt x="1" y="925"/>
                    </a:lnTo>
                    <a:lnTo>
                      <a:pt x="3" y="1234"/>
                    </a:lnTo>
                    <a:lnTo>
                      <a:pt x="23" y="1234"/>
                    </a:lnTo>
                    <a:lnTo>
                      <a:pt x="42" y="1234"/>
                    </a:lnTo>
                    <a:lnTo>
                      <a:pt x="62" y="1234"/>
                    </a:lnTo>
                    <a:lnTo>
                      <a:pt x="83" y="1234"/>
                    </a:lnTo>
                    <a:lnTo>
                      <a:pt x="101" y="1234"/>
                    </a:lnTo>
                    <a:lnTo>
                      <a:pt x="122" y="1234"/>
                    </a:lnTo>
                    <a:lnTo>
                      <a:pt x="142" y="1234"/>
                    </a:lnTo>
                    <a:lnTo>
                      <a:pt x="162" y="1232"/>
                    </a:lnTo>
                    <a:lnTo>
                      <a:pt x="181" y="1232"/>
                    </a:lnTo>
                    <a:lnTo>
                      <a:pt x="201" y="1232"/>
                    </a:lnTo>
                    <a:lnTo>
                      <a:pt x="222" y="1232"/>
                    </a:lnTo>
                    <a:lnTo>
                      <a:pt x="241" y="1232"/>
                    </a:lnTo>
                    <a:lnTo>
                      <a:pt x="261" y="1232"/>
                    </a:lnTo>
                    <a:lnTo>
                      <a:pt x="281" y="1232"/>
                    </a:lnTo>
                    <a:lnTo>
                      <a:pt x="300" y="1232"/>
                    </a:lnTo>
                    <a:lnTo>
                      <a:pt x="320" y="1232"/>
                    </a:lnTo>
                    <a:lnTo>
                      <a:pt x="319" y="927"/>
                    </a:lnTo>
                    <a:lnTo>
                      <a:pt x="318" y="623"/>
                    </a:lnTo>
                    <a:lnTo>
                      <a:pt x="315" y="317"/>
                    </a:lnTo>
                    <a:lnTo>
                      <a:pt x="314" y="13"/>
                    </a:lnTo>
                    <a:lnTo>
                      <a:pt x="295" y="12"/>
                    </a:lnTo>
                    <a:lnTo>
                      <a:pt x="274" y="12"/>
                    </a:lnTo>
                    <a:lnTo>
                      <a:pt x="256" y="10"/>
                    </a:lnTo>
                    <a:lnTo>
                      <a:pt x="235" y="10"/>
                    </a:lnTo>
                    <a:lnTo>
                      <a:pt x="216" y="9"/>
                    </a:lnTo>
                    <a:lnTo>
                      <a:pt x="196" y="8"/>
                    </a:lnTo>
                    <a:lnTo>
                      <a:pt x="177" y="8"/>
                    </a:lnTo>
                    <a:lnTo>
                      <a:pt x="157" y="6"/>
                    </a:lnTo>
                    <a:lnTo>
                      <a:pt x="138" y="5"/>
                    </a:lnTo>
                    <a:lnTo>
                      <a:pt x="118" y="5"/>
                    </a:lnTo>
                    <a:lnTo>
                      <a:pt x="99" y="4"/>
                    </a:lnTo>
                    <a:lnTo>
                      <a:pt x="78" y="2"/>
                    </a:lnTo>
                    <a:lnTo>
                      <a:pt x="60" y="2"/>
                    </a:lnTo>
                    <a:lnTo>
                      <a:pt x="39" y="1"/>
                    </a:lnTo>
                    <a:lnTo>
                      <a:pt x="2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26"/>
              <p:cNvSpPr/>
              <p:nvPr/>
            </p:nvSpPr>
            <p:spPr>
              <a:xfrm>
                <a:off x="931320" y="979560"/>
                <a:ext cx="221400" cy="7747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774720"/>
                  <a:gd name="textAreaBottom" fmla="*/ 775080 h 774720"/>
                </a:gdLst>
                <a:ahLst/>
                <a:rect l="textAreaLeft" t="textAreaTop" r="textAreaRight" b="textAreaBottom"/>
                <a:pathLst>
                  <a:path w="307" h="1046">
                    <a:moveTo>
                      <a:pt x="0" y="0"/>
                    </a:moveTo>
                    <a:lnTo>
                      <a:pt x="1" y="260"/>
                    </a:lnTo>
                    <a:lnTo>
                      <a:pt x="1" y="523"/>
                    </a:lnTo>
                    <a:lnTo>
                      <a:pt x="1" y="783"/>
                    </a:lnTo>
                    <a:lnTo>
                      <a:pt x="3" y="1046"/>
                    </a:lnTo>
                    <a:lnTo>
                      <a:pt x="22" y="1046"/>
                    </a:lnTo>
                    <a:lnTo>
                      <a:pt x="41" y="1046"/>
                    </a:lnTo>
                    <a:lnTo>
                      <a:pt x="60" y="1044"/>
                    </a:lnTo>
                    <a:lnTo>
                      <a:pt x="78" y="1044"/>
                    </a:lnTo>
                    <a:lnTo>
                      <a:pt x="97" y="1044"/>
                    </a:lnTo>
                    <a:lnTo>
                      <a:pt x="116" y="1044"/>
                    </a:lnTo>
                    <a:lnTo>
                      <a:pt x="135" y="1044"/>
                    </a:lnTo>
                    <a:lnTo>
                      <a:pt x="156" y="1044"/>
                    </a:lnTo>
                    <a:lnTo>
                      <a:pt x="174" y="1043"/>
                    </a:lnTo>
                    <a:lnTo>
                      <a:pt x="193" y="1043"/>
                    </a:lnTo>
                    <a:lnTo>
                      <a:pt x="212" y="1043"/>
                    </a:lnTo>
                    <a:lnTo>
                      <a:pt x="231" y="1043"/>
                    </a:lnTo>
                    <a:lnTo>
                      <a:pt x="250" y="1043"/>
                    </a:lnTo>
                    <a:lnTo>
                      <a:pt x="269" y="1043"/>
                    </a:lnTo>
                    <a:lnTo>
                      <a:pt x="288" y="1043"/>
                    </a:lnTo>
                    <a:lnTo>
                      <a:pt x="307" y="1043"/>
                    </a:lnTo>
                    <a:lnTo>
                      <a:pt x="306" y="785"/>
                    </a:lnTo>
                    <a:lnTo>
                      <a:pt x="303" y="528"/>
                    </a:lnTo>
                    <a:lnTo>
                      <a:pt x="302" y="270"/>
                    </a:lnTo>
                    <a:lnTo>
                      <a:pt x="299" y="12"/>
                    </a:lnTo>
                    <a:lnTo>
                      <a:pt x="280" y="10"/>
                    </a:lnTo>
                    <a:lnTo>
                      <a:pt x="261" y="10"/>
                    </a:lnTo>
                    <a:lnTo>
                      <a:pt x="242" y="9"/>
                    </a:lnTo>
                    <a:lnTo>
                      <a:pt x="224" y="9"/>
                    </a:lnTo>
                    <a:lnTo>
                      <a:pt x="206" y="8"/>
                    </a:lnTo>
                    <a:lnTo>
                      <a:pt x="187" y="8"/>
                    </a:lnTo>
                    <a:lnTo>
                      <a:pt x="168" y="6"/>
                    </a:lnTo>
                    <a:lnTo>
                      <a:pt x="150" y="5"/>
                    </a:lnTo>
                    <a:lnTo>
                      <a:pt x="131" y="5"/>
                    </a:lnTo>
                    <a:lnTo>
                      <a:pt x="112" y="4"/>
                    </a:lnTo>
                    <a:lnTo>
                      <a:pt x="93" y="4"/>
                    </a:lnTo>
                    <a:lnTo>
                      <a:pt x="74" y="2"/>
                    </a:lnTo>
                    <a:lnTo>
                      <a:pt x="57" y="2"/>
                    </a:lnTo>
                    <a:lnTo>
                      <a:pt x="38" y="1"/>
                    </a:lnTo>
                    <a:lnTo>
                      <a:pt x="1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9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27"/>
              <p:cNvSpPr/>
              <p:nvPr/>
            </p:nvSpPr>
            <p:spPr>
              <a:xfrm>
                <a:off x="931320" y="979560"/>
                <a:ext cx="212400" cy="63540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35400"/>
                  <a:gd name="textAreaBottom" fmla="*/ 635760 h 635400"/>
                </a:gdLst>
                <a:ahLst/>
                <a:rect l="textAreaLeft" t="textAreaTop" r="textAreaRight" b="textAreaBottom"/>
                <a:pathLst>
                  <a:path w="293" h="856">
                    <a:moveTo>
                      <a:pt x="0" y="0"/>
                    </a:moveTo>
                    <a:lnTo>
                      <a:pt x="0" y="213"/>
                    </a:lnTo>
                    <a:lnTo>
                      <a:pt x="1" y="428"/>
                    </a:lnTo>
                    <a:lnTo>
                      <a:pt x="1" y="643"/>
                    </a:lnTo>
                    <a:lnTo>
                      <a:pt x="1" y="856"/>
                    </a:lnTo>
                    <a:lnTo>
                      <a:pt x="20" y="856"/>
                    </a:lnTo>
                    <a:lnTo>
                      <a:pt x="38" y="856"/>
                    </a:lnTo>
                    <a:lnTo>
                      <a:pt x="57" y="855"/>
                    </a:lnTo>
                    <a:lnTo>
                      <a:pt x="74" y="855"/>
                    </a:lnTo>
                    <a:lnTo>
                      <a:pt x="93" y="855"/>
                    </a:lnTo>
                    <a:lnTo>
                      <a:pt x="111" y="855"/>
                    </a:lnTo>
                    <a:lnTo>
                      <a:pt x="130" y="855"/>
                    </a:lnTo>
                    <a:lnTo>
                      <a:pt x="147" y="854"/>
                    </a:lnTo>
                    <a:lnTo>
                      <a:pt x="166" y="854"/>
                    </a:lnTo>
                    <a:lnTo>
                      <a:pt x="184" y="854"/>
                    </a:lnTo>
                    <a:lnTo>
                      <a:pt x="203" y="854"/>
                    </a:lnTo>
                    <a:lnTo>
                      <a:pt x="220" y="854"/>
                    </a:lnTo>
                    <a:lnTo>
                      <a:pt x="239" y="854"/>
                    </a:lnTo>
                    <a:lnTo>
                      <a:pt x="257" y="852"/>
                    </a:lnTo>
                    <a:lnTo>
                      <a:pt x="276" y="852"/>
                    </a:lnTo>
                    <a:lnTo>
                      <a:pt x="293" y="852"/>
                    </a:lnTo>
                    <a:lnTo>
                      <a:pt x="291" y="643"/>
                    </a:lnTo>
                    <a:lnTo>
                      <a:pt x="288" y="432"/>
                    </a:lnTo>
                    <a:lnTo>
                      <a:pt x="285" y="221"/>
                    </a:lnTo>
                    <a:lnTo>
                      <a:pt x="283" y="12"/>
                    </a:lnTo>
                    <a:lnTo>
                      <a:pt x="265" y="10"/>
                    </a:lnTo>
                    <a:lnTo>
                      <a:pt x="247" y="10"/>
                    </a:lnTo>
                    <a:lnTo>
                      <a:pt x="230" y="9"/>
                    </a:lnTo>
                    <a:lnTo>
                      <a:pt x="212" y="9"/>
                    </a:lnTo>
                    <a:lnTo>
                      <a:pt x="195" y="8"/>
                    </a:lnTo>
                    <a:lnTo>
                      <a:pt x="177" y="8"/>
                    </a:lnTo>
                    <a:lnTo>
                      <a:pt x="160" y="6"/>
                    </a:lnTo>
                    <a:lnTo>
                      <a:pt x="142" y="5"/>
                    </a:lnTo>
                    <a:lnTo>
                      <a:pt x="123" y="5"/>
                    </a:lnTo>
                    <a:lnTo>
                      <a:pt x="106" y="4"/>
                    </a:lnTo>
                    <a:lnTo>
                      <a:pt x="88" y="4"/>
                    </a:lnTo>
                    <a:lnTo>
                      <a:pt x="70" y="2"/>
                    </a:lnTo>
                    <a:lnTo>
                      <a:pt x="53" y="2"/>
                    </a:lnTo>
                    <a:lnTo>
                      <a:pt x="35" y="1"/>
                    </a:lnTo>
                    <a:lnTo>
                      <a:pt x="1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28"/>
              <p:cNvSpPr/>
              <p:nvPr/>
            </p:nvSpPr>
            <p:spPr>
              <a:xfrm>
                <a:off x="931320" y="979560"/>
                <a:ext cx="202320" cy="49644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496440"/>
                  <a:gd name="textAreaBottom" fmla="*/ 496800 h 496440"/>
                </a:gdLst>
                <a:ahLst/>
                <a:rect l="textAreaLeft" t="textAreaTop" r="textAreaRight" b="textAreaBottom"/>
                <a:pathLst>
                  <a:path w="280" h="669">
                    <a:moveTo>
                      <a:pt x="0" y="0"/>
                    </a:moveTo>
                    <a:lnTo>
                      <a:pt x="0" y="167"/>
                    </a:lnTo>
                    <a:lnTo>
                      <a:pt x="1" y="333"/>
                    </a:lnTo>
                    <a:lnTo>
                      <a:pt x="1" y="501"/>
                    </a:lnTo>
                    <a:lnTo>
                      <a:pt x="1" y="669"/>
                    </a:lnTo>
                    <a:lnTo>
                      <a:pt x="19" y="669"/>
                    </a:lnTo>
                    <a:lnTo>
                      <a:pt x="37" y="669"/>
                    </a:lnTo>
                    <a:lnTo>
                      <a:pt x="54" y="667"/>
                    </a:lnTo>
                    <a:lnTo>
                      <a:pt x="72" y="667"/>
                    </a:lnTo>
                    <a:lnTo>
                      <a:pt x="88" y="667"/>
                    </a:lnTo>
                    <a:lnTo>
                      <a:pt x="106" y="667"/>
                    </a:lnTo>
                    <a:lnTo>
                      <a:pt x="123" y="666"/>
                    </a:lnTo>
                    <a:lnTo>
                      <a:pt x="141" y="666"/>
                    </a:lnTo>
                    <a:lnTo>
                      <a:pt x="158" y="666"/>
                    </a:lnTo>
                    <a:lnTo>
                      <a:pt x="176" y="665"/>
                    </a:lnTo>
                    <a:lnTo>
                      <a:pt x="193" y="665"/>
                    </a:lnTo>
                    <a:lnTo>
                      <a:pt x="210" y="665"/>
                    </a:lnTo>
                    <a:lnTo>
                      <a:pt x="227" y="665"/>
                    </a:lnTo>
                    <a:lnTo>
                      <a:pt x="245" y="663"/>
                    </a:lnTo>
                    <a:lnTo>
                      <a:pt x="262" y="663"/>
                    </a:lnTo>
                    <a:lnTo>
                      <a:pt x="280" y="663"/>
                    </a:lnTo>
                    <a:lnTo>
                      <a:pt x="277" y="500"/>
                    </a:lnTo>
                    <a:lnTo>
                      <a:pt x="273" y="336"/>
                    </a:lnTo>
                    <a:lnTo>
                      <a:pt x="270" y="174"/>
                    </a:lnTo>
                    <a:lnTo>
                      <a:pt x="266" y="10"/>
                    </a:lnTo>
                    <a:lnTo>
                      <a:pt x="250" y="9"/>
                    </a:lnTo>
                    <a:lnTo>
                      <a:pt x="233" y="9"/>
                    </a:lnTo>
                    <a:lnTo>
                      <a:pt x="216" y="8"/>
                    </a:lnTo>
                    <a:lnTo>
                      <a:pt x="200" y="8"/>
                    </a:lnTo>
                    <a:lnTo>
                      <a:pt x="183" y="6"/>
                    </a:lnTo>
                    <a:lnTo>
                      <a:pt x="166" y="6"/>
                    </a:lnTo>
                    <a:lnTo>
                      <a:pt x="150" y="5"/>
                    </a:lnTo>
                    <a:lnTo>
                      <a:pt x="134" y="5"/>
                    </a:lnTo>
                    <a:lnTo>
                      <a:pt x="116" y="5"/>
                    </a:lnTo>
                    <a:lnTo>
                      <a:pt x="100" y="4"/>
                    </a:lnTo>
                    <a:lnTo>
                      <a:pt x="84" y="4"/>
                    </a:lnTo>
                    <a:lnTo>
                      <a:pt x="66" y="2"/>
                    </a:lnTo>
                    <a:lnTo>
                      <a:pt x="50" y="2"/>
                    </a:lnTo>
                    <a:lnTo>
                      <a:pt x="34" y="1"/>
                    </a:lnTo>
                    <a:lnTo>
                      <a:pt x="1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29"/>
              <p:cNvSpPr/>
              <p:nvPr/>
            </p:nvSpPr>
            <p:spPr>
              <a:xfrm>
                <a:off x="931320" y="979560"/>
                <a:ext cx="192240" cy="35568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266" h="479">
                    <a:moveTo>
                      <a:pt x="0" y="0"/>
                    </a:moveTo>
                    <a:lnTo>
                      <a:pt x="0" y="120"/>
                    </a:lnTo>
                    <a:lnTo>
                      <a:pt x="1" y="239"/>
                    </a:lnTo>
                    <a:lnTo>
                      <a:pt x="1" y="359"/>
                    </a:lnTo>
                    <a:lnTo>
                      <a:pt x="1" y="479"/>
                    </a:lnTo>
                    <a:lnTo>
                      <a:pt x="18" y="479"/>
                    </a:lnTo>
                    <a:lnTo>
                      <a:pt x="34" y="479"/>
                    </a:lnTo>
                    <a:lnTo>
                      <a:pt x="51" y="478"/>
                    </a:lnTo>
                    <a:lnTo>
                      <a:pt x="68" y="478"/>
                    </a:lnTo>
                    <a:lnTo>
                      <a:pt x="84" y="478"/>
                    </a:lnTo>
                    <a:lnTo>
                      <a:pt x="100" y="478"/>
                    </a:lnTo>
                    <a:lnTo>
                      <a:pt x="118" y="477"/>
                    </a:lnTo>
                    <a:lnTo>
                      <a:pt x="134" y="477"/>
                    </a:lnTo>
                    <a:lnTo>
                      <a:pt x="150" y="477"/>
                    </a:lnTo>
                    <a:lnTo>
                      <a:pt x="168" y="475"/>
                    </a:lnTo>
                    <a:lnTo>
                      <a:pt x="184" y="475"/>
                    </a:lnTo>
                    <a:lnTo>
                      <a:pt x="200" y="475"/>
                    </a:lnTo>
                    <a:lnTo>
                      <a:pt x="216" y="475"/>
                    </a:lnTo>
                    <a:lnTo>
                      <a:pt x="234" y="474"/>
                    </a:lnTo>
                    <a:lnTo>
                      <a:pt x="250" y="474"/>
                    </a:lnTo>
                    <a:lnTo>
                      <a:pt x="266" y="474"/>
                    </a:lnTo>
                    <a:lnTo>
                      <a:pt x="262" y="358"/>
                    </a:lnTo>
                    <a:lnTo>
                      <a:pt x="258" y="242"/>
                    </a:lnTo>
                    <a:lnTo>
                      <a:pt x="254" y="125"/>
                    </a:lnTo>
                    <a:lnTo>
                      <a:pt x="252" y="9"/>
                    </a:lnTo>
                    <a:lnTo>
                      <a:pt x="235" y="9"/>
                    </a:lnTo>
                    <a:lnTo>
                      <a:pt x="220" y="8"/>
                    </a:lnTo>
                    <a:lnTo>
                      <a:pt x="204" y="8"/>
                    </a:lnTo>
                    <a:lnTo>
                      <a:pt x="189" y="6"/>
                    </a:lnTo>
                    <a:lnTo>
                      <a:pt x="173" y="6"/>
                    </a:lnTo>
                    <a:lnTo>
                      <a:pt x="157" y="6"/>
                    </a:lnTo>
                    <a:lnTo>
                      <a:pt x="142" y="5"/>
                    </a:lnTo>
                    <a:lnTo>
                      <a:pt x="126" y="5"/>
                    </a:lnTo>
                    <a:lnTo>
                      <a:pt x="110" y="4"/>
                    </a:lnTo>
                    <a:lnTo>
                      <a:pt x="95" y="4"/>
                    </a:lnTo>
                    <a:lnTo>
                      <a:pt x="78" y="4"/>
                    </a:lnTo>
                    <a:lnTo>
                      <a:pt x="64" y="2"/>
                    </a:lnTo>
                    <a:lnTo>
                      <a:pt x="47" y="2"/>
                    </a:lnTo>
                    <a:lnTo>
                      <a:pt x="31" y="1"/>
                    </a:lnTo>
                    <a:lnTo>
                      <a:pt x="1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b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30"/>
              <p:cNvSpPr/>
              <p:nvPr/>
            </p:nvSpPr>
            <p:spPr>
              <a:xfrm>
                <a:off x="931320" y="979560"/>
                <a:ext cx="182160" cy="2160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53" h="290">
                    <a:moveTo>
                      <a:pt x="0" y="0"/>
                    </a:moveTo>
                    <a:lnTo>
                      <a:pt x="1" y="290"/>
                    </a:lnTo>
                    <a:lnTo>
                      <a:pt x="253" y="285"/>
                    </a:lnTo>
                    <a:lnTo>
                      <a:pt x="235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b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31"/>
              <p:cNvSpPr/>
              <p:nvPr/>
            </p:nvSpPr>
            <p:spPr>
              <a:xfrm>
                <a:off x="1246680" y="1509840"/>
                <a:ext cx="420840" cy="3384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83" h="46">
                    <a:moveTo>
                      <a:pt x="29" y="0"/>
                    </a:moveTo>
                    <a:lnTo>
                      <a:pt x="583" y="7"/>
                    </a:lnTo>
                    <a:lnTo>
                      <a:pt x="375" y="46"/>
                    </a:lnTo>
                    <a:lnTo>
                      <a:pt x="0" y="3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3d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32"/>
              <p:cNvSpPr/>
              <p:nvPr/>
            </p:nvSpPr>
            <p:spPr>
              <a:xfrm>
                <a:off x="964440" y="1494000"/>
                <a:ext cx="198360" cy="3315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273" h="449">
                    <a:moveTo>
                      <a:pt x="0" y="0"/>
                    </a:moveTo>
                    <a:lnTo>
                      <a:pt x="269" y="3"/>
                    </a:lnTo>
                    <a:lnTo>
                      <a:pt x="273" y="449"/>
                    </a:lnTo>
                    <a:lnTo>
                      <a:pt x="1" y="4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33"/>
              <p:cNvSpPr/>
              <p:nvPr/>
            </p:nvSpPr>
            <p:spPr>
              <a:xfrm>
                <a:off x="976320" y="1504080"/>
                <a:ext cx="176400" cy="3081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45" h="417">
                    <a:moveTo>
                      <a:pt x="0" y="0"/>
                    </a:moveTo>
                    <a:lnTo>
                      <a:pt x="0" y="417"/>
                    </a:lnTo>
                    <a:lnTo>
                      <a:pt x="245" y="417"/>
                    </a:lnTo>
                    <a:lnTo>
                      <a:pt x="24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34"/>
              <p:cNvSpPr/>
              <p:nvPr/>
            </p:nvSpPr>
            <p:spPr>
              <a:xfrm>
                <a:off x="996480" y="1629720"/>
                <a:ext cx="127440" cy="15984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75" h="216">
                    <a:moveTo>
                      <a:pt x="0" y="0"/>
                    </a:moveTo>
                    <a:lnTo>
                      <a:pt x="175" y="0"/>
                    </a:lnTo>
                    <a:lnTo>
                      <a:pt x="175" y="190"/>
                    </a:lnTo>
                    <a:lnTo>
                      <a:pt x="151" y="216"/>
                    </a:lnTo>
                    <a:lnTo>
                      <a:pt x="17" y="211"/>
                    </a:lnTo>
                    <a:lnTo>
                      <a:pt x="0" y="1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35"/>
              <p:cNvSpPr/>
              <p:nvPr/>
            </p:nvSpPr>
            <p:spPr>
              <a:xfrm>
                <a:off x="999360" y="1628640"/>
                <a:ext cx="124560" cy="1908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71" h="26">
                    <a:moveTo>
                      <a:pt x="0" y="0"/>
                    </a:moveTo>
                    <a:lnTo>
                      <a:pt x="171" y="0"/>
                    </a:lnTo>
                    <a:lnTo>
                      <a:pt x="123" y="23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6"/>
              <p:cNvSpPr/>
              <p:nvPr/>
            </p:nvSpPr>
            <p:spPr>
              <a:xfrm>
                <a:off x="1089360" y="1628640"/>
                <a:ext cx="31680" cy="1566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44" h="211">
                    <a:moveTo>
                      <a:pt x="0" y="23"/>
                    </a:moveTo>
                    <a:lnTo>
                      <a:pt x="0" y="192"/>
                    </a:lnTo>
                    <a:lnTo>
                      <a:pt x="35" y="211"/>
                    </a:lnTo>
                    <a:lnTo>
                      <a:pt x="44" y="186"/>
                    </a:lnTo>
                    <a:lnTo>
                      <a:pt x="44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37"/>
              <p:cNvSpPr/>
              <p:nvPr/>
            </p:nvSpPr>
            <p:spPr>
              <a:xfrm>
                <a:off x="996480" y="1526400"/>
                <a:ext cx="128880" cy="7668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76680"/>
                  <a:gd name="textAreaBottom" fmla="*/ 76680 h 76680"/>
                </a:gdLst>
                <a:ahLst/>
                <a:rect l="textAreaLeft" t="textAreaTop" r="textAreaRight" b="textAreaBottom"/>
                <a:pathLst>
                  <a:path w="179" h="104">
                    <a:moveTo>
                      <a:pt x="0" y="104"/>
                    </a:moveTo>
                    <a:lnTo>
                      <a:pt x="0" y="30"/>
                    </a:lnTo>
                    <a:lnTo>
                      <a:pt x="15" y="0"/>
                    </a:lnTo>
                    <a:lnTo>
                      <a:pt x="167" y="0"/>
                    </a:lnTo>
                    <a:lnTo>
                      <a:pt x="179" y="27"/>
                    </a:lnTo>
                    <a:lnTo>
                      <a:pt x="179" y="104"/>
                    </a:lnTo>
                    <a:lnTo>
                      <a:pt x="152" y="100"/>
                    </a:lnTo>
                    <a:lnTo>
                      <a:pt x="152" y="39"/>
                    </a:lnTo>
                    <a:lnTo>
                      <a:pt x="133" y="23"/>
                    </a:lnTo>
                    <a:lnTo>
                      <a:pt x="42" y="23"/>
                    </a:lnTo>
                    <a:lnTo>
                      <a:pt x="26" y="50"/>
                    </a:lnTo>
                    <a:lnTo>
                      <a:pt x="2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8989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38"/>
              <p:cNvSpPr/>
              <p:nvPr/>
            </p:nvSpPr>
            <p:spPr>
              <a:xfrm>
                <a:off x="999360" y="1594440"/>
                <a:ext cx="125640" cy="1332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75" h="19">
                    <a:moveTo>
                      <a:pt x="0" y="0"/>
                    </a:moveTo>
                    <a:lnTo>
                      <a:pt x="156" y="0"/>
                    </a:lnTo>
                    <a:lnTo>
                      <a:pt x="175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c9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39"/>
              <p:cNvSpPr/>
              <p:nvPr/>
            </p:nvSpPr>
            <p:spPr>
              <a:xfrm>
                <a:off x="1160280" y="992880"/>
                <a:ext cx="53280" cy="14605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1460520"/>
                  <a:gd name="textAreaBottom" fmla="*/ 1460880 h 1460520"/>
                </a:gdLst>
                <a:ahLst/>
                <a:rect l="textAreaLeft" t="textAreaTop" r="textAreaRight" b="textAreaBottom"/>
                <a:pathLst>
                  <a:path w="76" h="1972">
                    <a:moveTo>
                      <a:pt x="8" y="0"/>
                    </a:moveTo>
                    <a:lnTo>
                      <a:pt x="8" y="527"/>
                    </a:lnTo>
                    <a:lnTo>
                      <a:pt x="20" y="665"/>
                    </a:lnTo>
                    <a:lnTo>
                      <a:pt x="24" y="787"/>
                    </a:lnTo>
                    <a:lnTo>
                      <a:pt x="26" y="906"/>
                    </a:lnTo>
                    <a:lnTo>
                      <a:pt x="24" y="1025"/>
                    </a:lnTo>
                    <a:lnTo>
                      <a:pt x="20" y="1145"/>
                    </a:lnTo>
                    <a:lnTo>
                      <a:pt x="0" y="1250"/>
                    </a:lnTo>
                    <a:lnTo>
                      <a:pt x="1" y="1972"/>
                    </a:lnTo>
                    <a:lnTo>
                      <a:pt x="39" y="1972"/>
                    </a:lnTo>
                    <a:lnTo>
                      <a:pt x="42" y="1250"/>
                    </a:lnTo>
                    <a:lnTo>
                      <a:pt x="58" y="1168"/>
                    </a:lnTo>
                    <a:lnTo>
                      <a:pt x="69" y="1089"/>
                    </a:lnTo>
                    <a:lnTo>
                      <a:pt x="74" y="1015"/>
                    </a:lnTo>
                    <a:lnTo>
                      <a:pt x="76" y="941"/>
                    </a:lnTo>
                    <a:lnTo>
                      <a:pt x="74" y="868"/>
                    </a:lnTo>
                    <a:lnTo>
                      <a:pt x="70" y="792"/>
                    </a:lnTo>
                    <a:lnTo>
                      <a:pt x="66" y="711"/>
                    </a:lnTo>
                    <a:lnTo>
                      <a:pt x="62" y="625"/>
                    </a:lnTo>
                    <a:lnTo>
                      <a:pt x="53" y="520"/>
                    </a:lnTo>
                    <a:lnTo>
                      <a:pt x="49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40"/>
              <p:cNvSpPr/>
              <p:nvPr/>
            </p:nvSpPr>
            <p:spPr>
              <a:xfrm>
                <a:off x="1172880" y="991440"/>
                <a:ext cx="48960" cy="1461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461960"/>
                  <a:gd name="textAreaBottom" fmla="*/ 1461960 h 1461960"/>
                </a:gdLst>
                <a:ahLst/>
                <a:rect l="textAreaLeft" t="textAreaTop" r="textAreaRight" b="textAreaBottom"/>
                <a:pathLst>
                  <a:path w="69" h="1973">
                    <a:moveTo>
                      <a:pt x="11" y="0"/>
                    </a:moveTo>
                    <a:lnTo>
                      <a:pt x="11" y="528"/>
                    </a:lnTo>
                    <a:lnTo>
                      <a:pt x="23" y="666"/>
                    </a:lnTo>
                    <a:lnTo>
                      <a:pt x="27" y="788"/>
                    </a:lnTo>
                    <a:lnTo>
                      <a:pt x="28" y="907"/>
                    </a:lnTo>
                    <a:lnTo>
                      <a:pt x="27" y="1026"/>
                    </a:lnTo>
                    <a:lnTo>
                      <a:pt x="23" y="1146"/>
                    </a:lnTo>
                    <a:lnTo>
                      <a:pt x="3" y="1251"/>
                    </a:lnTo>
                    <a:lnTo>
                      <a:pt x="0" y="1973"/>
                    </a:lnTo>
                    <a:lnTo>
                      <a:pt x="42" y="1973"/>
                    </a:lnTo>
                    <a:lnTo>
                      <a:pt x="41" y="1251"/>
                    </a:lnTo>
                    <a:lnTo>
                      <a:pt x="54" y="1165"/>
                    </a:lnTo>
                    <a:lnTo>
                      <a:pt x="62" y="1086"/>
                    </a:lnTo>
                    <a:lnTo>
                      <a:pt x="68" y="1013"/>
                    </a:lnTo>
                    <a:lnTo>
                      <a:pt x="69" y="943"/>
                    </a:lnTo>
                    <a:lnTo>
                      <a:pt x="68" y="874"/>
                    </a:lnTo>
                    <a:lnTo>
                      <a:pt x="66" y="804"/>
                    </a:lnTo>
                    <a:lnTo>
                      <a:pt x="65" y="730"/>
                    </a:lnTo>
                    <a:lnTo>
                      <a:pt x="64" y="649"/>
                    </a:lnTo>
                    <a:lnTo>
                      <a:pt x="46" y="551"/>
                    </a:lnTo>
                    <a:lnTo>
                      <a:pt x="4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41"/>
              <p:cNvSpPr/>
              <p:nvPr/>
            </p:nvSpPr>
            <p:spPr>
              <a:xfrm>
                <a:off x="1185840" y="1401840"/>
                <a:ext cx="34560" cy="276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76840"/>
                  <a:gd name="textAreaBottom" fmla="*/ 276840 h 276840"/>
                </a:gdLst>
                <a:ahLst/>
                <a:rect l="textAreaLeft" t="textAreaTop" r="textAreaRight" b="textAreaBottom"/>
                <a:pathLst>
                  <a:path w="48" h="374">
                    <a:moveTo>
                      <a:pt x="0" y="4"/>
                    </a:moveTo>
                    <a:lnTo>
                      <a:pt x="21" y="0"/>
                    </a:lnTo>
                    <a:lnTo>
                      <a:pt x="35" y="87"/>
                    </a:lnTo>
                    <a:lnTo>
                      <a:pt x="44" y="182"/>
                    </a:lnTo>
                    <a:lnTo>
                      <a:pt x="48" y="278"/>
                    </a:lnTo>
                    <a:lnTo>
                      <a:pt x="48" y="369"/>
                    </a:lnTo>
                    <a:lnTo>
                      <a:pt x="16" y="374"/>
                    </a:lnTo>
                    <a:lnTo>
                      <a:pt x="16" y="283"/>
                    </a:lnTo>
                    <a:lnTo>
                      <a:pt x="14" y="187"/>
                    </a:lnTo>
                    <a:lnTo>
                      <a:pt x="10" y="9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42"/>
              <p:cNvSpPr/>
              <p:nvPr/>
            </p:nvSpPr>
            <p:spPr>
              <a:xfrm>
                <a:off x="1185840" y="1409040"/>
                <a:ext cx="34560" cy="250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47" h="339">
                    <a:moveTo>
                      <a:pt x="0" y="3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35" y="81"/>
                    </a:lnTo>
                    <a:lnTo>
                      <a:pt x="43" y="166"/>
                    </a:lnTo>
                    <a:lnTo>
                      <a:pt x="47" y="253"/>
                    </a:lnTo>
                    <a:lnTo>
                      <a:pt x="46" y="334"/>
                    </a:lnTo>
                    <a:lnTo>
                      <a:pt x="38" y="335"/>
                    </a:lnTo>
                    <a:lnTo>
                      <a:pt x="30" y="337"/>
                    </a:lnTo>
                    <a:lnTo>
                      <a:pt x="22" y="338"/>
                    </a:lnTo>
                    <a:lnTo>
                      <a:pt x="13" y="339"/>
                    </a:lnTo>
                    <a:lnTo>
                      <a:pt x="13" y="254"/>
                    </a:lnTo>
                    <a:lnTo>
                      <a:pt x="13" y="169"/>
                    </a:lnTo>
                    <a:lnTo>
                      <a:pt x="9" y="8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c7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43"/>
              <p:cNvSpPr/>
              <p:nvPr/>
            </p:nvSpPr>
            <p:spPr>
              <a:xfrm>
                <a:off x="1187640" y="1415160"/>
                <a:ext cx="31680" cy="2250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44" h="306">
                    <a:moveTo>
                      <a:pt x="0" y="3"/>
                    </a:moveTo>
                    <a:lnTo>
                      <a:pt x="6" y="3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34" y="74"/>
                    </a:lnTo>
                    <a:lnTo>
                      <a:pt x="41" y="152"/>
                    </a:lnTo>
                    <a:lnTo>
                      <a:pt x="44" y="227"/>
                    </a:lnTo>
                    <a:lnTo>
                      <a:pt x="44" y="300"/>
                    </a:lnTo>
                    <a:lnTo>
                      <a:pt x="37" y="302"/>
                    </a:lnTo>
                    <a:lnTo>
                      <a:pt x="29" y="303"/>
                    </a:lnTo>
                    <a:lnTo>
                      <a:pt x="21" y="304"/>
                    </a:lnTo>
                    <a:lnTo>
                      <a:pt x="12" y="306"/>
                    </a:lnTo>
                    <a:lnTo>
                      <a:pt x="14" y="226"/>
                    </a:lnTo>
                    <a:lnTo>
                      <a:pt x="14" y="153"/>
                    </a:lnTo>
                    <a:lnTo>
                      <a:pt x="10" y="8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484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44"/>
              <p:cNvSpPr/>
              <p:nvPr/>
            </p:nvSpPr>
            <p:spPr>
              <a:xfrm>
                <a:off x="1189080" y="1420920"/>
                <a:ext cx="30240" cy="200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42" h="270">
                    <a:moveTo>
                      <a:pt x="0" y="1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2" y="67"/>
                    </a:lnTo>
                    <a:lnTo>
                      <a:pt x="39" y="135"/>
                    </a:lnTo>
                    <a:lnTo>
                      <a:pt x="42" y="201"/>
                    </a:lnTo>
                    <a:lnTo>
                      <a:pt x="42" y="265"/>
                    </a:lnTo>
                    <a:lnTo>
                      <a:pt x="33" y="266"/>
                    </a:lnTo>
                    <a:lnTo>
                      <a:pt x="27" y="267"/>
                    </a:lnTo>
                    <a:lnTo>
                      <a:pt x="19" y="269"/>
                    </a:lnTo>
                    <a:lnTo>
                      <a:pt x="10" y="270"/>
                    </a:lnTo>
                    <a:lnTo>
                      <a:pt x="12" y="196"/>
                    </a:lnTo>
                    <a:lnTo>
                      <a:pt x="12" y="135"/>
                    </a:lnTo>
                    <a:lnTo>
                      <a:pt x="9" y="7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989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45"/>
              <p:cNvSpPr/>
              <p:nvPr/>
            </p:nvSpPr>
            <p:spPr>
              <a:xfrm>
                <a:off x="1189080" y="1427040"/>
                <a:ext cx="28800" cy="1760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76040"/>
                  <a:gd name="textAreaBottom" fmla="*/ 176040 h 176040"/>
                </a:gdLst>
                <a:ahLst/>
                <a:rect l="textAreaLeft" t="textAreaTop" r="textAreaRight" b="textAreaBottom"/>
                <a:pathLst>
                  <a:path w="39" h="236">
                    <a:moveTo>
                      <a:pt x="0" y="2"/>
                    </a:moveTo>
                    <a:lnTo>
                      <a:pt x="5" y="2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31" y="62"/>
                    </a:lnTo>
                    <a:lnTo>
                      <a:pt x="36" y="120"/>
                    </a:lnTo>
                    <a:lnTo>
                      <a:pt x="39" y="175"/>
                    </a:lnTo>
                    <a:lnTo>
                      <a:pt x="39" y="231"/>
                    </a:lnTo>
                    <a:lnTo>
                      <a:pt x="32" y="232"/>
                    </a:lnTo>
                    <a:lnTo>
                      <a:pt x="24" y="234"/>
                    </a:lnTo>
                    <a:lnTo>
                      <a:pt x="16" y="235"/>
                    </a:lnTo>
                    <a:lnTo>
                      <a:pt x="9" y="236"/>
                    </a:lnTo>
                    <a:lnTo>
                      <a:pt x="11" y="167"/>
                    </a:lnTo>
                    <a:lnTo>
                      <a:pt x="12" y="117"/>
                    </a:lnTo>
                    <a:lnTo>
                      <a:pt x="9" y="6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1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46"/>
              <p:cNvSpPr/>
              <p:nvPr/>
            </p:nvSpPr>
            <p:spPr>
              <a:xfrm>
                <a:off x="1191960" y="1434240"/>
                <a:ext cx="24480" cy="1494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35" h="202">
                    <a:moveTo>
                      <a:pt x="0" y="3"/>
                    </a:moveTo>
                    <a:lnTo>
                      <a:pt x="5" y="2"/>
                    </a:lnTo>
                    <a:lnTo>
                      <a:pt x="10" y="2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9" y="56"/>
                    </a:lnTo>
                    <a:lnTo>
                      <a:pt x="33" y="104"/>
                    </a:lnTo>
                    <a:lnTo>
                      <a:pt x="35" y="150"/>
                    </a:lnTo>
                    <a:lnTo>
                      <a:pt x="35" y="196"/>
                    </a:lnTo>
                    <a:lnTo>
                      <a:pt x="28" y="198"/>
                    </a:lnTo>
                    <a:lnTo>
                      <a:pt x="21" y="199"/>
                    </a:lnTo>
                    <a:lnTo>
                      <a:pt x="13" y="200"/>
                    </a:lnTo>
                    <a:lnTo>
                      <a:pt x="6" y="202"/>
                    </a:lnTo>
                    <a:lnTo>
                      <a:pt x="8" y="138"/>
                    </a:lnTo>
                    <a:lnTo>
                      <a:pt x="9" y="100"/>
                    </a:lnTo>
                    <a:lnTo>
                      <a:pt x="8" y="6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69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47"/>
              <p:cNvSpPr/>
              <p:nvPr/>
            </p:nvSpPr>
            <p:spPr>
              <a:xfrm>
                <a:off x="1193400" y="1440360"/>
                <a:ext cx="23040" cy="1242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24200"/>
                  <a:gd name="textAreaBottom" fmla="*/ 124200 h 124200"/>
                </a:gdLst>
                <a:ahLst/>
                <a:rect l="textAreaLeft" t="textAreaTop" r="textAreaRight" b="textAreaBottom"/>
                <a:pathLst>
                  <a:path w="34" h="168">
                    <a:moveTo>
                      <a:pt x="0" y="3"/>
                    </a:moveTo>
                    <a:lnTo>
                      <a:pt x="5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20" y="0"/>
                    </a:lnTo>
                    <a:lnTo>
                      <a:pt x="28" y="49"/>
                    </a:lnTo>
                    <a:lnTo>
                      <a:pt x="32" y="89"/>
                    </a:lnTo>
                    <a:lnTo>
                      <a:pt x="34" y="126"/>
                    </a:lnTo>
                    <a:lnTo>
                      <a:pt x="34" y="162"/>
                    </a:lnTo>
                    <a:lnTo>
                      <a:pt x="27" y="164"/>
                    </a:lnTo>
                    <a:lnTo>
                      <a:pt x="19" y="165"/>
                    </a:lnTo>
                    <a:lnTo>
                      <a:pt x="11" y="167"/>
                    </a:lnTo>
                    <a:lnTo>
                      <a:pt x="4" y="168"/>
                    </a:lnTo>
                    <a:lnTo>
                      <a:pt x="5" y="108"/>
                    </a:lnTo>
                    <a:lnTo>
                      <a:pt x="8" y="83"/>
                    </a:lnTo>
                    <a:lnTo>
                      <a:pt x="8" y="5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e9e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48"/>
              <p:cNvSpPr/>
              <p:nvPr/>
            </p:nvSpPr>
            <p:spPr>
              <a:xfrm>
                <a:off x="1193400" y="1447920"/>
                <a:ext cx="23040" cy="975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" h="132">
                    <a:moveTo>
                      <a:pt x="0" y="2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42"/>
                    </a:lnTo>
                    <a:lnTo>
                      <a:pt x="30" y="71"/>
                    </a:lnTo>
                    <a:lnTo>
                      <a:pt x="31" y="98"/>
                    </a:lnTo>
                    <a:lnTo>
                      <a:pt x="31" y="127"/>
                    </a:lnTo>
                    <a:lnTo>
                      <a:pt x="25" y="128"/>
                    </a:lnTo>
                    <a:lnTo>
                      <a:pt x="18" y="129"/>
                    </a:lnTo>
                    <a:lnTo>
                      <a:pt x="10" y="131"/>
                    </a:lnTo>
                    <a:lnTo>
                      <a:pt x="3" y="132"/>
                    </a:lnTo>
                    <a:lnTo>
                      <a:pt x="6" y="79"/>
                    </a:lnTo>
                    <a:lnTo>
                      <a:pt x="8" y="65"/>
                    </a:lnTo>
                    <a:lnTo>
                      <a:pt x="8" y="5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a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49"/>
              <p:cNvSpPr/>
              <p:nvPr/>
            </p:nvSpPr>
            <p:spPr>
              <a:xfrm>
                <a:off x="1194840" y="1453680"/>
                <a:ext cx="19800" cy="727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8" h="99">
                    <a:moveTo>
                      <a:pt x="0" y="3"/>
                    </a:moveTo>
                    <a:lnTo>
                      <a:pt x="5" y="3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20" y="0"/>
                    </a:lnTo>
                    <a:lnTo>
                      <a:pt x="25" y="35"/>
                    </a:lnTo>
                    <a:lnTo>
                      <a:pt x="28" y="57"/>
                    </a:lnTo>
                    <a:lnTo>
                      <a:pt x="28" y="74"/>
                    </a:lnTo>
                    <a:lnTo>
                      <a:pt x="28" y="93"/>
                    </a:lnTo>
                    <a:lnTo>
                      <a:pt x="21" y="94"/>
                    </a:lnTo>
                    <a:lnTo>
                      <a:pt x="15" y="96"/>
                    </a:lnTo>
                    <a:lnTo>
                      <a:pt x="8" y="97"/>
                    </a:lnTo>
                    <a:lnTo>
                      <a:pt x="1" y="99"/>
                    </a:lnTo>
                    <a:lnTo>
                      <a:pt x="4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a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50"/>
              <p:cNvSpPr/>
              <p:nvPr/>
            </p:nvSpPr>
            <p:spPr>
              <a:xfrm>
                <a:off x="1196280" y="1460880"/>
                <a:ext cx="18360" cy="45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7" h="64">
                    <a:moveTo>
                      <a:pt x="0" y="3"/>
                    </a:moveTo>
                    <a:lnTo>
                      <a:pt x="20" y="0"/>
                    </a:lnTo>
                    <a:lnTo>
                      <a:pt x="24" y="29"/>
                    </a:lnTo>
                    <a:lnTo>
                      <a:pt x="26" y="41"/>
                    </a:lnTo>
                    <a:lnTo>
                      <a:pt x="26" y="48"/>
                    </a:lnTo>
                    <a:lnTo>
                      <a:pt x="27" y="58"/>
                    </a:lnTo>
                    <a:lnTo>
                      <a:pt x="0" y="64"/>
                    </a:lnTo>
                    <a:lnTo>
                      <a:pt x="3" y="21"/>
                    </a:lnTo>
                    <a:lnTo>
                      <a:pt x="7" y="31"/>
                    </a:lnTo>
                    <a:lnTo>
                      <a:pt x="7" y="4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51"/>
              <p:cNvSpPr/>
              <p:nvPr/>
            </p:nvSpPr>
            <p:spPr>
              <a:xfrm>
                <a:off x="1171440" y="1917360"/>
                <a:ext cx="30240" cy="290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42" h="392">
                    <a:moveTo>
                      <a:pt x="6" y="0"/>
                    </a:moveTo>
                    <a:lnTo>
                      <a:pt x="42" y="0"/>
                    </a:lnTo>
                    <a:lnTo>
                      <a:pt x="41" y="385"/>
                    </a:lnTo>
                    <a:lnTo>
                      <a:pt x="0" y="392"/>
                    </a:lnTo>
                    <a:lnTo>
                      <a:pt x="0" y="329"/>
                    </a:lnTo>
                    <a:lnTo>
                      <a:pt x="2" y="192"/>
                    </a:lnTo>
                    <a:lnTo>
                      <a:pt x="4" y="5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52"/>
              <p:cNvSpPr/>
              <p:nvPr/>
            </p:nvSpPr>
            <p:spPr>
              <a:xfrm>
                <a:off x="1171440" y="1917360"/>
                <a:ext cx="30240" cy="2635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42" h="356">
                    <a:moveTo>
                      <a:pt x="6" y="0"/>
                    </a:moveTo>
                    <a:lnTo>
                      <a:pt x="1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2" y="86"/>
                    </a:lnTo>
                    <a:lnTo>
                      <a:pt x="42" y="174"/>
                    </a:lnTo>
                    <a:lnTo>
                      <a:pt x="41" y="260"/>
                    </a:lnTo>
                    <a:lnTo>
                      <a:pt x="41" y="348"/>
                    </a:lnTo>
                    <a:lnTo>
                      <a:pt x="35" y="350"/>
                    </a:lnTo>
                    <a:lnTo>
                      <a:pt x="31" y="350"/>
                    </a:lnTo>
                    <a:lnTo>
                      <a:pt x="26" y="351"/>
                    </a:lnTo>
                    <a:lnTo>
                      <a:pt x="21" y="352"/>
                    </a:lnTo>
                    <a:lnTo>
                      <a:pt x="15" y="354"/>
                    </a:lnTo>
                    <a:lnTo>
                      <a:pt x="11" y="354"/>
                    </a:lnTo>
                    <a:lnTo>
                      <a:pt x="6" y="355"/>
                    </a:lnTo>
                    <a:lnTo>
                      <a:pt x="0" y="356"/>
                    </a:lnTo>
                    <a:lnTo>
                      <a:pt x="0" y="300"/>
                    </a:lnTo>
                    <a:lnTo>
                      <a:pt x="2" y="174"/>
                    </a:lnTo>
                    <a:lnTo>
                      <a:pt x="4" y="5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7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53"/>
              <p:cNvSpPr/>
              <p:nvPr/>
            </p:nvSpPr>
            <p:spPr>
              <a:xfrm>
                <a:off x="1171440" y="1917360"/>
                <a:ext cx="30240" cy="238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42" h="321">
                    <a:moveTo>
                      <a:pt x="6" y="0"/>
                    </a:moveTo>
                    <a:lnTo>
                      <a:pt x="1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2" y="78"/>
                    </a:lnTo>
                    <a:lnTo>
                      <a:pt x="42" y="156"/>
                    </a:lnTo>
                    <a:lnTo>
                      <a:pt x="41" y="235"/>
                    </a:lnTo>
                    <a:lnTo>
                      <a:pt x="41" y="313"/>
                    </a:lnTo>
                    <a:lnTo>
                      <a:pt x="35" y="315"/>
                    </a:lnTo>
                    <a:lnTo>
                      <a:pt x="31" y="315"/>
                    </a:lnTo>
                    <a:lnTo>
                      <a:pt x="26" y="316"/>
                    </a:lnTo>
                    <a:lnTo>
                      <a:pt x="21" y="317"/>
                    </a:lnTo>
                    <a:lnTo>
                      <a:pt x="15" y="319"/>
                    </a:lnTo>
                    <a:lnTo>
                      <a:pt x="11" y="319"/>
                    </a:lnTo>
                    <a:lnTo>
                      <a:pt x="6" y="320"/>
                    </a:lnTo>
                    <a:lnTo>
                      <a:pt x="0" y="321"/>
                    </a:lnTo>
                    <a:lnTo>
                      <a:pt x="0" y="270"/>
                    </a:lnTo>
                    <a:lnTo>
                      <a:pt x="2" y="156"/>
                    </a:lnTo>
                    <a:lnTo>
                      <a:pt x="4" y="4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84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54"/>
              <p:cNvSpPr/>
              <p:nvPr/>
            </p:nvSpPr>
            <p:spPr>
              <a:xfrm>
                <a:off x="1171440" y="1917360"/>
                <a:ext cx="30240" cy="211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42" h="286">
                    <a:moveTo>
                      <a:pt x="6" y="0"/>
                    </a:moveTo>
                    <a:lnTo>
                      <a:pt x="1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2" y="70"/>
                    </a:lnTo>
                    <a:lnTo>
                      <a:pt x="42" y="139"/>
                    </a:lnTo>
                    <a:lnTo>
                      <a:pt x="41" y="208"/>
                    </a:lnTo>
                    <a:lnTo>
                      <a:pt x="41" y="278"/>
                    </a:lnTo>
                    <a:lnTo>
                      <a:pt x="35" y="279"/>
                    </a:lnTo>
                    <a:lnTo>
                      <a:pt x="31" y="279"/>
                    </a:lnTo>
                    <a:lnTo>
                      <a:pt x="26" y="281"/>
                    </a:lnTo>
                    <a:lnTo>
                      <a:pt x="21" y="282"/>
                    </a:lnTo>
                    <a:lnTo>
                      <a:pt x="15" y="283"/>
                    </a:lnTo>
                    <a:lnTo>
                      <a:pt x="11" y="283"/>
                    </a:lnTo>
                    <a:lnTo>
                      <a:pt x="6" y="285"/>
                    </a:lnTo>
                    <a:lnTo>
                      <a:pt x="0" y="286"/>
                    </a:lnTo>
                    <a:lnTo>
                      <a:pt x="0" y="240"/>
                    </a:lnTo>
                    <a:lnTo>
                      <a:pt x="2" y="139"/>
                    </a:lnTo>
                    <a:lnTo>
                      <a:pt x="4" y="4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989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55"/>
              <p:cNvSpPr/>
              <p:nvPr/>
            </p:nvSpPr>
            <p:spPr>
              <a:xfrm>
                <a:off x="1171440" y="1917360"/>
                <a:ext cx="30240" cy="185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42" h="250">
                    <a:moveTo>
                      <a:pt x="6" y="0"/>
                    </a:moveTo>
                    <a:lnTo>
                      <a:pt x="1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2" y="60"/>
                    </a:lnTo>
                    <a:lnTo>
                      <a:pt x="42" y="121"/>
                    </a:lnTo>
                    <a:lnTo>
                      <a:pt x="41" y="182"/>
                    </a:lnTo>
                    <a:lnTo>
                      <a:pt x="41" y="243"/>
                    </a:lnTo>
                    <a:lnTo>
                      <a:pt x="35" y="244"/>
                    </a:lnTo>
                    <a:lnTo>
                      <a:pt x="31" y="244"/>
                    </a:lnTo>
                    <a:lnTo>
                      <a:pt x="26" y="246"/>
                    </a:lnTo>
                    <a:lnTo>
                      <a:pt x="21" y="247"/>
                    </a:lnTo>
                    <a:lnTo>
                      <a:pt x="15" y="248"/>
                    </a:lnTo>
                    <a:lnTo>
                      <a:pt x="11" y="248"/>
                    </a:lnTo>
                    <a:lnTo>
                      <a:pt x="6" y="250"/>
                    </a:lnTo>
                    <a:lnTo>
                      <a:pt x="0" y="250"/>
                    </a:lnTo>
                    <a:lnTo>
                      <a:pt x="0" y="209"/>
                    </a:lnTo>
                    <a:lnTo>
                      <a:pt x="2" y="121"/>
                    </a:lnTo>
                    <a:lnTo>
                      <a:pt x="4" y="3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19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56"/>
              <p:cNvSpPr/>
              <p:nvPr/>
            </p:nvSpPr>
            <p:spPr>
              <a:xfrm>
                <a:off x="1171440" y="1917360"/>
                <a:ext cx="30240" cy="1584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42" h="215">
                    <a:moveTo>
                      <a:pt x="6" y="0"/>
                    </a:moveTo>
                    <a:lnTo>
                      <a:pt x="1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2" y="51"/>
                    </a:lnTo>
                    <a:lnTo>
                      <a:pt x="42" y="104"/>
                    </a:lnTo>
                    <a:lnTo>
                      <a:pt x="41" y="156"/>
                    </a:lnTo>
                    <a:lnTo>
                      <a:pt x="41" y="208"/>
                    </a:lnTo>
                    <a:lnTo>
                      <a:pt x="35" y="209"/>
                    </a:lnTo>
                    <a:lnTo>
                      <a:pt x="31" y="209"/>
                    </a:lnTo>
                    <a:lnTo>
                      <a:pt x="26" y="210"/>
                    </a:lnTo>
                    <a:lnTo>
                      <a:pt x="21" y="212"/>
                    </a:lnTo>
                    <a:lnTo>
                      <a:pt x="15" y="213"/>
                    </a:lnTo>
                    <a:lnTo>
                      <a:pt x="11" y="213"/>
                    </a:lnTo>
                    <a:lnTo>
                      <a:pt x="6" y="215"/>
                    </a:lnTo>
                    <a:lnTo>
                      <a:pt x="0" y="215"/>
                    </a:lnTo>
                    <a:lnTo>
                      <a:pt x="0" y="179"/>
                    </a:lnTo>
                    <a:lnTo>
                      <a:pt x="2" y="104"/>
                    </a:lnTo>
                    <a:lnTo>
                      <a:pt x="4" y="2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9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57"/>
              <p:cNvSpPr/>
              <p:nvPr/>
            </p:nvSpPr>
            <p:spPr>
              <a:xfrm>
                <a:off x="1171440" y="1917360"/>
                <a:ext cx="30240" cy="133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42" h="179">
                    <a:moveTo>
                      <a:pt x="6" y="0"/>
                    </a:moveTo>
                    <a:lnTo>
                      <a:pt x="1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2" y="43"/>
                    </a:lnTo>
                    <a:lnTo>
                      <a:pt x="42" y="86"/>
                    </a:lnTo>
                    <a:lnTo>
                      <a:pt x="41" y="129"/>
                    </a:lnTo>
                    <a:lnTo>
                      <a:pt x="41" y="173"/>
                    </a:lnTo>
                    <a:lnTo>
                      <a:pt x="35" y="174"/>
                    </a:lnTo>
                    <a:lnTo>
                      <a:pt x="31" y="174"/>
                    </a:lnTo>
                    <a:lnTo>
                      <a:pt x="26" y="175"/>
                    </a:lnTo>
                    <a:lnTo>
                      <a:pt x="21" y="175"/>
                    </a:lnTo>
                    <a:lnTo>
                      <a:pt x="15" y="177"/>
                    </a:lnTo>
                    <a:lnTo>
                      <a:pt x="11" y="177"/>
                    </a:lnTo>
                    <a:lnTo>
                      <a:pt x="6" y="178"/>
                    </a:lnTo>
                    <a:lnTo>
                      <a:pt x="0" y="179"/>
                    </a:lnTo>
                    <a:lnTo>
                      <a:pt x="0" y="150"/>
                    </a:lnTo>
                    <a:lnTo>
                      <a:pt x="2" y="86"/>
                    </a:lnTo>
                    <a:lnTo>
                      <a:pt x="4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e9e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58"/>
              <p:cNvSpPr/>
              <p:nvPr/>
            </p:nvSpPr>
            <p:spPr>
              <a:xfrm>
                <a:off x="1171440" y="1917360"/>
                <a:ext cx="30240" cy="106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42" h="144">
                    <a:moveTo>
                      <a:pt x="6" y="0"/>
                    </a:moveTo>
                    <a:lnTo>
                      <a:pt x="1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2" y="33"/>
                    </a:lnTo>
                    <a:lnTo>
                      <a:pt x="42" y="69"/>
                    </a:lnTo>
                    <a:lnTo>
                      <a:pt x="41" y="102"/>
                    </a:lnTo>
                    <a:lnTo>
                      <a:pt x="41" y="137"/>
                    </a:lnTo>
                    <a:lnTo>
                      <a:pt x="35" y="139"/>
                    </a:lnTo>
                    <a:lnTo>
                      <a:pt x="31" y="139"/>
                    </a:lnTo>
                    <a:lnTo>
                      <a:pt x="26" y="140"/>
                    </a:lnTo>
                    <a:lnTo>
                      <a:pt x="21" y="140"/>
                    </a:lnTo>
                    <a:lnTo>
                      <a:pt x="15" y="142"/>
                    </a:lnTo>
                    <a:lnTo>
                      <a:pt x="11" y="143"/>
                    </a:lnTo>
                    <a:lnTo>
                      <a:pt x="6" y="143"/>
                    </a:lnTo>
                    <a:lnTo>
                      <a:pt x="0" y="144"/>
                    </a:lnTo>
                    <a:lnTo>
                      <a:pt x="0" y="120"/>
                    </a:lnTo>
                    <a:lnTo>
                      <a:pt x="2" y="69"/>
                    </a:lnTo>
                    <a:lnTo>
                      <a:pt x="4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3a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59"/>
              <p:cNvSpPr/>
              <p:nvPr/>
            </p:nvSpPr>
            <p:spPr>
              <a:xfrm>
                <a:off x="1171440" y="1917360"/>
                <a:ext cx="30240" cy="810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2" h="109">
                    <a:moveTo>
                      <a:pt x="6" y="0"/>
                    </a:moveTo>
                    <a:lnTo>
                      <a:pt x="15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42" y="25"/>
                    </a:lnTo>
                    <a:lnTo>
                      <a:pt x="42" y="50"/>
                    </a:lnTo>
                    <a:lnTo>
                      <a:pt x="41" y="75"/>
                    </a:lnTo>
                    <a:lnTo>
                      <a:pt x="41" y="102"/>
                    </a:lnTo>
                    <a:lnTo>
                      <a:pt x="35" y="102"/>
                    </a:lnTo>
                    <a:lnTo>
                      <a:pt x="31" y="104"/>
                    </a:lnTo>
                    <a:lnTo>
                      <a:pt x="26" y="104"/>
                    </a:lnTo>
                    <a:lnTo>
                      <a:pt x="21" y="105"/>
                    </a:lnTo>
                    <a:lnTo>
                      <a:pt x="15" y="106"/>
                    </a:lnTo>
                    <a:lnTo>
                      <a:pt x="11" y="108"/>
                    </a:lnTo>
                    <a:lnTo>
                      <a:pt x="6" y="108"/>
                    </a:lnTo>
                    <a:lnTo>
                      <a:pt x="0" y="109"/>
                    </a:lnTo>
                    <a:lnTo>
                      <a:pt x="0" y="90"/>
                    </a:lnTo>
                    <a:lnTo>
                      <a:pt x="2" y="51"/>
                    </a:lnTo>
                    <a:lnTo>
                      <a:pt x="4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60"/>
              <p:cNvSpPr/>
              <p:nvPr/>
            </p:nvSpPr>
            <p:spPr>
              <a:xfrm>
                <a:off x="1171440" y="1917360"/>
                <a:ext cx="30240" cy="54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2" h="74">
                    <a:moveTo>
                      <a:pt x="6" y="0"/>
                    </a:moveTo>
                    <a:lnTo>
                      <a:pt x="42" y="0"/>
                    </a:lnTo>
                    <a:lnTo>
                      <a:pt x="41" y="66"/>
                    </a:lnTo>
                    <a:lnTo>
                      <a:pt x="0" y="74"/>
                    </a:lnTo>
                    <a:lnTo>
                      <a:pt x="0" y="60"/>
                    </a:lnTo>
                    <a:lnTo>
                      <a:pt x="2" y="33"/>
                    </a:lnTo>
                    <a:lnTo>
                      <a:pt x="4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61"/>
              <p:cNvSpPr/>
              <p:nvPr/>
            </p:nvSpPr>
            <p:spPr>
              <a:xfrm>
                <a:off x="932760" y="957240"/>
                <a:ext cx="55080" cy="194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75" h="28">
                    <a:moveTo>
                      <a:pt x="0" y="11"/>
                    </a:moveTo>
                    <a:lnTo>
                      <a:pt x="16" y="0"/>
                    </a:lnTo>
                    <a:lnTo>
                      <a:pt x="48" y="2"/>
                    </a:lnTo>
                    <a:lnTo>
                      <a:pt x="75" y="10"/>
                    </a:lnTo>
                    <a:lnTo>
                      <a:pt x="75" y="28"/>
                    </a:lnTo>
                    <a:lnTo>
                      <a:pt x="39" y="23"/>
                    </a:lnTo>
                    <a:lnTo>
                      <a:pt x="25" y="23"/>
                    </a:lnTo>
                    <a:lnTo>
                      <a:pt x="0" y="2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963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62"/>
              <p:cNvSpPr/>
              <p:nvPr/>
            </p:nvSpPr>
            <p:spPr>
              <a:xfrm>
                <a:off x="941760" y="95904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7" h="22">
                    <a:moveTo>
                      <a:pt x="0" y="3"/>
                    </a:moveTo>
                    <a:lnTo>
                      <a:pt x="0" y="22"/>
                    </a:lnTo>
                    <a:lnTo>
                      <a:pt x="37" y="22"/>
                    </a:lnTo>
                    <a:lnTo>
                      <a:pt x="37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757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63"/>
              <p:cNvSpPr/>
              <p:nvPr/>
            </p:nvSpPr>
            <p:spPr>
              <a:xfrm>
                <a:off x="950040" y="957240"/>
                <a:ext cx="10080" cy="176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3" h="23">
                    <a:moveTo>
                      <a:pt x="0" y="21"/>
                    </a:moveTo>
                    <a:lnTo>
                      <a:pt x="13" y="23"/>
                    </a:lnTo>
                    <a:lnTo>
                      <a:pt x="13" y="0"/>
                    </a:lnTo>
                    <a:lnTo>
                      <a:pt x="0" y="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2a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4" name="Picture 264" descr="C:\Users\PC-USER\AppData\Local\Microsoft\Windows\Temporary Internet Files\Content.IE5\USO3M4I1\MC900441751[1].png"/>
            <p:cNvPicPr/>
            <p:nvPr/>
          </p:nvPicPr>
          <p:blipFill>
            <a:blip r:embed="rId1"/>
            <a:stretch/>
          </p:blipFill>
          <p:spPr>
            <a:xfrm>
              <a:off x="1130400" y="1706040"/>
              <a:ext cx="721800" cy="73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テキスト ボックス 264"/>
          <p:cNvSpPr/>
          <p:nvPr/>
        </p:nvSpPr>
        <p:spPr>
          <a:xfrm>
            <a:off x="2484360" y="14842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れいぞうこに　ぎゅうにゅうだけ　あり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テキスト ボックス 265"/>
          <p:cNvSpPr/>
          <p:nvPr/>
        </p:nvSpPr>
        <p:spPr>
          <a:xfrm>
            <a:off x="684360" y="260280"/>
            <a:ext cx="934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だ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テキスト ボックス 266"/>
          <p:cNvSpPr/>
          <p:nvPr/>
        </p:nvSpPr>
        <p:spPr>
          <a:xfrm>
            <a:off x="2627280" y="36450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パンダは　ササだけ　たべ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265" descr="C:\Users\PC-USER\AppData\Local\Microsoft\Windows\Temporary Internet Files\Content.IE5\T6GJ7IO0\MC900046138[1].wmf"/>
          <p:cNvPicPr/>
          <p:nvPr/>
        </p:nvPicPr>
        <p:blipFill>
          <a:blip r:embed="rId2"/>
          <a:stretch/>
        </p:blipFill>
        <p:spPr>
          <a:xfrm>
            <a:off x="611280" y="2997360"/>
            <a:ext cx="1555560" cy="1622160"/>
          </a:xfrm>
          <a:prstGeom prst="rect">
            <a:avLst/>
          </a:prstGeom>
          <a:ln w="0">
            <a:noFill/>
          </a:ln>
        </p:spPr>
      </p:pic>
      <p:pic>
        <p:nvPicPr>
          <p:cNvPr id="629" name="図 380" descr="こども２.jpg"/>
          <p:cNvPicPr/>
          <p:nvPr/>
        </p:nvPicPr>
        <p:blipFill>
          <a:blip r:embed="rId3"/>
          <a:stretch/>
        </p:blipFill>
        <p:spPr>
          <a:xfrm>
            <a:off x="395280" y="4941720"/>
            <a:ext cx="3384720" cy="1035360"/>
          </a:xfrm>
          <a:prstGeom prst="rect">
            <a:avLst/>
          </a:prstGeom>
          <a:ln w="0">
            <a:noFill/>
          </a:ln>
        </p:spPr>
      </p:pic>
      <p:sp>
        <p:nvSpPr>
          <p:cNvPr id="630" name="テキスト ボックス 381"/>
          <p:cNvSpPr/>
          <p:nvPr/>
        </p:nvSpPr>
        <p:spPr>
          <a:xfrm>
            <a:off x="3995640" y="5229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おんなのこは　ひとりだけ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テキスト ボックス 157"/>
          <p:cNvSpPr/>
          <p:nvPr/>
        </p:nvSpPr>
        <p:spPr>
          <a:xfrm>
            <a:off x="6311880" y="647208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テキスト ボックス 158"/>
          <p:cNvSpPr/>
          <p:nvPr/>
        </p:nvSpPr>
        <p:spPr>
          <a:xfrm>
            <a:off x="7143480" y="6472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右矢印 159"/>
          <p:cNvSpPr/>
          <p:nvPr/>
        </p:nvSpPr>
        <p:spPr>
          <a:xfrm>
            <a:off x="6948360" y="652464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1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39C0-277B-45F6-BF27-F25DD06848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正方形/長方形 2" descr=""/>
          <p:cNvPicPr/>
          <p:nvPr/>
        </p:nvPicPr>
        <p:blipFill>
          <a:blip r:embed="rId1"/>
          <a:stretch/>
        </p:blipFill>
        <p:spPr>
          <a:xfrm>
            <a:off x="3144960" y="2755800"/>
            <a:ext cx="27986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図 16" descr=""/>
          <p:cNvPicPr/>
          <p:nvPr/>
        </p:nvPicPr>
        <p:blipFill>
          <a:blip r:embed="rId1"/>
          <a:stretch/>
        </p:blipFill>
        <p:spPr>
          <a:xfrm>
            <a:off x="244440" y="1355760"/>
            <a:ext cx="1174680" cy="1319040"/>
          </a:xfrm>
          <a:prstGeom prst="rect">
            <a:avLst/>
          </a:prstGeom>
          <a:ln w="0">
            <a:noFill/>
          </a:ln>
        </p:spPr>
      </p:pic>
      <p:sp>
        <p:nvSpPr>
          <p:cNvPr id="143" name="テキスト ボックス 4"/>
          <p:cNvSpPr/>
          <p:nvPr/>
        </p:nvSpPr>
        <p:spPr>
          <a:xfrm>
            <a:off x="758880" y="147600"/>
            <a:ext cx="20127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１－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5"/>
          <p:cNvSpPr/>
          <p:nvPr/>
        </p:nvSpPr>
        <p:spPr>
          <a:xfrm>
            <a:off x="2916360" y="189000"/>
            <a:ext cx="23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だ　　かた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ゴミの出し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3"/>
          <p:cNvSpPr/>
          <p:nvPr/>
        </p:nvSpPr>
        <p:spPr>
          <a:xfrm>
            <a:off x="1919160" y="1969920"/>
            <a:ext cx="36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   　 　　　　　　　　　　　　　　　　　　むず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ああ、これは難し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13"/>
          <p:cNvSpPr/>
          <p:nvPr/>
        </p:nvSpPr>
        <p:spPr>
          <a:xfrm>
            <a:off x="1708560" y="486576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かねん　　　　　　　　な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可燃ごみは何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0"/>
          <p:cNvSpPr/>
          <p:nvPr/>
        </p:nvSpPr>
        <p:spPr>
          <a:xfrm>
            <a:off x="1635480" y="907920"/>
            <a:ext cx="53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まつ　い　　　　　　　　　　　　　　だ　　　かた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松井さん。ゴミの出し方がわか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21"/>
          <p:cNvSpPr/>
          <p:nvPr/>
        </p:nvSpPr>
        <p:spPr>
          <a:xfrm>
            <a:off x="977760" y="2549520"/>
            <a:ext cx="84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し　　　　　　　　　　　　　　　　　　　　　　　　　　　　　　　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ここにゴミのお知らせがあります。　いっしょに読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22"/>
          <p:cNvSpPr/>
          <p:nvPr/>
        </p:nvSpPr>
        <p:spPr>
          <a:xfrm>
            <a:off x="1506240" y="3706920"/>
            <a:ext cx="72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  　　　　　　　　　　　　　　　　　　いえ　　　ほんまち　　ちょうめ　　　　　　　　　　　　　　　　　お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ハスナさんの家は本町２丁目ですから、うちと同じ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18"/>
          <p:cNvSpPr/>
          <p:nvPr/>
        </p:nvSpPr>
        <p:spPr>
          <a:xfrm>
            <a:off x="1598760" y="4286160"/>
            <a:ext cx="47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かねん　　　　　　　　　かようび　　　　きんよう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可燃ごみは火曜日と金曜日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スライド番号プレースホルダ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BBC0-BED4-4137-8036-02D29DBBE4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17"/>
          <p:cNvSpPr/>
          <p:nvPr/>
        </p:nvSpPr>
        <p:spPr>
          <a:xfrm>
            <a:off x="1728000" y="1390680"/>
            <a:ext cx="27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おし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教え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23"/>
          <p:cNvSpPr/>
          <p:nvPr/>
        </p:nvSpPr>
        <p:spPr>
          <a:xfrm>
            <a:off x="1290960" y="3127320"/>
            <a:ext cx="442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   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ありがとうございま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25"/>
          <p:cNvSpPr/>
          <p:nvPr/>
        </p:nvSpPr>
        <p:spPr>
          <a:xfrm>
            <a:off x="2100960" y="544500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　　　　　た　　　もの　　　まいにち　　せいか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食べ物や毎日の生活のゴミです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19"/>
          <p:cNvSpPr/>
          <p:nvPr/>
        </p:nvSpPr>
        <p:spPr>
          <a:xfrm>
            <a:off x="7451640" y="260280"/>
            <a:ext cx="5257800" cy="61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図 15" descr=""/>
          <p:cNvPicPr/>
          <p:nvPr/>
        </p:nvPicPr>
        <p:blipFill>
          <a:blip r:embed="rId2"/>
          <a:stretch/>
        </p:blipFill>
        <p:spPr>
          <a:xfrm>
            <a:off x="7480440" y="676440"/>
            <a:ext cx="120636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0.14375 7.40741E-007 E">
                                      <p:cBhvr>
                                        <p:cTn id="87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375 7.40741E-007 L -0.27465 7.40741E-007 E">
                                      <p:cBhvr>
                                        <p:cTn id="9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65 7.40741E-007 L -0.37413 -0.00532 E">
                                      <p:cBhvr>
                                        <p:cTn id="9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13 -0.00532 L -0.5 -0.00532 E">
                                      <p:cBhvr>
                                        <p:cTn id="9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テキスト ボックス 3"/>
          <p:cNvSpPr/>
          <p:nvPr/>
        </p:nvSpPr>
        <p:spPr>
          <a:xfrm>
            <a:off x="1331280" y="1252440"/>
            <a:ext cx="74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   　 　　　　　　　　　　　　　　　　　　　　　　　　　　　　　　　　　　　　　せいようきほうそう　　　　げつよう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ええ。　それから、プラスチック製容器包装は月曜日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図 16" descr=""/>
          <p:cNvPicPr/>
          <p:nvPr/>
        </p:nvPicPr>
        <p:blipFill>
          <a:blip r:embed="rId1"/>
          <a:stretch/>
        </p:blipFill>
        <p:spPr>
          <a:xfrm>
            <a:off x="244440" y="1355760"/>
            <a:ext cx="1174680" cy="1319040"/>
          </a:xfrm>
          <a:prstGeom prst="rect">
            <a:avLst/>
          </a:prstGeom>
          <a:ln w="0">
            <a:noFill/>
          </a:ln>
        </p:spPr>
      </p:pic>
      <p:sp>
        <p:nvSpPr>
          <p:cNvPr id="159" name="テキスト ボックス 4"/>
          <p:cNvSpPr/>
          <p:nvPr/>
        </p:nvSpPr>
        <p:spPr>
          <a:xfrm>
            <a:off x="758880" y="147600"/>
            <a:ext cx="20127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１－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13"/>
          <p:cNvSpPr/>
          <p:nvPr/>
        </p:nvSpPr>
        <p:spPr>
          <a:xfrm>
            <a:off x="1739520" y="3492360"/>
            <a:ext cx="33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な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これは何のゴミ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20"/>
          <p:cNvSpPr/>
          <p:nvPr/>
        </p:nvSpPr>
        <p:spPr>
          <a:xfrm>
            <a:off x="1809360" y="692280"/>
            <a:ext cx="46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かようび　　　　きんようび　　　いっしゅうかん　　に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火曜日と金曜日、一週間に二回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21"/>
          <p:cNvSpPr/>
          <p:nvPr/>
        </p:nvSpPr>
        <p:spPr>
          <a:xfrm>
            <a:off x="1647720" y="517356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いっ　　　げつ　　　い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一か月に一回だけ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22"/>
          <p:cNvSpPr/>
          <p:nvPr/>
        </p:nvSpPr>
        <p:spPr>
          <a:xfrm>
            <a:off x="1454760" y="237348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  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ここに「プラ」のマークがありま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18"/>
          <p:cNvSpPr/>
          <p:nvPr/>
        </p:nvSpPr>
        <p:spPr>
          <a:xfrm>
            <a:off x="1262520" y="2933640"/>
            <a:ext cx="54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せいようきほうそ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これがプラスチック製容器包装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スライド番号プレースホルダ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82E9-DBF3-4E7C-94BA-6001D82726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17"/>
          <p:cNvSpPr/>
          <p:nvPr/>
        </p:nvSpPr>
        <p:spPr>
          <a:xfrm>
            <a:off x="1326960" y="4613400"/>
            <a:ext cx="33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だい　　げつようび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第２月曜日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23"/>
          <p:cNvSpPr/>
          <p:nvPr/>
        </p:nvSpPr>
        <p:spPr>
          <a:xfrm>
            <a:off x="1230120" y="1812960"/>
            <a:ext cx="44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           　　　　　　　　　　なん　   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プラス・・・？　何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25"/>
          <p:cNvSpPr/>
          <p:nvPr/>
        </p:nvSpPr>
        <p:spPr>
          <a:xfrm>
            <a:off x="1431000" y="405288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　　　　　　　　　　　　でんち　　　　　　　　　　　　　　　　　　　　ふね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これは電池ですね。　これは不燃ごみ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24"/>
          <p:cNvSpPr/>
          <p:nvPr/>
        </p:nvSpPr>
        <p:spPr>
          <a:xfrm>
            <a:off x="1455840" y="573264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そ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正方形/長方形 19"/>
          <p:cNvSpPr/>
          <p:nvPr/>
        </p:nvSpPr>
        <p:spPr>
          <a:xfrm>
            <a:off x="7164360" y="189000"/>
            <a:ext cx="525636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図 15" descr=""/>
          <p:cNvPicPr/>
          <p:nvPr/>
        </p:nvPicPr>
        <p:blipFill>
          <a:blip r:embed="rId2"/>
          <a:stretch/>
        </p:blipFill>
        <p:spPr>
          <a:xfrm>
            <a:off x="7218360" y="334800"/>
            <a:ext cx="809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0.14375 7.40741E-007 E">
                                      <p:cBhvr>
                                        <p:cTn id="18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375 7.40741E-007 L -0.27465 7.40741E-007 E">
                                      <p:cBhvr>
                                        <p:cTn id="18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65 7.40741E-007 L -0.37413 -0.00532 E">
                                      <p:cBhvr>
                                        <p:cTn id="19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13 -0.00533 L -0.4684 4.81481E-006 E">
                                      <p:cBhvr>
                                        <p:cTn id="195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図 16" descr=""/>
          <p:cNvPicPr/>
          <p:nvPr/>
        </p:nvPicPr>
        <p:blipFill>
          <a:blip r:embed="rId1"/>
          <a:stretch/>
        </p:blipFill>
        <p:spPr>
          <a:xfrm>
            <a:off x="244440" y="1355760"/>
            <a:ext cx="1174680" cy="1319040"/>
          </a:xfrm>
          <a:prstGeom prst="rect">
            <a:avLst/>
          </a:prstGeom>
          <a:ln w="0">
            <a:noFill/>
          </a:ln>
        </p:spPr>
      </p:pic>
      <p:sp>
        <p:nvSpPr>
          <p:cNvPr id="173" name="テキスト ボックス 4"/>
          <p:cNvSpPr/>
          <p:nvPr/>
        </p:nvSpPr>
        <p:spPr>
          <a:xfrm>
            <a:off x="758880" y="147600"/>
            <a:ext cx="20127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１－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3"/>
          <p:cNvSpPr/>
          <p:nvPr/>
        </p:nvSpPr>
        <p:spPr>
          <a:xfrm>
            <a:off x="1919160" y="1940040"/>
            <a:ext cx="36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   　 　　　　　　　　　　　　　　　　　　むず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ああ、これは難し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13"/>
          <p:cNvSpPr/>
          <p:nvPr/>
        </p:nvSpPr>
        <p:spPr>
          <a:xfrm>
            <a:off x="1708560" y="449748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かねん　　　　　　　　な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可燃ごみは何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20"/>
          <p:cNvSpPr/>
          <p:nvPr/>
        </p:nvSpPr>
        <p:spPr>
          <a:xfrm>
            <a:off x="1635480" y="907920"/>
            <a:ext cx="53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まつ　い　　　　　　　　　　　　　　だ　　　かた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松井さん。ゴミの出し方がわか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21"/>
          <p:cNvSpPr/>
          <p:nvPr/>
        </p:nvSpPr>
        <p:spPr>
          <a:xfrm>
            <a:off x="977760" y="2455920"/>
            <a:ext cx="84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し　　　　　　　　　　　　　　　　　　　　　　　　　　　　　　　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ここにゴミのお知らせがあります。　いっしょに読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22"/>
          <p:cNvSpPr/>
          <p:nvPr/>
        </p:nvSpPr>
        <p:spPr>
          <a:xfrm>
            <a:off x="1506240" y="3465360"/>
            <a:ext cx="72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  　　　　　　　　　　　　　　　　　　いえ　　　ほんまち　　ちょうめ　　　　　　　　　　　　　　　　　お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ハスナさんの家は本町２丁目ですから、うちと同じ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テキスト ボックス 18"/>
          <p:cNvSpPr/>
          <p:nvPr/>
        </p:nvSpPr>
        <p:spPr>
          <a:xfrm>
            <a:off x="1598760" y="3981600"/>
            <a:ext cx="47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かねん　　　　　　　　　かようび　　　　きんよう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可燃ごみは火曜日と金曜日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図 15" descr=""/>
          <p:cNvPicPr/>
          <p:nvPr/>
        </p:nvPicPr>
        <p:blipFill>
          <a:blip r:embed="rId2"/>
          <a:stretch/>
        </p:blipFill>
        <p:spPr>
          <a:xfrm>
            <a:off x="7358040" y="676440"/>
            <a:ext cx="938160" cy="1109520"/>
          </a:xfrm>
          <a:prstGeom prst="rect">
            <a:avLst/>
          </a:prstGeom>
          <a:ln w="0">
            <a:noFill/>
          </a:ln>
        </p:spPr>
      </p:pic>
      <p:sp>
        <p:nvSpPr>
          <p:cNvPr id="181" name="スライド番号プレースホルダ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731A-5D68-4A85-93CE-8FDD169632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17"/>
          <p:cNvSpPr/>
          <p:nvPr/>
        </p:nvSpPr>
        <p:spPr>
          <a:xfrm>
            <a:off x="1728000" y="1424160"/>
            <a:ext cx="27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おし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教え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23"/>
          <p:cNvSpPr/>
          <p:nvPr/>
        </p:nvSpPr>
        <p:spPr>
          <a:xfrm>
            <a:off x="1290960" y="2971800"/>
            <a:ext cx="442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   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ありがとうございま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テキスト ボックス 25"/>
          <p:cNvSpPr/>
          <p:nvPr/>
        </p:nvSpPr>
        <p:spPr>
          <a:xfrm>
            <a:off x="2100960" y="501336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　　　　　た　　　もの　　　まいにち　　せいか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食べ物や毎日の生活のゴミです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線コネクタ 24"/>
          <p:cNvSpPr/>
          <p:nvPr/>
        </p:nvSpPr>
        <p:spPr>
          <a:xfrm flipH="1">
            <a:off x="934560" y="5732640"/>
            <a:ext cx="68691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26"/>
          <p:cNvSpPr/>
          <p:nvPr/>
        </p:nvSpPr>
        <p:spPr>
          <a:xfrm>
            <a:off x="5724360" y="5877000"/>
            <a:ext cx="86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27"/>
          <p:cNvSpPr/>
          <p:nvPr/>
        </p:nvSpPr>
        <p:spPr>
          <a:xfrm>
            <a:off x="1042920" y="5877000"/>
            <a:ext cx="216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っしょに～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3276720" y="5950080"/>
            <a:ext cx="249120" cy="20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4"/>
          <a:stretch/>
        </p:blipFill>
        <p:spPr>
          <a:xfrm>
            <a:off x="6948360" y="5961240"/>
            <a:ext cx="249480" cy="201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5"/>
          <a:stretch/>
        </p:blipFill>
        <p:spPr>
          <a:xfrm>
            <a:off x="4716360" y="6381720"/>
            <a:ext cx="249480" cy="201600"/>
          </a:xfrm>
          <a:prstGeom prst="rect">
            <a:avLst/>
          </a:prstGeom>
          <a:ln w="0">
            <a:noFill/>
          </a:ln>
        </p:spPr>
      </p:pic>
      <p:sp>
        <p:nvSpPr>
          <p:cNvPr id="191" name="テキスト ボックス 31"/>
          <p:cNvSpPr/>
          <p:nvPr/>
        </p:nvSpPr>
        <p:spPr>
          <a:xfrm>
            <a:off x="2340000" y="6308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と～、　～や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テキスト ボックス 32"/>
          <p:cNvSpPr/>
          <p:nvPr/>
        </p:nvSpPr>
        <p:spPr>
          <a:xfrm>
            <a:off x="3510360" y="5877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６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テキスト ボックス 33"/>
          <p:cNvSpPr/>
          <p:nvPr/>
        </p:nvSpPr>
        <p:spPr>
          <a:xfrm>
            <a:off x="7254720" y="5923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８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34"/>
          <p:cNvSpPr/>
          <p:nvPr/>
        </p:nvSpPr>
        <p:spPr>
          <a:xfrm>
            <a:off x="5029920" y="63817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３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正方形/長方形 38"/>
          <p:cNvSpPr/>
          <p:nvPr/>
        </p:nvSpPr>
        <p:spPr>
          <a:xfrm>
            <a:off x="6300720" y="2492280"/>
            <a:ext cx="244800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正方形/長方形 39"/>
          <p:cNvSpPr/>
          <p:nvPr/>
        </p:nvSpPr>
        <p:spPr>
          <a:xfrm>
            <a:off x="6227640" y="3573360"/>
            <a:ext cx="50508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正方形/長方形 40"/>
          <p:cNvSpPr/>
          <p:nvPr/>
        </p:nvSpPr>
        <p:spPr>
          <a:xfrm>
            <a:off x="4859280" y="4149720"/>
            <a:ext cx="217440" cy="3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正方形/長方形 41"/>
          <p:cNvSpPr/>
          <p:nvPr/>
        </p:nvSpPr>
        <p:spPr>
          <a:xfrm>
            <a:off x="3708360" y="5157720"/>
            <a:ext cx="216000" cy="3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正方形/長方形 42"/>
          <p:cNvSpPr/>
          <p:nvPr/>
        </p:nvSpPr>
        <p:spPr>
          <a:xfrm>
            <a:off x="1079640" y="587700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方形/長方形 43"/>
          <p:cNvSpPr/>
          <p:nvPr/>
        </p:nvSpPr>
        <p:spPr>
          <a:xfrm>
            <a:off x="5796000" y="58770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正方形/長方形 44"/>
          <p:cNvSpPr/>
          <p:nvPr/>
        </p:nvSpPr>
        <p:spPr>
          <a:xfrm>
            <a:off x="2300400" y="6330960"/>
            <a:ext cx="191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テキスト ボックス 46"/>
          <p:cNvSpPr/>
          <p:nvPr/>
        </p:nvSpPr>
        <p:spPr>
          <a:xfrm>
            <a:off x="3059280" y="260280"/>
            <a:ext cx="230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だ　　かた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ゴミの出し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6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図 15" descr=""/>
          <p:cNvPicPr/>
          <p:nvPr/>
        </p:nvPicPr>
        <p:blipFill>
          <a:blip r:embed="rId1"/>
          <a:stretch/>
        </p:blipFill>
        <p:spPr>
          <a:xfrm>
            <a:off x="7308720" y="1968480"/>
            <a:ext cx="94464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テキスト ボックス 3"/>
          <p:cNvSpPr/>
          <p:nvPr/>
        </p:nvSpPr>
        <p:spPr>
          <a:xfrm>
            <a:off x="1331280" y="1228680"/>
            <a:ext cx="74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   　 　　　　　　　　　　　　　　　　　　　　　　　　　　　　　　　　　　　　　せいようきほうそう　　　　げつよう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ええ。　それから、プラスチック製容器包装は月曜日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図 16" descr=""/>
          <p:cNvPicPr/>
          <p:nvPr/>
        </p:nvPicPr>
        <p:blipFill>
          <a:blip r:embed="rId2"/>
          <a:stretch/>
        </p:blipFill>
        <p:spPr>
          <a:xfrm>
            <a:off x="244440" y="1355760"/>
            <a:ext cx="1174680" cy="1319040"/>
          </a:xfrm>
          <a:prstGeom prst="rect">
            <a:avLst/>
          </a:prstGeom>
          <a:ln w="0">
            <a:noFill/>
          </a:ln>
        </p:spPr>
      </p:pic>
      <p:sp>
        <p:nvSpPr>
          <p:cNvPr id="206" name="テキスト ボックス 4"/>
          <p:cNvSpPr/>
          <p:nvPr/>
        </p:nvSpPr>
        <p:spPr>
          <a:xfrm>
            <a:off x="758880" y="147600"/>
            <a:ext cx="20127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１－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テキスト ボックス 13"/>
          <p:cNvSpPr/>
          <p:nvPr/>
        </p:nvSpPr>
        <p:spPr>
          <a:xfrm>
            <a:off x="1739520" y="3373560"/>
            <a:ext cx="33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な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これは何のゴミ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テキスト ボックス 20"/>
          <p:cNvSpPr/>
          <p:nvPr/>
        </p:nvSpPr>
        <p:spPr>
          <a:xfrm>
            <a:off x="1809360" y="692280"/>
            <a:ext cx="46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かようび　　　　きんようび　　　いっしゅうかん　　に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火曜日と金曜日、一週間に二回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21"/>
          <p:cNvSpPr/>
          <p:nvPr/>
        </p:nvSpPr>
        <p:spPr>
          <a:xfrm>
            <a:off x="1647720" y="498168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いっ　　　げつ　　　いっか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一か月に一回だけ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22"/>
          <p:cNvSpPr/>
          <p:nvPr/>
        </p:nvSpPr>
        <p:spPr>
          <a:xfrm>
            <a:off x="1454760" y="230040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  　　　　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ここに「プラ」のマークがありま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18"/>
          <p:cNvSpPr/>
          <p:nvPr/>
        </p:nvSpPr>
        <p:spPr>
          <a:xfrm>
            <a:off x="1262520" y="2836800"/>
            <a:ext cx="54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せいようきほうそ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これがプラスチック製容器包装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スライド番号プレースホルダ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0EC4-3881-4EC8-8F3D-E9A49FC9DC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17"/>
          <p:cNvSpPr/>
          <p:nvPr/>
        </p:nvSpPr>
        <p:spPr>
          <a:xfrm>
            <a:off x="1326960" y="4444920"/>
            <a:ext cx="33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だい　　げつようび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第２月曜日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23"/>
          <p:cNvSpPr/>
          <p:nvPr/>
        </p:nvSpPr>
        <p:spPr>
          <a:xfrm>
            <a:off x="1230120" y="1765440"/>
            <a:ext cx="44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           　　　　　　　　　　なん　   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プラス・・・？　何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25"/>
          <p:cNvSpPr/>
          <p:nvPr/>
        </p:nvSpPr>
        <p:spPr>
          <a:xfrm>
            <a:off x="1431000" y="390852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　　　　　　　　　　　　でんち　　　　　　　　　　　　　　　　　　　　ふね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これは電池ですね。　これは不燃ごみ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24"/>
          <p:cNvSpPr/>
          <p:nvPr/>
        </p:nvSpPr>
        <p:spPr>
          <a:xfrm>
            <a:off x="1455840" y="551664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まつ　　　　い　　 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松　　井　　：　そ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線コネクタ 26"/>
          <p:cNvSpPr/>
          <p:nvPr/>
        </p:nvSpPr>
        <p:spPr>
          <a:xfrm flipH="1">
            <a:off x="1116000" y="6237360"/>
            <a:ext cx="68673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3"/>
          <a:stretch/>
        </p:blipFill>
        <p:spPr>
          <a:xfrm>
            <a:off x="3780000" y="6392880"/>
            <a:ext cx="249120" cy="201600"/>
          </a:xfrm>
          <a:prstGeom prst="rect">
            <a:avLst/>
          </a:prstGeom>
          <a:ln w="0">
            <a:noFill/>
          </a:ln>
        </p:spPr>
      </p:pic>
      <p:sp>
        <p:nvSpPr>
          <p:cNvPr id="219" name="テキスト ボックス 32"/>
          <p:cNvSpPr/>
          <p:nvPr/>
        </p:nvSpPr>
        <p:spPr>
          <a:xfrm>
            <a:off x="1476360" y="63086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＜期間＞に～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35"/>
          <p:cNvSpPr/>
          <p:nvPr/>
        </p:nvSpPr>
        <p:spPr>
          <a:xfrm>
            <a:off x="4165560" y="63547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１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36"/>
          <p:cNvSpPr/>
          <p:nvPr/>
        </p:nvSpPr>
        <p:spPr>
          <a:xfrm>
            <a:off x="5651640" y="6308640"/>
            <a:ext cx="64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だ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4"/>
          <a:stretch/>
        </p:blipFill>
        <p:spPr>
          <a:xfrm>
            <a:off x="6804000" y="6392880"/>
            <a:ext cx="249120" cy="201600"/>
          </a:xfrm>
          <a:prstGeom prst="rect">
            <a:avLst/>
          </a:prstGeom>
          <a:ln w="0">
            <a:noFill/>
          </a:ln>
        </p:spPr>
      </p:pic>
      <p:sp>
        <p:nvSpPr>
          <p:cNvPr id="223" name="テキスト ボックス 38"/>
          <p:cNvSpPr/>
          <p:nvPr/>
        </p:nvSpPr>
        <p:spPr>
          <a:xfrm>
            <a:off x="7118280" y="63547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39"/>
          <p:cNvSpPr/>
          <p:nvPr/>
        </p:nvSpPr>
        <p:spPr>
          <a:xfrm>
            <a:off x="4572000" y="765000"/>
            <a:ext cx="144000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正方形/長方形 40"/>
          <p:cNvSpPr/>
          <p:nvPr/>
        </p:nvSpPr>
        <p:spPr>
          <a:xfrm>
            <a:off x="4284720" y="5157720"/>
            <a:ext cx="503280" cy="35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正方形/長方形 45"/>
          <p:cNvSpPr/>
          <p:nvPr/>
        </p:nvSpPr>
        <p:spPr>
          <a:xfrm>
            <a:off x="1476360" y="630864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46"/>
          <p:cNvSpPr/>
          <p:nvPr/>
        </p:nvSpPr>
        <p:spPr>
          <a:xfrm>
            <a:off x="5651640" y="6308640"/>
            <a:ext cx="64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2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0BF8-9ED1-45E2-8F8D-36A878344C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C:\Users\PC-USER\AppData\Local\Microsoft\Windows\Temporary Internet Files\Content.IE5\CZE0P9E7\MC900445706[1].wmf"/>
          <p:cNvPicPr/>
          <p:nvPr/>
        </p:nvPicPr>
        <p:blipFill>
          <a:blip r:embed="rId1"/>
          <a:stretch/>
        </p:blipFill>
        <p:spPr>
          <a:xfrm>
            <a:off x="3419640" y="260280"/>
            <a:ext cx="1176120" cy="1081080"/>
          </a:xfrm>
          <a:prstGeom prst="rect">
            <a:avLst/>
          </a:prstGeom>
          <a:ln w="0">
            <a:noFill/>
          </a:ln>
        </p:spPr>
      </p:pic>
      <p:sp>
        <p:nvSpPr>
          <p:cNvPr id="230" name="テキスト ボックス 12"/>
          <p:cNvSpPr/>
          <p:nvPr/>
        </p:nvSpPr>
        <p:spPr>
          <a:xfrm>
            <a:off x="395280" y="333360"/>
            <a:ext cx="2376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っしょに　～まし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C:\Users\PC-USER\AppData\Local\Microsoft\Windows\Temporary Internet Files\Content.IE5\CZE0P9E7\MC900223588[1].wmf"/>
          <p:cNvPicPr/>
          <p:nvPr/>
        </p:nvPicPr>
        <p:blipFill>
          <a:blip r:embed="rId2"/>
          <a:stretch/>
        </p:blipFill>
        <p:spPr>
          <a:xfrm>
            <a:off x="468360" y="1557360"/>
            <a:ext cx="1079280" cy="1073160"/>
          </a:xfrm>
          <a:prstGeom prst="rect">
            <a:avLst/>
          </a:prstGeom>
          <a:ln w="0">
            <a:noFill/>
          </a:ln>
        </p:spPr>
      </p:pic>
      <p:sp>
        <p:nvSpPr>
          <p:cNvPr id="232" name="テキスト ボックス 14"/>
          <p:cNvSpPr/>
          <p:nvPr/>
        </p:nvSpPr>
        <p:spPr>
          <a:xfrm>
            <a:off x="3492360" y="1700280"/>
            <a:ext cx="33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おちゃを　　の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テキスト ボックス 15"/>
          <p:cNvSpPr/>
          <p:nvPr/>
        </p:nvSpPr>
        <p:spPr>
          <a:xfrm>
            <a:off x="1692360" y="1700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っしょ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テキスト ボックス 16"/>
          <p:cNvSpPr/>
          <p:nvPr/>
        </p:nvSpPr>
        <p:spPr>
          <a:xfrm>
            <a:off x="6012000" y="1700280"/>
            <a:ext cx="136836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C:\Users\PC-USER\AppData\Local\Microsoft\Windows\Temporary Internet Files\Content.IE5\721B2DN5\MC900292040[1].wmf"/>
          <p:cNvPicPr/>
          <p:nvPr/>
        </p:nvPicPr>
        <p:blipFill>
          <a:blip r:embed="rId3"/>
          <a:stretch/>
        </p:blipFill>
        <p:spPr>
          <a:xfrm>
            <a:off x="7308720" y="1484280"/>
            <a:ext cx="1573200" cy="1224000"/>
          </a:xfrm>
          <a:prstGeom prst="rect">
            <a:avLst/>
          </a:prstGeom>
          <a:ln w="0">
            <a:noFill/>
          </a:ln>
        </p:spPr>
      </p:pic>
      <p:sp>
        <p:nvSpPr>
          <p:cNvPr id="236" name="テキスト ボックス 18"/>
          <p:cNvSpPr/>
          <p:nvPr/>
        </p:nvSpPr>
        <p:spPr>
          <a:xfrm>
            <a:off x="3492360" y="321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ケーキ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図 525" descr="ケーキ２.jpg"/>
          <p:cNvPicPr/>
          <p:nvPr/>
        </p:nvPicPr>
        <p:blipFill>
          <a:blip r:embed="rId4"/>
          <a:srcRect l="32103" t="0" r="0" b="23985"/>
          <a:stretch/>
        </p:blipFill>
        <p:spPr>
          <a:xfrm>
            <a:off x="468360" y="2997360"/>
            <a:ext cx="1092240" cy="1050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25" descr="C:\Users\PC-USER\AppData\Local\Microsoft\Windows\Temporary Internet Files\Content.IE5\CZE0P9E7\MC900445990[1].wmf"/>
          <p:cNvPicPr/>
          <p:nvPr/>
        </p:nvPicPr>
        <p:blipFill>
          <a:blip r:embed="rId5"/>
          <a:stretch/>
        </p:blipFill>
        <p:spPr>
          <a:xfrm>
            <a:off x="395280" y="4581360"/>
            <a:ext cx="1347840" cy="1151280"/>
          </a:xfrm>
          <a:prstGeom prst="rect">
            <a:avLst/>
          </a:prstGeom>
          <a:ln w="0">
            <a:noFill/>
          </a:ln>
        </p:spPr>
      </p:pic>
      <p:sp>
        <p:nvSpPr>
          <p:cNvPr id="239" name="テキスト ボックス 529"/>
          <p:cNvSpPr/>
          <p:nvPr/>
        </p:nvSpPr>
        <p:spPr>
          <a:xfrm>
            <a:off x="5219640" y="3213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たべ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テキスト ボックス 530"/>
          <p:cNvSpPr/>
          <p:nvPr/>
        </p:nvSpPr>
        <p:spPr>
          <a:xfrm>
            <a:off x="6012000" y="3213000"/>
            <a:ext cx="136836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24" descr="C:\Users\PC-USER\AppData\Local\Microsoft\Windows\Temporary Internet Files\Content.IE5\CZE0P9E7\MC900397346[1].wmf"/>
          <p:cNvPicPr/>
          <p:nvPr/>
        </p:nvPicPr>
        <p:blipFill>
          <a:blip r:embed="rId6"/>
          <a:stretch/>
        </p:blipFill>
        <p:spPr>
          <a:xfrm>
            <a:off x="7380360" y="2637000"/>
            <a:ext cx="1520640" cy="1299960"/>
          </a:xfrm>
          <a:prstGeom prst="rect">
            <a:avLst/>
          </a:prstGeom>
          <a:ln w="0">
            <a:noFill/>
          </a:ln>
        </p:spPr>
      </p:pic>
      <p:sp>
        <p:nvSpPr>
          <p:cNvPr id="242" name="テキスト ボックス 533"/>
          <p:cNvSpPr/>
          <p:nvPr/>
        </p:nvSpPr>
        <p:spPr>
          <a:xfrm>
            <a:off x="3492360" y="4724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ドライブし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テキスト ボックス 534"/>
          <p:cNvSpPr/>
          <p:nvPr/>
        </p:nvSpPr>
        <p:spPr>
          <a:xfrm>
            <a:off x="5003640" y="4724280"/>
            <a:ext cx="136872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C:\Users\PC-USER\AppData\Local\Microsoft\Windows\Temporary Internet Files\Content.IE5\CZE0P9E7\MC900446334[1].wmf"/>
          <p:cNvPicPr/>
          <p:nvPr/>
        </p:nvPicPr>
        <p:blipFill>
          <a:blip r:embed="rId7"/>
          <a:stretch/>
        </p:blipFill>
        <p:spPr>
          <a:xfrm>
            <a:off x="7020000" y="4292640"/>
            <a:ext cx="16192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-3.88889E-006 0.22431 E">
                                      <p:cBhvr>
                                        <p:cTn id="3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22431 L -0.00156 0.44097 E">
                                      <p:cBhvr>
                                        <p:cTn id="42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D92-DEDB-4AAA-91CB-410AFCDAFC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テキスト ボックス 3"/>
          <p:cNvSpPr/>
          <p:nvPr/>
        </p:nvSpPr>
        <p:spPr>
          <a:xfrm>
            <a:off x="468360" y="1015920"/>
            <a:ext cx="266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れい　　　　　　　　　　　　　　　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例）ごはんを　食べ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右矢印 4"/>
          <p:cNvSpPr/>
          <p:nvPr/>
        </p:nvSpPr>
        <p:spPr>
          <a:xfrm>
            <a:off x="3492360" y="1235160"/>
            <a:ext cx="50328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5"/>
          <p:cNvSpPr/>
          <p:nvPr/>
        </p:nvSpPr>
        <p:spPr>
          <a:xfrm>
            <a:off x="4284720" y="101592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っしょに　ごはんを　食べ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テキスト ボックス 6"/>
          <p:cNvSpPr/>
          <p:nvPr/>
        </p:nvSpPr>
        <p:spPr>
          <a:xfrm>
            <a:off x="468360" y="1962000"/>
            <a:ext cx="266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）コーヒーを　飲み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右矢印 7"/>
          <p:cNvSpPr/>
          <p:nvPr/>
        </p:nvSpPr>
        <p:spPr>
          <a:xfrm>
            <a:off x="3492360" y="2205000"/>
            <a:ext cx="50328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8"/>
          <p:cNvSpPr/>
          <p:nvPr/>
        </p:nvSpPr>
        <p:spPr>
          <a:xfrm>
            <a:off x="468360" y="2906640"/>
            <a:ext cx="266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２）えいがを　見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9"/>
          <p:cNvSpPr/>
          <p:nvPr/>
        </p:nvSpPr>
        <p:spPr>
          <a:xfrm>
            <a:off x="468360" y="3851280"/>
            <a:ext cx="266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こうえん　　　　　　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３）公園へ　行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10"/>
          <p:cNvSpPr/>
          <p:nvPr/>
        </p:nvSpPr>
        <p:spPr>
          <a:xfrm>
            <a:off x="468360" y="4797360"/>
            <a:ext cx="266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か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）帰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右矢印 11"/>
          <p:cNvSpPr/>
          <p:nvPr/>
        </p:nvSpPr>
        <p:spPr>
          <a:xfrm>
            <a:off x="3492360" y="3141720"/>
            <a:ext cx="50328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右矢印 12"/>
          <p:cNvSpPr/>
          <p:nvPr/>
        </p:nvSpPr>
        <p:spPr>
          <a:xfrm>
            <a:off x="3492360" y="4149720"/>
            <a:ext cx="50328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矢印 13"/>
          <p:cNvSpPr/>
          <p:nvPr/>
        </p:nvSpPr>
        <p:spPr>
          <a:xfrm>
            <a:off x="3492360" y="5084640"/>
            <a:ext cx="503280" cy="730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14"/>
          <p:cNvSpPr/>
          <p:nvPr/>
        </p:nvSpPr>
        <p:spPr>
          <a:xfrm>
            <a:off x="4284720" y="197964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っしょに　コーヒーを　飲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15"/>
          <p:cNvSpPr/>
          <p:nvPr/>
        </p:nvSpPr>
        <p:spPr>
          <a:xfrm>
            <a:off x="4284720" y="294336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っしょに　えいがを　見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16"/>
          <p:cNvSpPr/>
          <p:nvPr/>
        </p:nvSpPr>
        <p:spPr>
          <a:xfrm>
            <a:off x="4284720" y="390672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こうえん　　　　　　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っしょに　公園へ　行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17"/>
          <p:cNvSpPr/>
          <p:nvPr/>
        </p:nvSpPr>
        <p:spPr>
          <a:xfrm>
            <a:off x="4284720" y="4869000"/>
            <a:ext cx="374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か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っしょに　帰り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18"/>
          <p:cNvSpPr/>
          <p:nvPr/>
        </p:nvSpPr>
        <p:spPr>
          <a:xfrm>
            <a:off x="6638760" y="6381720"/>
            <a:ext cx="540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19"/>
          <p:cNvSpPr/>
          <p:nvPr/>
        </p:nvSpPr>
        <p:spPr>
          <a:xfrm>
            <a:off x="7470360" y="6381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右矢印 20"/>
          <p:cNvSpPr/>
          <p:nvPr/>
        </p:nvSpPr>
        <p:spPr>
          <a:xfrm>
            <a:off x="7275600" y="643428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テキスト ボックス 21"/>
          <p:cNvSpPr/>
          <p:nvPr/>
        </p:nvSpPr>
        <p:spPr>
          <a:xfrm>
            <a:off x="826920" y="279360"/>
            <a:ext cx="14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54D7-5A7B-44D4-9EF6-C0522DAA27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3"/>
          <p:cNvSpPr/>
          <p:nvPr/>
        </p:nvSpPr>
        <p:spPr>
          <a:xfrm>
            <a:off x="2195640" y="2805120"/>
            <a:ext cx="180000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あめ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4"/>
          <p:cNvSpPr/>
          <p:nvPr/>
        </p:nvSpPr>
        <p:spPr>
          <a:xfrm>
            <a:off x="1332000" y="1700280"/>
            <a:ext cx="273528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にちようび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5"/>
          <p:cNvSpPr/>
          <p:nvPr/>
        </p:nvSpPr>
        <p:spPr>
          <a:xfrm>
            <a:off x="4500720" y="1700280"/>
            <a:ext cx="39589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ぎんこうは　やすみ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8"/>
          <p:cNvSpPr/>
          <p:nvPr/>
        </p:nvSpPr>
        <p:spPr>
          <a:xfrm>
            <a:off x="4500720" y="2805120"/>
            <a:ext cx="352728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テニスを　し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テキスト ボックス 9"/>
          <p:cNvSpPr/>
          <p:nvPr/>
        </p:nvSpPr>
        <p:spPr>
          <a:xfrm>
            <a:off x="826920" y="3908520"/>
            <a:ext cx="3168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れんしゅうしまし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10"/>
          <p:cNvSpPr/>
          <p:nvPr/>
        </p:nvSpPr>
        <p:spPr>
          <a:xfrm>
            <a:off x="4572000" y="3908520"/>
            <a:ext cx="2160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じょうず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テキスト ボックス 11"/>
          <p:cNvSpPr/>
          <p:nvPr/>
        </p:nvSpPr>
        <p:spPr>
          <a:xfrm>
            <a:off x="755640" y="5013360"/>
            <a:ext cx="331164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おさけが　すき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12"/>
          <p:cNvSpPr/>
          <p:nvPr/>
        </p:nvSpPr>
        <p:spPr>
          <a:xfrm>
            <a:off x="4500720" y="5013360"/>
            <a:ext cx="410364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（おさけを）　のみたい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テキスト ボックス 15"/>
          <p:cNvSpPr/>
          <p:nvPr/>
        </p:nvSpPr>
        <p:spPr>
          <a:xfrm>
            <a:off x="3635280" y="1700280"/>
            <a:ext cx="93672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か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テキスト ボックス 16"/>
          <p:cNvSpPr/>
          <p:nvPr/>
        </p:nvSpPr>
        <p:spPr>
          <a:xfrm>
            <a:off x="3635280" y="2805120"/>
            <a:ext cx="93672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か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テキスト ボックス 17"/>
          <p:cNvSpPr/>
          <p:nvPr/>
        </p:nvSpPr>
        <p:spPr>
          <a:xfrm>
            <a:off x="3635280" y="3908520"/>
            <a:ext cx="93672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か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テキスト ボックス 18"/>
          <p:cNvSpPr/>
          <p:nvPr/>
        </p:nvSpPr>
        <p:spPr>
          <a:xfrm>
            <a:off x="3635280" y="5013360"/>
            <a:ext cx="93672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か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テキスト ボックス 20"/>
          <p:cNvSpPr/>
          <p:nvPr/>
        </p:nvSpPr>
        <p:spPr>
          <a:xfrm>
            <a:off x="468360" y="260280"/>
            <a:ext cx="1150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から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8EE9-485A-4580-A7DF-FA2194DC73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テキスト ボックス 3"/>
          <p:cNvSpPr/>
          <p:nvPr/>
        </p:nvSpPr>
        <p:spPr>
          <a:xfrm>
            <a:off x="755640" y="98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め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4"/>
          <p:cNvSpPr/>
          <p:nvPr/>
        </p:nvSpPr>
        <p:spPr>
          <a:xfrm>
            <a:off x="5148360" y="207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こうえんへ　いき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5"/>
          <p:cNvSpPr/>
          <p:nvPr/>
        </p:nvSpPr>
        <p:spPr>
          <a:xfrm>
            <a:off x="755640" y="2079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ほんごが　わか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6"/>
          <p:cNvSpPr/>
          <p:nvPr/>
        </p:nvSpPr>
        <p:spPr>
          <a:xfrm>
            <a:off x="5148360" y="5373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しえ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テキスト ボックス 8"/>
          <p:cNvSpPr/>
          <p:nvPr/>
        </p:nvSpPr>
        <p:spPr>
          <a:xfrm>
            <a:off x="5148360" y="981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カラオケへ　いきた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テキスト ボックス 9"/>
          <p:cNvSpPr/>
          <p:nvPr/>
        </p:nvSpPr>
        <p:spPr>
          <a:xfrm>
            <a:off x="755640" y="4275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うたが　すき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テキスト ボックス 10"/>
          <p:cNvSpPr/>
          <p:nvPr/>
        </p:nvSpPr>
        <p:spPr>
          <a:xfrm>
            <a:off x="755640" y="3176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おかねが　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11"/>
          <p:cNvSpPr/>
          <p:nvPr/>
        </p:nvSpPr>
        <p:spPr>
          <a:xfrm>
            <a:off x="5148360" y="427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ひるごはんを　たべ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線コネクタ 13"/>
          <p:cNvSpPr/>
          <p:nvPr/>
        </p:nvSpPr>
        <p:spPr>
          <a:xfrm>
            <a:off x="4284720" y="836640"/>
            <a:ext cx="0" cy="4896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テキスト ボックス 14"/>
          <p:cNvSpPr/>
          <p:nvPr/>
        </p:nvSpPr>
        <p:spPr>
          <a:xfrm>
            <a:off x="3851280" y="3068640"/>
            <a:ext cx="86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テキスト ボックス 15"/>
          <p:cNvSpPr/>
          <p:nvPr/>
        </p:nvSpPr>
        <p:spPr>
          <a:xfrm>
            <a:off x="5148360" y="317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スーパーへ　い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テキスト ボックス 16"/>
          <p:cNvSpPr/>
          <p:nvPr/>
        </p:nvSpPr>
        <p:spPr>
          <a:xfrm>
            <a:off x="755640" y="537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たまごが　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テキスト ボックス 15"/>
          <p:cNvSpPr/>
          <p:nvPr/>
        </p:nvSpPr>
        <p:spPr>
          <a:xfrm>
            <a:off x="539640" y="2602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8:48:14Z</dcterms:created>
  <dc:creator>inca04</dc:creator>
  <dc:description/>
  <dc:language>en-US</dc:language>
  <cp:lastModifiedBy>adminweb</cp:lastModifiedBy>
  <cp:lastPrinted>2012-12-14T15:40:59Z</cp:lastPrinted>
  <dcterms:modified xsi:type="dcterms:W3CDTF">2013-06-12T04:40:15Z</dcterms:modified>
  <cp:revision>313</cp:revision>
  <dc:subject/>
  <dc:title>PowerPoint プレゼンテーション</dc:title>
</cp:coreProperties>
</file>