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F48-9687-406E-AB57-2F2700C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934-A3CC-4104-8C9D-1C447406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2DB-EEB6-4C71-ACC3-E9719C8D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E0C-809C-4CED-8815-6B118DB4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03C-AD6E-4D09-BB46-73378A8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BA2-3867-4A4C-8F6E-9EB13722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908-F4C1-4B53-99DB-485DF27D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B3A-C6D2-475C-9ED6-C72FB86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9F8-080D-4F98-BE56-A0A42591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ECE-A778-432B-B6AC-75873E2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52C-D3FE-40DF-8355-EBF8677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386-78CC-4520-922F-828DC41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5BB-CFE4-42B8-A465-B642CE0BFE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ws and eggs to color and p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467160" y="2000160"/>
            <a:ext cx="220968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12000" y="2000160"/>
            <a:ext cx="2199960" cy="285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696960" cy="852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124000" y="2000160"/>
            <a:ext cx="662040" cy="81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992160" y="3213000"/>
            <a:ext cx="701640" cy="8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 rot="5172000">
            <a:off x="1745640" y="3195360"/>
            <a:ext cx="105408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7"/>
          <a:stretch/>
        </p:blipFill>
        <p:spPr>
          <a:xfrm>
            <a:off x="1908000" y="4824360"/>
            <a:ext cx="628920" cy="7653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C88D-4A2F-4DDA-8ED4-474CDA8C6F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te Cr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lor the mother and father crow and eggs. Glue them onto the n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220480" y="587700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ama and papa white crow have  ______________eg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124000" y="2314440"/>
            <a:ext cx="3876840" cy="302436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E87-B0B7-41C3-9C85-593451714917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ma and papa crow see the Krathong and fly to the earth. “Mother! Father!”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Our children!  We love you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EC6-BA3E-4E02-A31E-EDE043203A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0390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5" descr="http://www.coloringpagespot.com/joomgallery/countries-and-cultures/vietnam/img-vietnam-coloring-page-284"/>
          <p:cNvPicPr/>
          <p:nvPr/>
        </p:nvPicPr>
        <p:blipFill>
          <a:blip r:embed="rId1"/>
          <a:stretch/>
        </p:blipFill>
        <p:spPr>
          <a:xfrm>
            <a:off x="250920" y="3500280"/>
            <a:ext cx="2106360" cy="273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528840" cy="792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gg floats to a different country. One day, the eggs hatch. Baby boys are born. Not crow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40B7-D053-47B6-97BA-F98EB44127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7500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3851280" y="1197000"/>
            <a:ext cx="1628640" cy="16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669960" cy="100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6"/>
          <a:stretch/>
        </p:blipFill>
        <p:spPr>
          <a:xfrm>
            <a:off x="6588000" y="5300640"/>
            <a:ext cx="674640" cy="1011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http://ts3.mm.bing.net/images/thumbnail.aspx?q=4549066730046850&amp;id=286e267045b00a0b80b7d00b0e7547f9"/>
          <p:cNvPicPr/>
          <p:nvPr/>
        </p:nvPicPr>
        <p:blipFill>
          <a:blip r:embed="rId7"/>
          <a:stretch/>
        </p:blipFill>
        <p:spPr>
          <a:xfrm>
            <a:off x="2050920" y="4111560"/>
            <a:ext cx="2089440" cy="1478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supercoloring.com/wp-content/main/2010_04/map-of-peru-coloring-page.jpg"/>
          <p:cNvPicPr/>
          <p:nvPr/>
        </p:nvPicPr>
        <p:blipFill>
          <a:blip r:embed="rId8"/>
          <a:stretch/>
        </p:blipFill>
        <p:spPr>
          <a:xfrm>
            <a:off x="7236000" y="4292640"/>
            <a:ext cx="161100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t0.gstatic.com/images?q=tbn:ANd9GcQuZB5ehJy8qhPifLrQwRqEQH8RNzHFTOi2wDDEjScbxp7KguUD"/>
          <p:cNvPicPr/>
          <p:nvPr/>
        </p:nvPicPr>
        <p:blipFill>
          <a:blip r:embed="rId9"/>
          <a:stretch/>
        </p:blipFill>
        <p:spPr>
          <a:xfrm>
            <a:off x="3276720" y="5516640"/>
            <a:ext cx="1726920" cy="11602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63360" y="-1165320"/>
            <a:ext cx="1876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63360" y="-50976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63360" y="-50976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0" y="227664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63360" y="-1157400"/>
            <a:ext cx="18957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63360" y="-86040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63360" y="-86040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oloring page flag Peru"/>
          <p:cNvPicPr/>
          <p:nvPr/>
        </p:nvPicPr>
        <p:blipFill>
          <a:blip r:embed="rId10"/>
          <a:stretch/>
        </p:blipFill>
        <p:spPr>
          <a:xfrm>
            <a:off x="4284720" y="2781360"/>
            <a:ext cx="2158920" cy="15285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63360" y="-723960"/>
            <a:ext cx="14194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http://www.supercoloring.com/wp-content/main/2009_10/Map-of-Brazil-coloring-page.jpg"/>
          <p:cNvPicPr/>
          <p:nvPr/>
        </p:nvPicPr>
        <p:blipFill>
          <a:blip r:embed="rId11"/>
          <a:stretch/>
        </p:blipFill>
        <p:spPr>
          <a:xfrm>
            <a:off x="6300720" y="1268280"/>
            <a:ext cx="2293920" cy="244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12"/>
          <a:stretch/>
        </p:blipFill>
        <p:spPr>
          <a:xfrm>
            <a:off x="6516720" y="2565360"/>
            <a:ext cx="592200" cy="88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13"/>
          <a:stretch/>
        </p:blipFill>
        <p:spPr>
          <a:xfrm>
            <a:off x="2195640" y="2924280"/>
            <a:ext cx="1800000" cy="1233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1"/>
          <p:cNvSpPr/>
          <p:nvPr/>
        </p:nvSpPr>
        <p:spPr>
          <a:xfrm>
            <a:off x="63360" y="-852480"/>
            <a:ext cx="255276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3" descr="http://2.bp.blogspot.com/-RgDJtGF4E8o/TdaQz7t6kcI/AAAAAAAABkI/T-lw7neYCNY/s1600/brazil%2Bflag%2Bcoloring%2Bpages.gif"/>
          <p:cNvPicPr/>
          <p:nvPr/>
        </p:nvPicPr>
        <p:blipFill>
          <a:blip r:embed="rId14"/>
          <a:stretch/>
        </p:blipFill>
        <p:spPr>
          <a:xfrm>
            <a:off x="4500720" y="4249800"/>
            <a:ext cx="169992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15"/>
          <a:stretch/>
        </p:blipFill>
        <p:spPr>
          <a:xfrm>
            <a:off x="468360" y="4653000"/>
            <a:ext cx="590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yphoon came. The five _____float away in the river. Mama and papa crow die. They go to heav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2781360"/>
            <a:ext cx="8218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CF46-0DAE-4C9D-A379-A0CE349DBE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5545080" cy="4287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84720" y="5589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eggs floating down the ri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re very special. Never forget us. We love yo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blanks with words from the sentences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You are very 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___________forget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e _____________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CD82-3944-48FE-B7BA-06A7817E81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ay, the five boys see each other. Their faces look the same. They know they were broth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7B5E-8BA5-4E90-9AF5-214D942D9F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811680" y="2481120"/>
            <a:ext cx="1552320" cy="2200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243160" y="2481120"/>
            <a:ext cx="1552680" cy="220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689040" y="2481120"/>
            <a:ext cx="1554120" cy="220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5275440" y="2637000"/>
            <a:ext cx="1554120" cy="219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5"/>
          <a:stretch/>
        </p:blipFill>
        <p:spPr>
          <a:xfrm>
            <a:off x="6829560" y="2637000"/>
            <a:ext cx="1554120" cy="2199960"/>
          </a:xfrm>
          <a:prstGeom prst="rect">
            <a:avLst/>
          </a:prstGeom>
          <a:ln w="0">
            <a:noFill/>
          </a:ln>
        </p:spPr>
      </p:pic>
      <p:sp>
        <p:nvSpPr>
          <p:cNvPr id="102" name="テキスト ボックス 4"/>
          <p:cNvSpPr/>
          <p:nvPr/>
        </p:nvSpPr>
        <p:spPr>
          <a:xfrm>
            <a:off x="2243160" y="537372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or the five brothers. Make a paper doll of five brothers holding hands. They are so happy to meet each oth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is our real mama and papa” brothers cry. They make 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thong . They float it in the riv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w a line between the words and the pict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76F-6660-47FA-B33C-CE634E26FF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00360" y="2449440"/>
            <a:ext cx="4176720" cy="3432240"/>
          </a:xfrm>
          <a:prstGeom prst="rect">
            <a:avLst/>
          </a:prstGeom>
          <a:ln w="0">
            <a:noFill/>
          </a:ln>
        </p:spPr>
      </p:pic>
      <p:sp>
        <p:nvSpPr>
          <p:cNvPr id="107" name="テキスト ボックス 4"/>
          <p:cNvSpPr/>
          <p:nvPr/>
        </p:nvSpPr>
        <p:spPr>
          <a:xfrm>
            <a:off x="7164360" y="28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d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5"/>
          <p:cNvSpPr/>
          <p:nvPr/>
        </p:nvSpPr>
        <p:spPr>
          <a:xfrm>
            <a:off x="82692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テキスト ボックス 6"/>
          <p:cNvSpPr/>
          <p:nvPr/>
        </p:nvSpPr>
        <p:spPr>
          <a:xfrm>
            <a:off x="7164360" y="5051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mboo lea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5:08:53Z</dcterms:created>
  <dc:creator>英文学専攻</dc:creator>
  <dc:description/>
  <dc:language>en-US</dc:language>
  <cp:lastModifiedBy>adminweb</cp:lastModifiedBy>
  <dcterms:modified xsi:type="dcterms:W3CDTF">2013-06-12T04:24:56Z</dcterms:modified>
  <cp:revision>1</cp:revision>
  <dc:subject/>
  <dc:title>Crows and eggs to color and paste</dc:title>
</cp:coreProperties>
</file>