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867900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8676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75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587920" y="-360"/>
            <a:ext cx="42768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3249360" y="504720"/>
            <a:ext cx="3367080" cy="25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3000" cy="30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397200"/>
            <a:ext cx="4275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587920" y="6397200"/>
            <a:ext cx="42768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F5F2-5650-496F-9793-03C51F24DD7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324972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300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スライド番号プレースホルダー 3"/>
          <p:cNvSpPr/>
          <p:nvPr/>
        </p:nvSpPr>
        <p:spPr>
          <a:xfrm>
            <a:off x="558792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B330-2CBF-471D-9315-2589B7345C1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A41C-2886-4EA7-A2DA-0AE0E99E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4E33-29A1-4616-B83E-F0975D53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3CEF-C85E-4B0A-9715-D4F3C09C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8389-B533-4823-AF51-7B80E2E3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4D1F-D532-4402-BA8F-C479B80F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24BB-9BF3-4D60-82E5-37513CB6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09E0-9E94-4DA3-BA12-60F5B8CA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0FE5-ED65-4741-9EA6-F9A9FD98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3BE5-A51A-4B62-B803-CDAC8865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DD05-AFCF-44AA-8464-8DB598CD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C507-A57C-43CD-A328-764F7DFA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8B22-37E2-44B8-8D26-2694B830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0C9C-53BC-41D4-9EEB-C32FB519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9FB5-328A-44E6-9439-E85BC990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F3EA-63EA-479A-BC0B-E257BE7D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11A9-FC5D-4A58-AC78-0C5913A9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9760-7CF3-45B5-B159-9B1BE066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A296-0C10-4F5D-A79E-45021752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CC9-B1AC-4733-ADFA-170571C6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A3EC-D35C-4461-B15F-94E5C0AB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86D-7ED4-44A9-8AED-3EC21E1B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15F5-10EF-4434-A3CE-8A4BC22F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55BB-4D09-4282-AB61-0FB2D802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C35-622F-461D-8418-721A24DF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8C4F-13E8-4054-88E6-98E484FF24B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FA88-35F1-4BD4-9DEA-6108951B09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monkey and the cra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2276280"/>
            <a:ext cx="6400800" cy="33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583272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s is the monkey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Draw the monkey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s is the crab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Draw the crab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_______had a delicious-looking rice-bal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685188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_______ wanted the rice-ball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1692360" y="1700280"/>
            <a:ext cx="5688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_______ ate the fruit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_______ got hur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4535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crab asked his  friends, the mortar, the chestnut, and the ______,for help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124000" y="2309760"/>
            <a:ext cx="53276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n the _______came home, they taught him a lesson. He said he was_____. He shared the persimmons, and they all became friend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2340000" y="2924280"/>
            <a:ext cx="31687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4:06:10Z</dcterms:created>
  <dc:creator>keieigakka</dc:creator>
  <dc:description/>
  <dc:language>en-US</dc:language>
  <cp:lastModifiedBy>adminweb</cp:lastModifiedBy>
  <cp:lastPrinted>2012-05-29T00:15:31Z</cp:lastPrinted>
  <dcterms:modified xsi:type="dcterms:W3CDTF">2013-06-12T04:26:41Z</dcterms:modified>
  <cp:revision>13</cp:revision>
  <dc:subject/>
  <dc:title>The monkey and the crab</dc:title>
</cp:coreProperties>
</file>